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85.xml.rels" ContentType="application/vnd.openxmlformats-package.relationships+xml"/>
  <Override PartName="/ppt/notesSlides/_rels/notesSlide23.xml.rels" ContentType="application/vnd.openxmlformats-package.relationships+xml"/>
  <Override PartName="/ppt/notesSlides/_rels/notesSlide9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92.xml.rels" ContentType="application/vnd.openxmlformats-package.relationships+xml"/>
  <Override PartName="/ppt/notesSlides/_rels/notesSlide37.xml.rels" ContentType="application/vnd.openxmlformats-package.relationships+xml"/>
  <Override PartName="/ppt/notesSlides/_rels/notesSlide62.xml.rels" ContentType="application/vnd.openxmlformats-package.relationships+xml"/>
  <Override PartName="/ppt/notesSlides/_rels/notesSlide82.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99.xml.rels" ContentType="application/vnd.openxmlformats-package.relationships+xml"/>
  <Override PartName="/ppt/notesSlides/_rels/notesSlide5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8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37.xml" ContentType="application/vnd.openxmlformats-officedocument.presentationml.notesSlide+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96.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62.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10.wmf" ContentType="image/x-wmf"/>
  <Override PartName="/ppt/media/image5.wmf" ContentType="image/x-wmf"/>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6504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33480" y="4408560"/>
            <a:ext cx="5130720" cy="4178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820000"/>
            <a:ext cx="303228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65040" y="8820000"/>
            <a:ext cx="303228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9A5D-D205-43BE-B9A1-3F8766A4B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625A-A0B0-4F60-A83F-D5C874CE5F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77920" y="696960"/>
            <a:ext cx="4641840" cy="3481200"/>
          </a:xfrm>
          <a:prstGeom prst="rect">
            <a:avLst/>
          </a:prstGeom>
          <a:ln w="0">
            <a:noFill/>
          </a:ln>
        </p:spPr>
      </p:sp>
      <p:sp>
        <p:nvSpPr>
          <p:cNvPr id="629" name="PlaceHolder 2"/>
          <p:cNvSpPr>
            <a:spLocks noGrp="1"/>
          </p:cNvSpPr>
          <p:nvPr>
            <p:ph type="body"/>
          </p:nvPr>
        </p:nvSpPr>
        <p:spPr>
          <a:xfrm>
            <a:off x="933480" y="4408560"/>
            <a:ext cx="5130720" cy="41781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to divide into groups of 3.  Reintroduce selves, reinforce LC Ru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Happy, rewarding, exciting , motivating, social, anti-social, compartmentalized,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acts: teachers socialize?  Dress code?  Relationships with parents; are they present in classrooms on a regular basis?  Does everyone have clarity of purpose?  Common understanding of their purpo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culture important?  Can you change culture?  Not according to Schein&g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rse and understa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ropose new val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intro new ways of doing th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rticulate new governing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f they adopt and it’s beneficial, then over time culture may chang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4796-E1EB-4C18-AAB1-88302E9AFB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77920" y="696960"/>
            <a:ext cx="4641840" cy="3481200"/>
          </a:xfrm>
          <a:prstGeom prst="rect">
            <a:avLst/>
          </a:prstGeom>
          <a:ln w="0">
            <a:noFill/>
          </a:ln>
        </p:spPr>
      </p:sp>
      <p:sp>
        <p:nvSpPr>
          <p:cNvPr id="632"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nions? Argumen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will v. harmony and team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y X, Y, Z? Lazy?  Watched?  Trusted? Not solely responsible? ( McGre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 heirarch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nce of Change, p340</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EB52-7A88-42F4-AD9E-09EEAACA72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77920" y="696960"/>
            <a:ext cx="4641840" cy="3481200"/>
          </a:xfrm>
          <a:prstGeom prst="rect">
            <a:avLst/>
          </a:prstGeom>
          <a:ln w="0">
            <a:noFill/>
          </a:ln>
        </p:spPr>
      </p:sp>
      <p:sp>
        <p:nvSpPr>
          <p:cNvPr id="635"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your schools organization for instruction tell you about espoused valu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8248-96E8-47F5-BC89-B1CA2A78C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77920" y="696960"/>
            <a:ext cx="4641840" cy="3481200"/>
          </a:xfrm>
          <a:prstGeom prst="rect">
            <a:avLst/>
          </a:prstGeom>
          <a:ln w="0">
            <a:noFill/>
          </a:ln>
        </p:spPr>
      </p:sp>
      <p:sp>
        <p:nvSpPr>
          <p:cNvPr id="638"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my position – trained to do our jobs- fail to connect to a greater purpose.  Tell NASA janitor stor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my – always an external agent of blam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Charge – pro-activity is the antidote to reactivity.  Spin further out of contro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on Events – React to event w/o seeing patter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g – How do you boil a frog?  Lesson: fear of sudden change causes immediate reaction; slow change lulls an org. to sleep and certain deat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usions: CORE Dilemma!  “we learn best from experience but we never directly experience the consequences of many of our most important decis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appearance only.  Competition drives most “tea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07F8-802F-4D8E-BE1E-BD3C354FA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77920" y="696960"/>
            <a:ext cx="4641840" cy="3481200"/>
          </a:xfrm>
          <a:prstGeom prst="rect">
            <a:avLst/>
          </a:prstGeom>
          <a:ln w="0">
            <a:noFill/>
          </a:ln>
        </p:spPr>
      </p:sp>
      <p:sp>
        <p:nvSpPr>
          <p:cNvPr id="641"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irin vs.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the personnel structures (policies, procedures, and practices) allow your district to “continually expand its’capacity and create its’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6 ways it does and 6 ways it does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0075-E634-499D-9EC8-2845447D96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77920" y="696960"/>
            <a:ext cx="4641840" cy="3481200"/>
          </a:xfrm>
          <a:prstGeom prst="rect">
            <a:avLst/>
          </a:prstGeom>
          <a:ln w="0">
            <a:noFill/>
          </a:ln>
        </p:spPr>
      </p:sp>
      <p:sp>
        <p:nvSpPr>
          <p:cNvPr id="644"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WF handou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A6F9-7A50-4F92-9B9A-4F92C5910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77920" y="696960"/>
            <a:ext cx="4641840" cy="3481200"/>
          </a:xfrm>
          <a:prstGeom prst="rect">
            <a:avLst/>
          </a:prstGeom>
          <a:ln w="0">
            <a:noFill/>
          </a:ln>
        </p:spPr>
      </p:sp>
      <p:sp>
        <p:nvSpPr>
          <p:cNvPr id="647"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 Orgs learn only thru individuals who learn.  Individual learning does not guarantee organizational learning.  Without, no org. learning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s – Einstein said “Our theories determine what we measure.”  The way we see the world influences every decision we make. We are prisoners of our own thinking.  Phrases like out of the box” were invented to move people out of the M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me an example of someone you know that exhibits high levels of personal mast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me an example of a shared vision you and at least one other person posses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B7B0-0073-4373-858D-60091B50D1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77920" y="696960"/>
            <a:ext cx="4641840" cy="3481200"/>
          </a:xfrm>
          <a:prstGeom prst="rect">
            <a:avLst/>
          </a:prstGeom>
          <a:ln w="0">
            <a:noFill/>
          </a:ln>
        </p:spPr>
      </p:sp>
      <p:sp>
        <p:nvSpPr>
          <p:cNvPr id="65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s – Einstein said “Our theories determine what we measure.”  The way we see the world influences every decision we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odels – give me examples where one’s mental models (a,b,a’s influences their actions (religion, politics, parenting, promiscuity, sexual behaviors, etc.)</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28C1-4EE7-4F04-B7BE-D1CC8F0DA4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77920" y="696960"/>
            <a:ext cx="4641840" cy="3481200"/>
          </a:xfrm>
          <a:prstGeom prst="rect">
            <a:avLst/>
          </a:prstGeom>
          <a:ln w="0">
            <a:noFill/>
          </a:ln>
        </p:spPr>
      </p:sp>
      <p:sp>
        <p:nvSpPr>
          <p:cNvPr id="653"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m Bones, Them Bones”;The leg bone is connected to the hip bone etc</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44E8-7DD7-4816-A598-164200B717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77920" y="696960"/>
            <a:ext cx="4641840" cy="3481200"/>
          </a:xfrm>
          <a:prstGeom prst="rect">
            <a:avLst/>
          </a:prstGeom>
          <a:ln w="0">
            <a:noFill/>
          </a:ln>
        </p:spPr>
      </p:sp>
      <p:sp>
        <p:nvSpPr>
          <p:cNvPr id="656"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 silently for 28 seconds and then share your vignette with a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urpris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3EE8-077C-40DF-AFF3-7FD38559AE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77920" y="696960"/>
            <a:ext cx="4641840" cy="3481200"/>
          </a:xfrm>
          <a:prstGeom prst="rect">
            <a:avLst/>
          </a:prstGeom>
          <a:ln w="0">
            <a:noFill/>
          </a:ln>
        </p:spPr>
      </p:sp>
      <p:sp>
        <p:nvSpPr>
          <p:cNvPr id="659"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what you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believe that you can never fully understand a man until you have walked a lifetime in his sho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227E-1663-4CC7-A076-42D65C9210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77920" y="696960"/>
            <a:ext cx="4641840" cy="3481200"/>
          </a:xfrm>
          <a:prstGeom prst="rect">
            <a:avLst/>
          </a:prstGeom>
          <a:ln w="0">
            <a:noFill/>
          </a:ln>
        </p:spPr>
      </p:sp>
      <p:sp>
        <p:nvSpPr>
          <p:cNvPr id="662"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this ever happened to you or did you communicate the right hand column when what you really mean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this occurs on a regular basis, how might you dig below the surface on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this knowledge assist you in your role as a district personnel administrator?</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8AA6-9A96-4CBD-BFB2-15509BE4DC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77920" y="696960"/>
            <a:ext cx="4641840" cy="3481200"/>
          </a:xfrm>
          <a:prstGeom prst="rect">
            <a:avLst/>
          </a:prstGeom>
          <a:ln w="0">
            <a:noFill/>
          </a:ln>
        </p:spPr>
      </p:sp>
      <p:sp>
        <p:nvSpPr>
          <p:cNvPr id="665"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 What has been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s – What forces are at play that contribute to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odels – What ABA’s support all of the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tool for assessing or creating “ideal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 situation or event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F389-69C7-4F4C-84B9-B2EC49A367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77920" y="696960"/>
            <a:ext cx="4641840" cy="3481200"/>
          </a:xfrm>
          <a:prstGeom prst="rect">
            <a:avLst/>
          </a:prstGeom>
          <a:ln w="0">
            <a:noFill/>
          </a:ln>
        </p:spPr>
      </p:sp>
      <p:sp>
        <p:nvSpPr>
          <p:cNvPr id="668"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 team environment in your school?  If yes, describe.  If not, what is missing?</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5265-58E8-4D59-81F7-9F88D86E86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77920" y="696960"/>
            <a:ext cx="4641840" cy="3481200"/>
          </a:xfrm>
          <a:prstGeom prst="rect">
            <a:avLst/>
          </a:prstGeom>
          <a:ln w="0">
            <a:noFill/>
          </a:ln>
        </p:spPr>
      </p:sp>
      <p:sp>
        <p:nvSpPr>
          <p:cNvPr id="671"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oove; In the zone; Totally in lov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089B-C67C-4455-A774-E372A4CE77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77920" y="696960"/>
            <a:ext cx="4641840" cy="3481200"/>
          </a:xfrm>
          <a:prstGeom prst="rect">
            <a:avLst/>
          </a:prstGeom>
          <a:ln w="0">
            <a:noFill/>
          </a:ln>
        </p:spPr>
      </p:sp>
      <p:sp>
        <p:nvSpPr>
          <p:cNvPr id="674"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dux (1988), Argyris (1994), Quick (1992), Senge (1990)</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0219-E9F4-4579-B82B-6683D0104E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77920" y="696960"/>
            <a:ext cx="4641840" cy="3481200"/>
          </a:xfrm>
          <a:prstGeom prst="rect">
            <a:avLst/>
          </a:prstGeom>
          <a:ln w="0">
            <a:noFill/>
          </a:ln>
        </p:spPr>
      </p:sp>
      <p:sp>
        <p:nvSpPr>
          <p:cNvPr id="677"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 What has been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s – What forces are at play that contribute to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odels – What ABA’s support all of the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tool for assessing or creating “ideal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 situation or event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C68E-6AB8-4213-82DA-461049F3AC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77920" y="696960"/>
            <a:ext cx="4641840" cy="3481200"/>
          </a:xfrm>
          <a:prstGeom prst="rect">
            <a:avLst/>
          </a:prstGeom>
          <a:ln w="0">
            <a:noFill/>
          </a:ln>
        </p:spPr>
      </p:sp>
      <p:sp>
        <p:nvSpPr>
          <p:cNvPr id="680"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translate in educationeeze?  Madelyn Hunter (anticipatory set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8C19-0D88-4EDD-8C87-2E2BBF5E3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77920" y="696960"/>
            <a:ext cx="4641840" cy="3481200"/>
          </a:xfrm>
          <a:prstGeom prst="rect">
            <a:avLst/>
          </a:prstGeom>
          <a:ln w="0">
            <a:noFill/>
          </a:ln>
        </p:spPr>
      </p:sp>
      <p:sp>
        <p:nvSpPr>
          <p:cNvPr id="683"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WF Operating Assumptions, Principles, and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Based on your school culture, right 6 OA’s, OP’s, and OR’s that define your school’s cultur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E8A7-7C51-40DB-8014-D823CEAA74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77920" y="696960"/>
            <a:ext cx="4641840" cy="3481200"/>
          </a:xfrm>
          <a:prstGeom prst="rect">
            <a:avLst/>
          </a:prstGeom>
          <a:ln w="0">
            <a:noFill/>
          </a:ln>
        </p:spPr>
      </p:sp>
      <p:sp>
        <p:nvSpPr>
          <p:cNvPr id="686"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question is reframed?  Shifts the thinking.  Mental models will still imprison our creativity. They still need to be exposed, recognized, accepted, and suspended.  Then vision planning can proceed.</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E4E4-F49B-4481-9538-19C18DC2EF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77920" y="696960"/>
            <a:ext cx="4641840" cy="3481200"/>
          </a:xfrm>
          <a:prstGeom prst="rect">
            <a:avLst/>
          </a:prstGeom>
          <a:ln w="0">
            <a:noFill/>
          </a:ln>
        </p:spPr>
      </p:sp>
      <p:sp>
        <p:nvSpPr>
          <p:cNvPr id="689"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flects the difference between successful change initiatives and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itiatives exist in your district that you see as having no value?  Why do they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at’s the way we have always don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on new teachers- adapt into old ways despite their new learning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D9B3-7EE9-4DC1-83E6-0F830A91C7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77920" y="696960"/>
            <a:ext cx="4641840" cy="3481200"/>
          </a:xfrm>
          <a:prstGeom prst="rect">
            <a:avLst/>
          </a:prstGeom>
          <a:ln w="0">
            <a:noFill/>
          </a:ln>
        </p:spPr>
      </p:sp>
      <p:sp>
        <p:nvSpPr>
          <p:cNvPr id="69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d = Listen without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07A4-C755-40B4-8EEF-115AD9FDBC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77920" y="696960"/>
            <a:ext cx="4641840" cy="3481200"/>
          </a:xfrm>
          <a:prstGeom prst="rect">
            <a:avLst/>
          </a:prstGeom>
          <a:ln w="0">
            <a:noFill/>
          </a:ln>
        </p:spPr>
      </p:sp>
      <p:sp>
        <p:nvSpPr>
          <p:cNvPr id="695"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ectic clarifies option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E0E9-87B7-43C3-9744-589A74FA7B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77920" y="696960"/>
            <a:ext cx="4641840" cy="3481200"/>
          </a:xfrm>
          <a:prstGeom prst="rect">
            <a:avLst/>
          </a:prstGeom>
          <a:ln w="0">
            <a:noFill/>
          </a:ln>
        </p:spPr>
      </p:sp>
      <p:sp>
        <p:nvSpPr>
          <p:cNvPr id="698"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  We may impac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aming: requires support.  Eliminate “politeness and cynic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n Listening: Listen with mind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encourages real dialogue and inqui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  If only by the leader at first;  The power of one person who has the power to make room for other perspectives or points of view opens the space for possibility and creativity.</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ADE7-5B45-4B1F-9CDA-71AA137DD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77920" y="696960"/>
            <a:ext cx="4641840" cy="3481200"/>
          </a:xfrm>
          <a:prstGeom prst="rect">
            <a:avLst/>
          </a:prstGeom>
          <a:ln w="0">
            <a:noFill/>
          </a:ln>
        </p:spPr>
      </p:sp>
      <p:sp>
        <p:nvSpPr>
          <p:cNvPr id="701"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a few moments to reflect on the day?  What did you notice or wonder about?  What were your most significant learning’s? What did you notice about the culture we’re creating?  How are you learning and how does it feel to yo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C5C0C0-4F34-47FF-815B-0C880F853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34AC6C-FAA4-4235-8F51-9955F028E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4F5059-7928-48B7-8F30-D47BB0F17F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0277C8-FD9A-41B2-8D91-A30B08377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128CC-FAFD-4289-98B6-BC0E5A734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C26A6-9551-493B-A9E6-823D8851E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F48CE-AAA9-413C-A938-BBD904D9D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23771-2881-480D-B416-8AD9D181D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CD837-A866-4A7E-A155-59F8CE0F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5486B-A8B3-4590-B7E0-3A8F97F04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FEB28-DE5A-41BD-BB86-8189E713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D0F40B-AF8F-4269-A1B4-C78DC2880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BE17C-DF11-4026-AD42-8B65C0D4C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BA22-FE50-4026-B257-4D7662293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80693-042A-4555-9FB3-2D5C768C8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F1ABA-38E1-4DC7-A5FE-C1B9F2F3A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CEDFD-F4E6-41FD-9B3F-6E450ECF9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D19AE4-4247-4C6D-B8B4-92BA3979B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8F8AC9-5634-4616-9483-C8767A421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AB7D6-2732-4279-9110-211863B23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6FEA88-9C19-4ECE-B745-E4F8C8F33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A599B-4DD2-4D3A-AFB8-CF7A2CE6B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3DD42-35C3-4D27-B60E-F13ACEA96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BE2C9-1AB8-4B11-A562-1E9514EC2D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06A8-18D2-4F72-B9FC-AFB5DF5FAE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3CC2-B6D7-4C0D-85F3-A82371A3B1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zmlinc@aol.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hyperlink" Target="http://www.bio.psu.edu/faculty/strauss/anatomy/skel/skeleton2.htm" TargetMode="External"/><Relationship Id="rId2" Type="http://schemas.openxmlformats.org/officeDocument/2006/relationships/hyperlink" Target="http://www.bio.psu.edu/faculty/strauss/anatomy/biology29.htm" TargetMode="External"/><Relationship Id="rId3" Type="http://schemas.openxmlformats.org/officeDocument/2006/relationships/hyperlink" Target="http://www.bio.psu.edu/faculty/strauss/anatomy/skel/skeletal.htm"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440" y="1980720"/>
            <a:ext cx="5715000" cy="18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duction to Leading</a:t>
            </a:r>
            <a:br>
              <a:rPr sz="4000"/>
            </a:br>
            <a:r>
              <a:rPr b="0" lang="en-US" sz="4000" spc="-1" strike="noStrike">
                <a:solidFill>
                  <a:srgbClr val="ffffff"/>
                </a:solidFill>
                <a:latin typeface="Arial"/>
              </a:rPr>
              <a:t>Learning</a:t>
            </a:r>
            <a:endParaRPr b="0" lang="en-US" sz="4000" spc="-1" strike="noStrike">
              <a:solidFill>
                <a:srgbClr val="000000"/>
              </a:solidFill>
              <a:latin typeface="Arial"/>
            </a:endParaRPr>
          </a:p>
        </p:txBody>
      </p:sp>
      <p:sp>
        <p:nvSpPr>
          <p:cNvPr id="114" name="PlaceHolder 2"/>
          <p:cNvSpPr>
            <a:spLocks noGrp="1"/>
          </p:cNvSpPr>
          <p:nvPr>
            <p:ph type="subTitle"/>
          </p:nvPr>
        </p:nvSpPr>
        <p:spPr>
          <a:xfrm>
            <a:off x="1904760" y="4343400"/>
            <a:ext cx="6019560" cy="175248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A 503: Curriculum     Development</a:t>
            </a:r>
            <a:endParaRPr b="0" lang="en-US" sz="3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ed By:Dr. Rich Hawkins &amp;</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 Deb DeLuca</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ed By:Laura Mastrogiovanni</a:t>
            </a:r>
            <a:endParaRPr b="0" lang="en-US" sz="1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666699"/>
                </a:solidFill>
                <a:uFillTx/>
                <a:latin typeface="Arial"/>
                <a:hlinkClick r:id="rId1"/>
              </a:rPr>
              <a:t>mzmlinc@aol.com</a:t>
            </a: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62120" y="1523880"/>
            <a:ext cx="7619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
            </a:r>
            <a:r>
              <a:rPr b="0" lang="en-US" sz="4400" spc="-1" strike="noStrike">
                <a:solidFill>
                  <a:srgbClr val="000000"/>
                </a:solidFill>
                <a:latin typeface="Tahoma"/>
              </a:rPr>
              <a:t>We are now at a point where we must educate our children in what no one knew yesterday, and prepare our schools for what no one knows yet.”</a:t>
            </a:r>
            <a:endParaRPr b="0" lang="en-US" sz="4400" spc="-1" strike="noStrike">
              <a:solidFill>
                <a:srgbClr val="000000"/>
              </a:solidFill>
              <a:latin typeface="Arial"/>
            </a:endParaRPr>
          </a:p>
        </p:txBody>
      </p:sp>
      <p:sp>
        <p:nvSpPr>
          <p:cNvPr id="133" name="Text Box 3"/>
          <p:cNvSpPr/>
          <p:nvPr/>
        </p:nvSpPr>
        <p:spPr>
          <a:xfrm>
            <a:off x="3352680" y="6095880"/>
            <a:ext cx="4267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ion anyone?</a:t>
            </a:r>
            <a:endParaRPr b="0" lang="en-US" sz="24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aret Mead said,</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304920" y="304920"/>
            <a:ext cx="86868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ersonal Reflections</a:t>
            </a:r>
            <a:br>
              <a:rPr sz="4400"/>
            </a:br>
            <a:endParaRPr b="0" lang="en-US" sz="4400" spc="-1" strike="noStrike">
              <a:solidFill>
                <a:srgbClr val="000000"/>
              </a:solidFill>
              <a:latin typeface="Arial"/>
            </a:endParaRPr>
          </a:p>
        </p:txBody>
      </p:sp>
      <p:sp>
        <p:nvSpPr>
          <p:cNvPr id="617" name="Rectangle 3"/>
          <p:cNvSpPr/>
          <p:nvPr/>
        </p:nvSpPr>
        <p:spPr>
          <a:xfrm>
            <a:off x="685800" y="1828800"/>
            <a:ext cx="830592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refusal have I been postponing that is preventing me from moving forward?</a:t>
            </a:r>
            <a:endParaRPr b="0" lang="en-US" sz="3200" spc="-1" strike="noStrike">
              <a:solidFill>
                <a:srgbClr val="000000"/>
              </a:solidFill>
              <a:latin typeface="Arial"/>
            </a:endParaRPr>
          </a:p>
          <a:p>
            <a:pPr marL="343080" indent="-343080">
              <a:lnSpc>
                <a:spcPct val="10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commitment am I willing to make to this cause/solution/etc.?</a:t>
            </a:r>
            <a:endParaRPr b="0" lang="en-US" sz="3200" spc="-1" strike="noStrike">
              <a:solidFill>
                <a:srgbClr val="000000"/>
              </a:solidFill>
              <a:latin typeface="Arial"/>
            </a:endParaRPr>
          </a:p>
          <a:p>
            <a:pPr marL="343080" indent="-343080">
              <a:lnSpc>
                <a:spcPct val="10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the price I’m willing to make for necessary changes to occur?</a:t>
            </a:r>
            <a:endParaRPr b="0" lang="en-US" sz="3200" spc="-1" strike="noStrike">
              <a:solidFill>
                <a:srgbClr val="000000"/>
              </a:solidFill>
              <a:latin typeface="Arial"/>
            </a:endParaRPr>
          </a:p>
          <a:p>
            <a:pPr marL="343080" indent="-343080">
              <a:lnSpc>
                <a:spcPct val="10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do I stand for?</a:t>
            </a:r>
            <a:endParaRPr b="0" lang="en-US" sz="3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380880"/>
            <a:ext cx="899172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ersonal Reflections </a:t>
            </a:r>
            <a:br>
              <a:rPr sz="4400"/>
            </a:br>
            <a:endParaRPr b="0" lang="en-US" sz="4400" spc="-1" strike="noStrike">
              <a:solidFill>
                <a:srgbClr val="000000"/>
              </a:solidFill>
              <a:latin typeface="Arial"/>
            </a:endParaRPr>
          </a:p>
        </p:txBody>
      </p:sp>
      <p:sp>
        <p:nvSpPr>
          <p:cNvPr id="619" name="Rectangle 3"/>
          <p:cNvSpPr/>
          <p:nvPr/>
        </p:nvSpPr>
        <p:spPr>
          <a:xfrm>
            <a:off x="609480" y="19810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my contribution to the problem I’m concerned with?</a:t>
            </a:r>
            <a:endParaRPr b="0" lang="en-US" sz="3200" spc="-1" strike="noStrike">
              <a:solidFill>
                <a:srgbClr val="000000"/>
              </a:solidFill>
              <a:latin typeface="Arial"/>
            </a:endParaRPr>
          </a:p>
          <a:p>
            <a:pPr marL="343080" indent="-343080">
              <a:lnSpc>
                <a:spcPct val="10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the crossroad I find myself at this point in my life/work? </a:t>
            </a:r>
            <a:endParaRPr b="0" lang="en-US" sz="3200" spc="-1" strike="noStrike">
              <a:solidFill>
                <a:srgbClr val="000000"/>
              </a:solidFill>
              <a:latin typeface="Arial"/>
            </a:endParaRPr>
          </a:p>
          <a:p>
            <a:pPr marL="343080" indent="-343080">
              <a:lnSpc>
                <a:spcPct val="10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opportunities does this situation create for me?</a:t>
            </a:r>
            <a:endParaRPr b="0" lang="en-US" sz="3200" spc="-1" strike="noStrike">
              <a:solidFill>
                <a:srgbClr val="000000"/>
              </a:solidFill>
              <a:latin typeface="Arial"/>
            </a:endParaRPr>
          </a:p>
          <a:p>
            <a:pPr marL="343080" indent="-343080">
              <a:lnSpc>
                <a:spcPct val="10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do I want to help create together with my colleagues?</a:t>
            </a: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380880"/>
            <a:ext cx="899172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ersonal Reflections</a:t>
            </a:r>
            <a:endParaRPr b="0" lang="en-US" sz="4400" spc="-1" strike="noStrike">
              <a:solidFill>
                <a:srgbClr val="000000"/>
              </a:solidFill>
              <a:latin typeface="Arial"/>
            </a:endParaRPr>
          </a:p>
        </p:txBody>
      </p:sp>
      <p:sp>
        <p:nvSpPr>
          <p:cNvPr id="621" name="Rectangle 3"/>
          <p:cNvSpPr/>
          <p:nvPr/>
        </p:nvSpPr>
        <p:spPr>
          <a:xfrm>
            <a:off x="609480" y="19810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do I really want to accomplish?</a:t>
            </a:r>
            <a:endParaRPr b="0" lang="en-US" sz="3200" spc="-1" strike="noStrike">
              <a:solidFill>
                <a:srgbClr val="000000"/>
              </a:solidFill>
              <a:latin typeface="Arial"/>
            </a:endParaRPr>
          </a:p>
          <a:p>
            <a:pPr marL="343080" indent="-343080">
              <a:lnSpc>
                <a:spcPct val="10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can I do to link my aspirations with the organization’s mission? </a:t>
            </a:r>
            <a:endParaRPr b="0" lang="en-US" sz="3200" spc="-1" strike="noStrike">
              <a:solidFill>
                <a:srgbClr val="000000"/>
              </a:solidFill>
              <a:latin typeface="Arial"/>
            </a:endParaRPr>
          </a:p>
          <a:p>
            <a:pPr marL="343080" indent="-343080">
              <a:lnSpc>
                <a:spcPct val="10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can I do to </a:t>
            </a:r>
            <a:r>
              <a:rPr b="1" i="1" lang="en-US" sz="3200" spc="-1" strike="noStrike">
                <a:solidFill>
                  <a:srgbClr val="000000"/>
                </a:solidFill>
                <a:latin typeface="Tahoma"/>
              </a:rPr>
              <a:t>be</a:t>
            </a:r>
            <a:r>
              <a:rPr b="1" lang="en-US" sz="3200" spc="-1" strike="noStrike">
                <a:solidFill>
                  <a:srgbClr val="000000"/>
                </a:solidFill>
                <a:latin typeface="Tahoma"/>
              </a:rPr>
              <a:t> the change I want to see?</a:t>
            </a:r>
            <a:endParaRPr b="0" lang="en-US" sz="3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Journey</a:t>
            </a:r>
            <a:endParaRPr b="0" lang="en-US" sz="5000" spc="-1" strike="noStrike">
              <a:solidFill>
                <a:srgbClr val="000000"/>
              </a:solidFill>
              <a:latin typeface="Arial"/>
            </a:endParaRPr>
          </a:p>
        </p:txBody>
      </p:sp>
      <p:sp>
        <p:nvSpPr>
          <p:cNvPr id="623"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ry Oliv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Journey </a:t>
            </a:r>
            <a:r>
              <a:rPr b="0" lang="en-US" sz="2800" spc="-1" strike="noStrike">
                <a:solidFill>
                  <a:srgbClr val="000000"/>
                </a:solidFill>
                <a:latin typeface="Arial"/>
              </a:rPr>
              <a:t>by Mary Oliver</a:t>
            </a:r>
            <a:endParaRPr b="0" lang="en-US" sz="2800" spc="-1" strike="noStrike">
              <a:solidFill>
                <a:srgbClr val="000000"/>
              </a:solidFill>
              <a:latin typeface="Arial"/>
            </a:endParaRPr>
          </a:p>
        </p:txBody>
      </p:sp>
      <p:sp>
        <p:nvSpPr>
          <p:cNvPr id="625" name="Text Box 3"/>
          <p:cNvSpPr/>
          <p:nvPr/>
        </p:nvSpPr>
        <p:spPr>
          <a:xfrm>
            <a:off x="609480" y="1066680"/>
            <a:ext cx="807732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day you finally knew what you had to do, and bega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ough the voices around you kept shouting their bad advi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ough the whole house began to tremble and you felt the tug at your ank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Mend my life!” each voice cr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ut you didn’t sto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knew what you had to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ough the wind pried with stiff fingers at the very foundation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ough their melancholy was terrible.</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685800" y="1150920"/>
            <a:ext cx="815328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 was already late enough, and a wild night, and the road full of fallen branches and ston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ut little by little, as you left their voices behind, the stars began to burn through the sheets of clou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re was a new voic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ch you slowly recognized as your ow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at kept you company as you strode deeper and deeper into the worl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termined to do the only thing you could do-determined to save the only life you could sav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533520" y="457200"/>
            <a:ext cx="853416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ules for a Learning Conversation</a:t>
            </a:r>
            <a:endParaRPr b="0" lang="en-US" sz="3200" spc="-1" strike="noStrike">
              <a:solidFill>
                <a:srgbClr val="000000"/>
              </a:solidFill>
              <a:latin typeface="Arial"/>
            </a:endParaRPr>
          </a:p>
        </p:txBody>
      </p:sp>
      <p:sp>
        <p:nvSpPr>
          <p:cNvPr id="136" name="Rectangle 3"/>
          <p:cNvSpPr/>
          <p:nvPr/>
        </p:nvSpPr>
        <p:spPr>
          <a:xfrm>
            <a:off x="457200" y="1523880"/>
            <a:ext cx="8534520" cy="49532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peak from the Heart</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Listen carefully to yourself and oth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Be aware of your own Mental Mod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 space for different opinion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uspend certainty (a mind, like a parachute, only works while open). Stay in inquiry; limit advocacy</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LOW DOWN the inquiry.  Sometimes you need to go slow to go fast</a:t>
            </a:r>
            <a:endParaRPr b="0" lang="en-US" sz="2800" spc="-1" strike="noStrike">
              <a:solidFill>
                <a:srgbClr val="000000"/>
              </a:solidFill>
              <a:latin typeface="Arial"/>
            </a:endParaRPr>
          </a:p>
        </p:txBody>
      </p:sp>
      <p:sp>
        <p:nvSpPr>
          <p:cNvPr id="137" name="AutoShape 4"/>
          <p:cNvSpPr/>
          <p:nvPr/>
        </p:nvSpPr>
        <p:spPr>
          <a:xfrm>
            <a:off x="533520" y="3124080"/>
            <a:ext cx="457200" cy="838440"/>
          </a:xfrm>
          <a:custGeom>
            <a:avLst/>
            <a:gdLst>
              <a:gd name="textAreaLeft" fmla="*/ 292320 w 457200"/>
              <a:gd name="textAreaRight" fmla="*/ 457560 w 4572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8509"/>
                </a:lnTo>
                <a:cubicBezTo>
                  <a:pt x="10800" y="9409"/>
                  <a:pt x="5400" y="10309"/>
                  <a:pt x="0" y="10309"/>
                </a:cubicBezTo>
                <a:cubicBezTo>
                  <a:pt x="5400" y="10309"/>
                  <a:pt x="10800" y="11209"/>
                  <a:pt x="10800" y="12109"/>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dditional Rules &amp; Tool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u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would like to build on tha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e “and/both” for “either/or</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m wond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is and what it’s no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o i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ult Learning The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ul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 i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 ou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you?</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wor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the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school currently do wel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instructional/social domains does your school require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xpectations</a:t>
            </a:r>
            <a:endParaRPr b="0" lang="en-US" sz="5000" spc="-1" strike="noStrike">
              <a:solidFill>
                <a:srgbClr val="000000"/>
              </a:solidFill>
              <a:latin typeface="Arial"/>
            </a:endParaRPr>
          </a:p>
        </p:txBody>
      </p:sp>
      <p:sp>
        <p:nvSpPr>
          <p:cNvPr id="145"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8720" y="536400"/>
            <a:ext cx="751536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ations</a:t>
            </a:r>
            <a:endParaRPr b="0" lang="en-US" sz="4400" spc="-1" strike="noStrike">
              <a:solidFill>
                <a:srgbClr val="000000"/>
              </a:solidFill>
              <a:latin typeface="Arial"/>
            </a:endParaRPr>
          </a:p>
        </p:txBody>
      </p:sp>
      <p:sp>
        <p:nvSpPr>
          <p:cNvPr id="147" name="PlaceHolder 2"/>
          <p:cNvSpPr>
            <a:spLocks noGrp="1"/>
          </p:cNvSpPr>
          <p:nvPr>
            <p:ph/>
          </p:nvPr>
        </p:nvSpPr>
        <p:spPr>
          <a:xfrm>
            <a:off x="685800" y="1523880"/>
            <a:ext cx="7772400" cy="4648320"/>
          </a:xfrm>
          <a:prstGeom prst="rect">
            <a:avLst/>
          </a:prstGeom>
          <a:noFill/>
          <a:ln w="0">
            <a:noFill/>
          </a:ln>
        </p:spPr>
        <p:txBody>
          <a:bodyPr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ourse Outline</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Student Obligations</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all ways and at all tim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for each da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fully</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Instructor Obligations</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all ways and at all tim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for each da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ll questions to the best of my 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Format</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follow and model the following protocols:</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on</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Individual and Group)</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Collective Wisdom)</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a:t>
            </a:r>
            <a:endParaRPr b="0" lang="en-US" sz="4400" spc="-1" strike="noStrike">
              <a:solidFill>
                <a:srgbClr val="000000"/>
              </a:solidFill>
              <a:latin typeface="Arial"/>
            </a:endParaRPr>
          </a:p>
        </p:txBody>
      </p:sp>
      <p:sp>
        <p:nvSpPr>
          <p:cNvPr id="151" name="PlaceHolder 2"/>
          <p:cNvSpPr>
            <a:spLocks noGrp="1"/>
          </p:cNvSpPr>
          <p:nvPr>
            <p:ph/>
          </p:nvPr>
        </p:nvSpPr>
        <p:spPr>
          <a:xfrm>
            <a:off x="685440" y="1523880"/>
            <a:ext cx="7924680" cy="4724640"/>
          </a:xfrm>
          <a:prstGeom prst="rect">
            <a:avLst/>
          </a:prstGeom>
          <a:noFill/>
          <a:ln w="0">
            <a:noFill/>
          </a:ln>
        </p:spPr>
        <p:txBody>
          <a:bodyPr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gin thinking like a learning leader</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principles and practices of effective leadership of teaching and learning</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through Inquir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ant Leadership</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with Vision</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or deepen your understanding of the conceptual and practical application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a:t>
            </a:r>
            <a:endParaRPr b="0" lang="en-US" sz="4400" spc="-1" strike="noStrike">
              <a:solidFill>
                <a:srgbClr val="000000"/>
              </a:solidFill>
              <a:latin typeface="Arial"/>
            </a:endParaRPr>
          </a:p>
        </p:txBody>
      </p:sp>
      <p:sp>
        <p:nvSpPr>
          <p:cNvPr id="153" name="PlaceHolder 2"/>
          <p:cNvSpPr>
            <a:spLocks noGrp="1"/>
          </p:cNvSpPr>
          <p:nvPr>
            <p:ph/>
          </p:nvPr>
        </p:nvSpPr>
        <p:spPr>
          <a:xfrm>
            <a:off x="609120" y="1447560"/>
            <a:ext cx="8001000" cy="48006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your understanding of the Five Disciplines of a Learning Organization (Senge, 1990)</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disciplines and how they affect curricular chang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or deepen your understanding of the conceptual and practical applications of Curriculum Development and its’ application to Teaching &amp;Learning</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tinent Dat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Te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Te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8320" y="1981080"/>
            <a:ext cx="4038480" cy="45720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me Addr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ddr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Discipline Taugh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spi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your capacity to use the skills imbedded in the change process for the betterment of teaching and learning in your organiz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or deepen your knowledge and capacity to engage in skillful discussions and dialogue as applied to teaching, learning, and curriculum</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me feedback throughout the week on  content, format, and delivery</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5960" y="45684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cribe the culture of your present organization</a:t>
            </a:r>
            <a:endParaRPr b="0" lang="en-US" sz="3100" spc="-1" strike="noStrike">
              <a:solidFill>
                <a:srgbClr val="000000"/>
              </a:solidFill>
              <a:latin typeface="Arial"/>
            </a:endParaRPr>
          </a:p>
        </p:txBody>
      </p:sp>
      <p:sp>
        <p:nvSpPr>
          <p:cNvPr id="159" name="PlaceHolder 2"/>
          <p:cNvSpPr>
            <a:spLocks noGrp="1"/>
          </p:cNvSpPr>
          <p:nvPr>
            <p:ph/>
          </p:nvPr>
        </p:nvSpPr>
        <p:spPr>
          <a:xfrm>
            <a:off x="380520" y="1523520"/>
            <a:ext cx="8534520" cy="49532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organization’s genetic cod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pects stay constant amid the flux of people, info, and work?  What values, ways of acting, or habitual beliefs reinforce your identity as “u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belong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eople truly belong?  Do they know they belong?  Have they chosen to belong?</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nts to happen in your organization? Is it a desirable future?  Is there a “shared vision” among all stakeholder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4"/>
          <p:cNvSpPr/>
          <p:nvPr/>
        </p:nvSpPr>
        <p:spPr>
          <a:xfrm>
            <a:off x="5943240" y="6613560"/>
            <a:ext cx="300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59">
                                            <p:txEl>
                                              <p:pRg st="1" end="1"/>
                                            </p:txEl>
                                          </p:spTgt>
                                        </p:tgtEl>
                                        <p:attrNameLst>
                                          <p:attrName>style.visibility</p:attrName>
                                        </p:attrNameLst>
                                      </p:cBhvr>
                                      <p:to>
                                        <p:strVal val="visible"/>
                                      </p:to>
                                    </p:set>
                                    <p:anim calcmode="lin" valueType="num">
                                      <p:cBhvr additive="base">
                                        <p:cTn id="17"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9">
                                            <p:txEl>
                                              <p:pRg st="2" end="2"/>
                                            </p:txEl>
                                          </p:spTgt>
                                        </p:tgtEl>
                                        <p:attrNameLst>
                                          <p:attrName>style.visibility</p:attrName>
                                        </p:attrNameLst>
                                      </p:cBhvr>
                                      <p:to>
                                        <p:strVal val="visible"/>
                                      </p:to>
                                    </p:set>
                                    <p:anim calcmode="lin" valueType="num">
                                      <p:cBhvr additive="base">
                                        <p:cTn id="23"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59">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anim calcmode="lin" valueType="num">
                                      <p:cBhvr additive="base">
                                        <p:cTn id="27"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9">
                                            <p:txEl>
                                              <p:pRg st="4" end="4"/>
                                            </p:txEl>
                                          </p:spTgt>
                                        </p:tgtEl>
                                        <p:attrNameLst>
                                          <p:attrName>style.visibility</p:attrName>
                                        </p:attrNameLst>
                                      </p:cBhvr>
                                      <p:to>
                                        <p:strVal val="visible"/>
                                      </p:to>
                                    </p:set>
                                    <p:anim calcmode="lin" valueType="num">
                                      <p:cBhvr additive="base">
                                        <p:cTn id="33"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9">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59">
                                            <p:txEl>
                                              <p:pRg st="5" end="5"/>
                                            </p:txEl>
                                          </p:spTgt>
                                        </p:tgtEl>
                                        <p:attrNameLst>
                                          <p:attrName>style.visibility</p:attrName>
                                        </p:attrNameLst>
                                      </p:cBhvr>
                                      <p:to>
                                        <p:strVal val="visible"/>
                                      </p:to>
                                    </p:set>
                                    <p:anim calcmode="lin" valueType="num">
                                      <p:cBhvr additive="base">
                                        <p:cTn id="37"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0"/>
                                        </p:tgtEl>
                                        <p:attrNameLst>
                                          <p:attrName>style.visibility</p:attrName>
                                        </p:attrNameLst>
                                      </p:cBhvr>
                                      <p:to>
                                        <p:strVal val="visible"/>
                                      </p:to>
                                    </p:set>
                                    <p:anim calcmode="lin" valueType="num">
                                      <p:cBhvr additive="base">
                                        <p:cTn id="43" dur="500" fill="hold"/>
                                        <p:tgtEl>
                                          <p:spTgt spid="160"/>
                                        </p:tgtEl>
                                        <p:attrNameLst>
                                          <p:attrName>ppt_x</p:attrName>
                                        </p:attrNameLst>
                                      </p:cBhvr>
                                      <p:tavLst>
                                        <p:tav tm="0">
                                          <p:val>
                                            <p:strVal val="0-#ppt_w/2"/>
                                          </p:val>
                                        </p:tav>
                                        <p:tav tm="100000">
                                          <p:val>
                                            <p:strVal val="#ppt_x"/>
                                          </p:val>
                                        </p:tav>
                                      </p:tavLst>
                                    </p:anim>
                                    <p:anim calcmode="lin" valueType="num">
                                      <p:cBhvr additive="base">
                                        <p:cTn id="4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owing the path to espoused vs. actual culture</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your culture define tru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culture believe about human cap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culture believe about human na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culture believe about social organization?</a:t>
            </a:r>
            <a:endParaRPr b="0" lang="en-US" sz="3200" spc="-1" strike="noStrike">
              <a:solidFill>
                <a:srgbClr val="000000"/>
              </a:solidFill>
              <a:latin typeface="Arial"/>
            </a:endParaRPr>
          </a:p>
        </p:txBody>
      </p:sp>
      <p:sp>
        <p:nvSpPr>
          <p:cNvPr id="163" name="Text Box 1028"/>
          <p:cNvSpPr/>
          <p:nvPr/>
        </p:nvSpPr>
        <p:spPr>
          <a:xfrm>
            <a:off x="5562720" y="6392880"/>
            <a:ext cx="32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Setting the Stage for Understanding Organizational Culture</a:t>
            </a:r>
            <a:endParaRPr b="0" lang="en-US" sz="3600" spc="-1" strike="noStrike">
              <a:solidFill>
                <a:srgbClr val="000000"/>
              </a:solidFill>
              <a:latin typeface="Arial"/>
            </a:endParaRPr>
          </a:p>
        </p:txBody>
      </p:sp>
      <p:sp>
        <p:nvSpPr>
          <p:cNvPr id="165" name="PlaceHolder 2"/>
          <p:cNvSpPr>
            <a:spLocks noGrp="1"/>
          </p:cNvSpPr>
          <p:nvPr>
            <p:ph/>
          </p:nvPr>
        </p:nvSpPr>
        <p:spPr>
          <a:xfrm>
            <a:off x="685800" y="1676160"/>
            <a:ext cx="7772400" cy="4647960"/>
          </a:xfrm>
          <a:prstGeom prst="rect">
            <a:avLst/>
          </a:prstGeom>
          <a:noFill/>
          <a:ln w="0">
            <a:noFill/>
          </a:ln>
        </p:spPr>
        <p:txBody>
          <a:bodyPr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owing Down The Cultural Diagnosis</a:t>
            </a:r>
            <a:endParaRPr b="0" lang="en-US" sz="32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Intervention: Initiating Cultural Change</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ults and new ways of working do we want to create?</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ultural characteristics are most likely to hinder the change? Which will be helpfu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aba’s of all constituents shift?  What would their concept of place in an organization shift?</a:t>
            </a:r>
            <a:endParaRPr b="0" lang="en-US" sz="2800" spc="-1" strike="noStrike">
              <a:solidFill>
                <a:srgbClr val="000000"/>
              </a:solidFill>
              <a:latin typeface="Arial"/>
            </a:endParaRPr>
          </a:p>
          <a:p>
            <a:pPr marL="3326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2052"/>
          <p:cNvSpPr/>
          <p:nvPr/>
        </p:nvSpPr>
        <p:spPr>
          <a:xfrm>
            <a:off x="6140160" y="6400800"/>
            <a:ext cx="300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etting the Stage for Understanding Organizational Culture in the Context of Curriculum</a:t>
            </a:r>
            <a:endParaRPr b="0" lang="en-US" sz="28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urpose of a curriculum?</a:t>
            </a:r>
            <a:endParaRPr b="0" lang="en-US" sz="32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curriculum used to guide instruction?</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oused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in Use</a:t>
            </a:r>
            <a:endParaRPr b="0" lang="en-US" sz="28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Assumptions</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urriculum rigorous, relevant and guaranteed for all?</a:t>
            </a:r>
            <a:endParaRPr b="0" lang="en-US" sz="28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s</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tale Signs That Your School Has a “Learning Disability”</a:t>
            </a:r>
            <a:endParaRPr b="0" lang="en-US" sz="4400" spc="-1" strike="noStrike">
              <a:solidFill>
                <a:srgbClr val="000000"/>
              </a:solidFill>
              <a:latin typeface="Arial"/>
            </a:endParaRPr>
          </a:p>
        </p:txBody>
      </p:sp>
      <p:sp>
        <p:nvSpPr>
          <p:cNvPr id="170" name="PlaceHolder 2"/>
          <p:cNvSpPr>
            <a:spLocks noGrp="1"/>
          </p:cNvSpPr>
          <p:nvPr>
            <p:ph/>
          </p:nvPr>
        </p:nvSpPr>
        <p:spPr>
          <a:xfrm>
            <a:off x="838080" y="2057040"/>
            <a:ext cx="7772400" cy="44197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am my posi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emy is out ther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illusion of taking charg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fixation on even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arable of the Boiled Fro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elusion of Learning from Experienc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yth of the Management Team</a:t>
            </a:r>
            <a:endParaRPr b="0" lang="en-US" sz="3200" spc="-1" strike="noStrike">
              <a:solidFill>
                <a:srgbClr val="000000"/>
              </a:solidFill>
              <a:latin typeface="Arial"/>
            </a:endParaRPr>
          </a:p>
        </p:txBody>
      </p:sp>
      <p:sp>
        <p:nvSpPr>
          <p:cNvPr id="171" name="Rectangle 1028"/>
          <p:cNvSpPr/>
          <p:nvPr/>
        </p:nvSpPr>
        <p:spPr>
          <a:xfrm>
            <a:off x="5638320" y="6324480"/>
            <a:ext cx="300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schools that learn"/>
          <p:cNvPicPr/>
          <p:nvPr/>
        </p:nvPicPr>
        <p:blipFill>
          <a:blip r:embed="rId1"/>
          <a:stretch/>
        </p:blipFill>
        <p:spPr>
          <a:xfrm>
            <a:off x="2009880" y="609480"/>
            <a:ext cx="4848120" cy="5943600"/>
          </a:xfrm>
          <a:prstGeom prst="rect">
            <a:avLst/>
          </a:prstGeom>
          <a:ln w="0">
            <a:noFill/>
          </a:ln>
        </p:spPr>
      </p:pic>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55640" y="615600"/>
            <a:ext cx="751536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Learning Organization?</a:t>
            </a:r>
            <a:endParaRPr b="0" lang="en-US" sz="4400" spc="-1" strike="noStrike">
              <a:solidFill>
                <a:srgbClr val="000000"/>
              </a:solidFill>
              <a:latin typeface="Arial"/>
            </a:endParaRPr>
          </a:p>
        </p:txBody>
      </p:sp>
      <p:sp>
        <p:nvSpPr>
          <p:cNvPr id="175" name="PlaceHolder 2"/>
          <p:cNvSpPr>
            <a:spLocks noGrp="1"/>
          </p:cNvSpPr>
          <p:nvPr>
            <p:ph/>
          </p:nvPr>
        </p:nvSpPr>
        <p:spPr>
          <a:xfrm>
            <a:off x="457200" y="23619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organization that is </a:t>
            </a:r>
            <a:r>
              <a:rPr b="0" i="1" lang="en-US" sz="2800" spc="-1" strike="noStrike" u="sng">
                <a:solidFill>
                  <a:srgbClr val="000000"/>
                </a:solidFill>
                <a:uFillTx/>
                <a:latin typeface="Arial"/>
              </a:rPr>
              <a:t>continually expanding its’ capacity to create its’ desired future</a:t>
            </a:r>
            <a:r>
              <a:rPr b="0" lang="en-US" sz="2800" spc="-1" strike="noStrike">
                <a:solidFill>
                  <a:srgbClr val="000000"/>
                </a:solidFill>
                <a:latin typeface="Arial"/>
              </a:rPr>
              <a:t>.  For such an organization, it is not enough to merely survive. ‘Survival learning’ or what is more often termed “adaptive learning” is important – indeed it is necessary.  But for a learning organization, ‘adaptive learning’ must be joined by ‘generative learning,’ learning that enhances our capacity to create”.</a:t>
            </a:r>
            <a:endParaRPr b="0" lang="en-US" sz="2800" spc="-1" strike="noStrike">
              <a:solidFill>
                <a:srgbClr val="000000"/>
              </a:solidFill>
              <a:latin typeface="Arial"/>
            </a:endParaRPr>
          </a:p>
        </p:txBody>
      </p:sp>
      <p:sp>
        <p:nvSpPr>
          <p:cNvPr id="176" name="Text Box 4"/>
          <p:cNvSpPr/>
          <p:nvPr/>
        </p:nvSpPr>
        <p:spPr>
          <a:xfrm>
            <a:off x="228600" y="64771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ge (1990), p.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val 4"/>
          <p:cNvSpPr/>
          <p:nvPr/>
        </p:nvSpPr>
        <p:spPr>
          <a:xfrm>
            <a:off x="2895480" y="2057400"/>
            <a:ext cx="3048120" cy="35053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
          <p:cNvSpPr/>
          <p:nvPr/>
        </p:nvSpPr>
        <p:spPr>
          <a:xfrm>
            <a:off x="3505320" y="3274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of Enduring Change</a:t>
            </a:r>
            <a:endParaRPr b="0" lang="en-US" sz="1800" spc="-1" strike="noStrike">
              <a:solidFill>
                <a:srgbClr val="000000"/>
              </a:solidFill>
              <a:latin typeface="Arial"/>
            </a:endParaRPr>
          </a:p>
        </p:txBody>
      </p:sp>
      <p:sp>
        <p:nvSpPr>
          <p:cNvPr id="179" name="Text Box 6"/>
          <p:cNvSpPr/>
          <p:nvPr/>
        </p:nvSpPr>
        <p:spPr>
          <a:xfrm>
            <a:off x="3048120" y="1219320"/>
            <a:ext cx="259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eness and Sensitivity</a:t>
            </a:r>
            <a:endParaRPr b="0" lang="en-US" sz="1800" spc="-1" strike="noStrike">
              <a:solidFill>
                <a:srgbClr val="000000"/>
              </a:solidFill>
              <a:latin typeface="Arial"/>
            </a:endParaRPr>
          </a:p>
        </p:txBody>
      </p:sp>
      <p:sp>
        <p:nvSpPr>
          <p:cNvPr id="180" name="Text Box 7"/>
          <p:cNvSpPr/>
          <p:nvPr/>
        </p:nvSpPr>
        <p:spPr>
          <a:xfrm>
            <a:off x="5791320" y="49528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 Beliefs, and Assumptions (ABA’s)</a:t>
            </a:r>
            <a:endParaRPr b="0" lang="en-US" sz="1800" spc="-1" strike="noStrike">
              <a:solidFill>
                <a:srgbClr val="000000"/>
              </a:solidFill>
              <a:latin typeface="Arial"/>
            </a:endParaRPr>
          </a:p>
        </p:txBody>
      </p:sp>
      <p:sp>
        <p:nvSpPr>
          <p:cNvPr id="181" name="Text Box 8"/>
          <p:cNvSpPr/>
          <p:nvPr/>
        </p:nvSpPr>
        <p:spPr>
          <a:xfrm>
            <a:off x="990720" y="495288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Practical Knowledge (PPK)</a:t>
            </a:r>
            <a:endParaRPr b="0" lang="en-US" sz="1800" spc="-1" strike="noStrike">
              <a:solidFill>
                <a:srgbClr val="000000"/>
              </a:solidFill>
              <a:latin typeface="Arial"/>
            </a:endParaRPr>
          </a:p>
        </p:txBody>
      </p:sp>
      <p:sp>
        <p:nvSpPr>
          <p:cNvPr id="182" name="Text Box 9"/>
          <p:cNvSpPr/>
          <p:nvPr/>
        </p:nvSpPr>
        <p:spPr>
          <a:xfrm>
            <a:off x="457200" y="609588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s All About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457200"/>
            <a:ext cx="7515360" cy="8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19" name="PlaceHolder 2"/>
          <p:cNvSpPr>
            <a:spLocks noGrp="1"/>
          </p:cNvSpPr>
          <p:nvPr>
            <p:ph/>
          </p:nvPr>
        </p:nvSpPr>
        <p:spPr>
          <a:xfrm>
            <a:off x="380520" y="1523520"/>
            <a:ext cx="8458200" cy="495324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eaders are visionaries with a poorly developed sense of fear and no concept of the odds against them.” – Robert Jarvik</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do not have time to read, you do not have time to lead.” – Phil Schlech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aders are plentiful; thinkers are rare.” –Harriet Marineau</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ople don’t leave companies, they leave leaders.” – Richard Leider</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8720" y="380880"/>
            <a:ext cx="751536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earning Organization</a:t>
            </a:r>
            <a:endParaRPr b="0" lang="en-US" sz="4000" spc="-1" strike="noStrike">
              <a:solidFill>
                <a:srgbClr val="000000"/>
              </a:solidFill>
              <a:latin typeface="Arial"/>
            </a:endParaRPr>
          </a:p>
        </p:txBody>
      </p:sp>
      <p:sp>
        <p:nvSpPr>
          <p:cNvPr id="184" name="AutoShape 5"/>
          <p:cNvSpPr/>
          <p:nvPr/>
        </p:nvSpPr>
        <p:spPr>
          <a:xfrm>
            <a:off x="2286000" y="2057400"/>
            <a:ext cx="4267080" cy="3962520"/>
          </a:xfrm>
          <a:prstGeom prst="triangle">
            <a:avLst>
              <a:gd name="adj" fmla="val 50000"/>
            </a:avLst>
          </a:prstGeom>
          <a:solidFill>
            <a:srgbClr val="ff0000"/>
          </a:solidFill>
          <a:ln w="9360">
            <a:solidFill>
              <a:srgbClr val="000000"/>
            </a:solidFill>
            <a:miter/>
          </a:ln>
          <a:effectLst>
            <a:outerShdw dist="107932" dir="18900000" blurRad="0" rotWithShape="0">
              <a:srgbClr val="00007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7"/>
          <p:cNvSpPr/>
          <p:nvPr/>
        </p:nvSpPr>
        <p:spPr>
          <a:xfrm>
            <a:off x="2743200" y="11430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uiding Ideas</a:t>
            </a:r>
            <a:endParaRPr b="0" lang="en-US" sz="2400" spc="-1" strike="noStrike">
              <a:solidFill>
                <a:srgbClr val="000000"/>
              </a:solidFill>
              <a:latin typeface="Arial"/>
            </a:endParaRPr>
          </a:p>
        </p:txBody>
      </p:sp>
      <p:sp>
        <p:nvSpPr>
          <p:cNvPr id="186" name="Text Box 8"/>
          <p:cNvSpPr/>
          <p:nvPr/>
        </p:nvSpPr>
        <p:spPr>
          <a:xfrm>
            <a:off x="6553080" y="57150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ories, Methods and Tools</a:t>
            </a:r>
            <a:endParaRPr b="0" lang="en-US" sz="2400" spc="-1" strike="noStrike">
              <a:solidFill>
                <a:srgbClr val="000000"/>
              </a:solidFill>
              <a:latin typeface="Arial"/>
            </a:endParaRPr>
          </a:p>
        </p:txBody>
      </p:sp>
      <p:sp>
        <p:nvSpPr>
          <p:cNvPr id="187" name="Text Box 9"/>
          <p:cNvSpPr/>
          <p:nvPr/>
        </p:nvSpPr>
        <p:spPr>
          <a:xfrm>
            <a:off x="304920" y="57150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novations in Infrastructure</a:t>
            </a:r>
            <a:endParaRPr b="0" lang="en-US" sz="2400" spc="-1" strike="noStrike">
              <a:solidFill>
                <a:srgbClr val="000000"/>
              </a:solidFill>
              <a:latin typeface="Arial"/>
            </a:endParaRPr>
          </a:p>
        </p:txBody>
      </p:sp>
      <p:sp>
        <p:nvSpPr>
          <p:cNvPr id="188" name="Text Box 10"/>
          <p:cNvSpPr/>
          <p:nvPr/>
        </p:nvSpPr>
        <p:spPr>
          <a:xfrm>
            <a:off x="2971800" y="4267080"/>
            <a:ext cx="29718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ganizational Structur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mains of Action)</a:t>
            </a:r>
            <a:endParaRPr b="0" lang="en-US" sz="2400" spc="-1" strike="noStrike">
              <a:solidFill>
                <a:srgbClr val="000000"/>
              </a:solidFill>
              <a:latin typeface="Arial"/>
            </a:endParaRPr>
          </a:p>
        </p:txBody>
      </p:sp>
      <p:sp>
        <p:nvSpPr>
          <p:cNvPr id="189" name="Text Box 12"/>
          <p:cNvSpPr/>
          <p:nvPr/>
        </p:nvSpPr>
        <p:spPr>
          <a:xfrm>
            <a:off x="3505320" y="16765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 for Strategic Leadership</a:t>
            </a:r>
            <a:endParaRPr b="0" lang="en-US" sz="3200" spc="-1" strike="noStrike">
              <a:solidFill>
                <a:srgbClr val="000000"/>
              </a:solidFill>
              <a:latin typeface="Arial"/>
            </a:endParaRPr>
          </a:p>
        </p:txBody>
      </p:sp>
      <p:sp>
        <p:nvSpPr>
          <p:cNvPr id="191"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7"/>
          <p:cNvSpPr/>
          <p:nvPr/>
        </p:nvSpPr>
        <p:spPr>
          <a:xfrm>
            <a:off x="4876920" y="2606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ep Learning Cycle</a:t>
            </a:r>
            <a:endParaRPr b="0" lang="en-US" sz="2400" spc="-1" strike="noStrike">
              <a:solidFill>
                <a:srgbClr val="000000"/>
              </a:solidFill>
              <a:latin typeface="Arial"/>
            </a:endParaRPr>
          </a:p>
        </p:txBody>
      </p:sp>
      <p:sp>
        <p:nvSpPr>
          <p:cNvPr id="196" name="Text Box 8"/>
          <p:cNvSpPr/>
          <p:nvPr/>
        </p:nvSpPr>
        <p:spPr>
          <a:xfrm>
            <a:off x="1371600" y="449568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a15"/>
                </a:solidFill>
                <a:latin typeface="Tahoma"/>
              </a:rPr>
              <a:t>Domain of Strategic Architecture</a:t>
            </a:r>
            <a:endParaRPr b="0" lang="en-US" sz="2400" spc="-1" strike="noStrike">
              <a:solidFill>
                <a:srgbClr val="000000"/>
              </a:solidFill>
              <a:latin typeface="Arial"/>
            </a:endParaRPr>
          </a:p>
        </p:txBody>
      </p:sp>
      <p:sp>
        <p:nvSpPr>
          <p:cNvPr id="197"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198"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199"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00" name="Text Box 12"/>
          <p:cNvSpPr/>
          <p:nvPr/>
        </p:nvSpPr>
        <p:spPr>
          <a:xfrm>
            <a:off x="392760" y="312408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ing Ideas</a:t>
            </a:r>
            <a:endParaRPr b="0" lang="en-US" sz="2000" spc="-1" strike="noStrike">
              <a:solidFill>
                <a:srgbClr val="000000"/>
              </a:solidFill>
              <a:latin typeface="Arial"/>
            </a:endParaRPr>
          </a:p>
        </p:txBody>
      </p:sp>
      <p:sp>
        <p:nvSpPr>
          <p:cNvPr id="201" name="Text Box 13"/>
          <p:cNvSpPr/>
          <p:nvPr/>
        </p:nvSpPr>
        <p:spPr>
          <a:xfrm>
            <a:off x="76320" y="60958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vations in Infrastructures</a:t>
            </a:r>
            <a:endParaRPr b="0" lang="en-US" sz="2000" spc="-1" strike="noStrike">
              <a:solidFill>
                <a:srgbClr val="000000"/>
              </a:solidFill>
              <a:latin typeface="Arial"/>
            </a:endParaRPr>
          </a:p>
        </p:txBody>
      </p:sp>
      <p:sp>
        <p:nvSpPr>
          <p:cNvPr id="202" name="Text Box 14"/>
          <p:cNvSpPr/>
          <p:nvPr/>
        </p:nvSpPr>
        <p:spPr>
          <a:xfrm>
            <a:off x="3352680" y="61722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T, M, &amp; Tools</a:t>
            </a:r>
            <a:endParaRPr b="0" lang="en-US" sz="2000" spc="-1" strike="noStrike">
              <a:solidFill>
                <a:srgbClr val="000000"/>
              </a:solidFill>
              <a:latin typeface="Arial"/>
            </a:endParaRPr>
          </a:p>
        </p:txBody>
      </p:sp>
      <p:sp>
        <p:nvSpPr>
          <p:cNvPr id="203" name="Text Box 15"/>
          <p:cNvSpPr/>
          <p:nvPr/>
        </p:nvSpPr>
        <p:spPr>
          <a:xfrm>
            <a:off x="457200" y="35053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a:t>
            </a:r>
            <a:endParaRPr b="0" lang="en-US" sz="1800" spc="-1" strike="noStrike">
              <a:solidFill>
                <a:srgbClr val="000000"/>
              </a:solidFill>
              <a:latin typeface="Arial"/>
            </a:endParaRPr>
          </a:p>
        </p:txBody>
      </p:sp>
      <p:sp>
        <p:nvSpPr>
          <p:cNvPr id="204"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05"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
        <p:nvSpPr>
          <p:cNvPr id="206" name="Text Box 18"/>
          <p:cNvSpPr/>
          <p:nvPr/>
        </p:nvSpPr>
        <p:spPr>
          <a:xfrm>
            <a:off x="3733920" y="4038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 for Curriculum Leadership</a:t>
            </a:r>
            <a:endParaRPr b="0" lang="en-US" sz="3200" spc="-1" strike="noStrike">
              <a:solidFill>
                <a:srgbClr val="000000"/>
              </a:solidFill>
              <a:latin typeface="Arial"/>
            </a:endParaRPr>
          </a:p>
        </p:txBody>
      </p:sp>
      <p:sp>
        <p:nvSpPr>
          <p:cNvPr id="208"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7"/>
          <p:cNvSpPr/>
          <p:nvPr/>
        </p:nvSpPr>
        <p:spPr>
          <a:xfrm>
            <a:off x="4876920" y="26067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s Happening Now?</a:t>
            </a:r>
            <a:endParaRPr b="0" lang="en-US" sz="2400" spc="-1" strike="noStrike">
              <a:solidFill>
                <a:srgbClr val="000000"/>
              </a:solidFill>
              <a:latin typeface="Arial"/>
            </a:endParaRPr>
          </a:p>
        </p:txBody>
      </p:sp>
      <p:sp>
        <p:nvSpPr>
          <p:cNvPr id="213" name="Text Box 8"/>
          <p:cNvSpPr/>
          <p:nvPr/>
        </p:nvSpPr>
        <p:spPr>
          <a:xfrm>
            <a:off x="1447920" y="449568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Desired Future?</a:t>
            </a:r>
            <a:endParaRPr b="0" lang="en-US" sz="2400" spc="-1" strike="noStrike">
              <a:solidFill>
                <a:srgbClr val="000000"/>
              </a:solidFill>
              <a:latin typeface="Arial"/>
            </a:endParaRPr>
          </a:p>
        </p:txBody>
      </p:sp>
      <p:sp>
        <p:nvSpPr>
          <p:cNvPr id="214"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215"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216"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17" name="Text Box 12"/>
          <p:cNvSpPr/>
          <p:nvPr/>
        </p:nvSpPr>
        <p:spPr>
          <a:xfrm>
            <a:off x="392760" y="312408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ing Ideas</a:t>
            </a:r>
            <a:endParaRPr b="0" lang="en-US" sz="2000" spc="-1" strike="noStrike">
              <a:solidFill>
                <a:srgbClr val="000000"/>
              </a:solidFill>
              <a:latin typeface="Arial"/>
            </a:endParaRPr>
          </a:p>
        </p:txBody>
      </p:sp>
      <p:sp>
        <p:nvSpPr>
          <p:cNvPr id="218" name="Text Box 13"/>
          <p:cNvSpPr/>
          <p:nvPr/>
        </p:nvSpPr>
        <p:spPr>
          <a:xfrm>
            <a:off x="76320" y="60958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vations in Infrastructures</a:t>
            </a:r>
            <a:endParaRPr b="0" lang="en-US" sz="2000" spc="-1" strike="noStrike">
              <a:solidFill>
                <a:srgbClr val="000000"/>
              </a:solidFill>
              <a:latin typeface="Arial"/>
            </a:endParaRPr>
          </a:p>
        </p:txBody>
      </p:sp>
      <p:sp>
        <p:nvSpPr>
          <p:cNvPr id="219" name="Text Box 14"/>
          <p:cNvSpPr/>
          <p:nvPr/>
        </p:nvSpPr>
        <p:spPr>
          <a:xfrm>
            <a:off x="3352680" y="61722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T, M, &amp; Tools</a:t>
            </a:r>
            <a:endParaRPr b="0" lang="en-US" sz="2000" spc="-1" strike="noStrike">
              <a:solidFill>
                <a:srgbClr val="000000"/>
              </a:solidFill>
              <a:latin typeface="Arial"/>
            </a:endParaRPr>
          </a:p>
        </p:txBody>
      </p:sp>
      <p:sp>
        <p:nvSpPr>
          <p:cNvPr id="220" name="Text Box 15"/>
          <p:cNvSpPr/>
          <p:nvPr/>
        </p:nvSpPr>
        <p:spPr>
          <a:xfrm>
            <a:off x="457200" y="35053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a:t>
            </a:r>
            <a:endParaRPr b="0" lang="en-US" sz="1800" spc="-1" strike="noStrike">
              <a:solidFill>
                <a:srgbClr val="000000"/>
              </a:solidFill>
              <a:latin typeface="Arial"/>
            </a:endParaRPr>
          </a:p>
        </p:txBody>
      </p:sp>
      <p:sp>
        <p:nvSpPr>
          <p:cNvPr id="221"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22"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chievement: Current Reality</a:t>
            </a:r>
            <a:endParaRPr b="0" lang="en-US" sz="3200" spc="-1" strike="noStrike">
              <a:solidFill>
                <a:srgbClr val="000000"/>
              </a:solidFill>
              <a:latin typeface="Arial"/>
            </a:endParaRPr>
          </a:p>
        </p:txBody>
      </p:sp>
      <p:sp>
        <p:nvSpPr>
          <p:cNvPr id="224"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7"/>
          <p:cNvSpPr/>
          <p:nvPr/>
        </p:nvSpPr>
        <p:spPr>
          <a:xfrm>
            <a:off x="4876920" y="26067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s Happening Now?</a:t>
            </a:r>
            <a:endParaRPr b="0" lang="en-US" sz="2400" spc="-1" strike="noStrike">
              <a:solidFill>
                <a:srgbClr val="000000"/>
              </a:solidFill>
              <a:latin typeface="Arial"/>
            </a:endParaRPr>
          </a:p>
        </p:txBody>
      </p:sp>
      <p:sp>
        <p:nvSpPr>
          <p:cNvPr id="229" name="Text Box 8"/>
          <p:cNvSpPr/>
          <p:nvPr/>
        </p:nvSpPr>
        <p:spPr>
          <a:xfrm>
            <a:off x="1447920" y="4495680"/>
            <a:ext cx="2209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Curren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lity</a:t>
            </a:r>
            <a:endParaRPr b="0" lang="en-US" sz="2400" spc="-1" strike="noStrike">
              <a:solidFill>
                <a:srgbClr val="000000"/>
              </a:solidFill>
              <a:latin typeface="Arial"/>
            </a:endParaRPr>
          </a:p>
        </p:txBody>
      </p:sp>
      <p:sp>
        <p:nvSpPr>
          <p:cNvPr id="230"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231"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232"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33" name="Text Box 12"/>
          <p:cNvSpPr/>
          <p:nvPr/>
        </p:nvSpPr>
        <p:spPr>
          <a:xfrm>
            <a:off x="116280" y="3124080"/>
            <a:ext cx="468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children are NOT capable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igh levels of Student Achievement</a:t>
            </a:r>
            <a:endParaRPr b="0" lang="en-US" sz="2000" spc="-1" strike="noStrike">
              <a:solidFill>
                <a:srgbClr val="000000"/>
              </a:solidFill>
              <a:latin typeface="Arial"/>
            </a:endParaRPr>
          </a:p>
        </p:txBody>
      </p:sp>
      <p:sp>
        <p:nvSpPr>
          <p:cNvPr id="234" name="Text Box 13"/>
          <p:cNvSpPr/>
          <p:nvPr/>
        </p:nvSpPr>
        <p:spPr>
          <a:xfrm>
            <a:off x="76320" y="55627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 Prep, SpecED, No Alignment, Segregation, No differentiation, Free Agency, </a:t>
            </a:r>
            <a:endParaRPr b="0" lang="en-US" sz="2000" spc="-1" strike="noStrike">
              <a:solidFill>
                <a:srgbClr val="000000"/>
              </a:solidFill>
              <a:latin typeface="Arial"/>
            </a:endParaRPr>
          </a:p>
        </p:txBody>
      </p:sp>
      <p:sp>
        <p:nvSpPr>
          <p:cNvPr id="235" name="Text Box 14"/>
          <p:cNvSpPr/>
          <p:nvPr/>
        </p:nvSpPr>
        <p:spPr>
          <a:xfrm>
            <a:off x="4038480" y="5562720"/>
            <a:ext cx="32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Little or no aligned PD. Poor supervision, High Stakes Tests, RTTT</a:t>
            </a:r>
            <a:endParaRPr b="0" lang="en-US" sz="2000" spc="-1" strike="noStrike">
              <a:solidFill>
                <a:srgbClr val="000000"/>
              </a:solidFill>
              <a:latin typeface="Arial"/>
            </a:endParaRPr>
          </a:p>
        </p:txBody>
      </p:sp>
      <p:sp>
        <p:nvSpPr>
          <p:cNvPr id="236" name="Text Box 15"/>
          <p:cNvSpPr/>
          <p:nvPr/>
        </p:nvSpPr>
        <p:spPr>
          <a:xfrm>
            <a:off x="380880" y="3849840"/>
            <a:ext cx="335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 60% Proficiency</a:t>
            </a:r>
            <a:endParaRPr b="0" lang="en-US" sz="1800" spc="-1" strike="noStrike">
              <a:solidFill>
                <a:srgbClr val="000000"/>
              </a:solidFill>
              <a:latin typeface="Arial"/>
            </a:endParaRPr>
          </a:p>
        </p:txBody>
      </p:sp>
      <p:sp>
        <p:nvSpPr>
          <p:cNvPr id="237"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38"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chievement: Desired Future</a:t>
            </a:r>
            <a:endParaRPr b="0" lang="en-US" sz="3200" spc="-1" strike="noStrike">
              <a:solidFill>
                <a:srgbClr val="000000"/>
              </a:solidFill>
              <a:latin typeface="Arial"/>
            </a:endParaRPr>
          </a:p>
        </p:txBody>
      </p:sp>
      <p:sp>
        <p:nvSpPr>
          <p:cNvPr id="240"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7"/>
          <p:cNvSpPr/>
          <p:nvPr/>
        </p:nvSpPr>
        <p:spPr>
          <a:xfrm>
            <a:off x="4876920" y="26067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s Happening Now?</a:t>
            </a:r>
            <a:endParaRPr b="0" lang="en-US" sz="2400" spc="-1" strike="noStrike">
              <a:solidFill>
                <a:srgbClr val="000000"/>
              </a:solidFill>
              <a:latin typeface="Arial"/>
            </a:endParaRPr>
          </a:p>
        </p:txBody>
      </p:sp>
      <p:sp>
        <p:nvSpPr>
          <p:cNvPr id="245" name="Text Box 8"/>
          <p:cNvSpPr/>
          <p:nvPr/>
        </p:nvSpPr>
        <p:spPr>
          <a:xfrm>
            <a:off x="1447920" y="4495680"/>
            <a:ext cx="2209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Curren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lity</a:t>
            </a:r>
            <a:endParaRPr b="0" lang="en-US" sz="2400" spc="-1" strike="noStrike">
              <a:solidFill>
                <a:srgbClr val="000000"/>
              </a:solidFill>
              <a:latin typeface="Arial"/>
            </a:endParaRPr>
          </a:p>
        </p:txBody>
      </p:sp>
      <p:sp>
        <p:nvSpPr>
          <p:cNvPr id="246"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247"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248"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49" name="Text Box 12"/>
          <p:cNvSpPr/>
          <p:nvPr/>
        </p:nvSpPr>
        <p:spPr>
          <a:xfrm>
            <a:off x="116280" y="3124080"/>
            <a:ext cx="468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children ARE capable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igh levels of Student Achievement</a:t>
            </a:r>
            <a:endParaRPr b="0" lang="en-US" sz="2000" spc="-1" strike="noStrike">
              <a:solidFill>
                <a:srgbClr val="000000"/>
              </a:solidFill>
              <a:latin typeface="Arial"/>
            </a:endParaRPr>
          </a:p>
        </p:txBody>
      </p:sp>
      <p:sp>
        <p:nvSpPr>
          <p:cNvPr id="250" name="Text Box 13"/>
          <p:cNvSpPr/>
          <p:nvPr/>
        </p:nvSpPr>
        <p:spPr>
          <a:xfrm>
            <a:off x="76320" y="55627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rong “first” teaching, world-class curriculum, Learning communities,  Differentiation, </a:t>
            </a:r>
            <a:endParaRPr b="0" lang="en-US" sz="2000" spc="-1" strike="noStrike">
              <a:solidFill>
                <a:srgbClr val="000000"/>
              </a:solidFill>
              <a:latin typeface="Arial"/>
            </a:endParaRPr>
          </a:p>
        </p:txBody>
      </p:sp>
      <p:sp>
        <p:nvSpPr>
          <p:cNvPr id="251" name="Text Box 14"/>
          <p:cNvSpPr/>
          <p:nvPr/>
        </p:nvSpPr>
        <p:spPr>
          <a:xfrm>
            <a:off x="4038480" y="5562720"/>
            <a:ext cx="50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Aligned Curriculum, Instruction and Teaching,  Aligned supervision, Formative &amp; Summative Assessments</a:t>
            </a:r>
            <a:endParaRPr b="0" lang="en-US" sz="2000" spc="-1" strike="noStrike">
              <a:solidFill>
                <a:srgbClr val="000000"/>
              </a:solidFill>
              <a:latin typeface="Arial"/>
            </a:endParaRPr>
          </a:p>
        </p:txBody>
      </p:sp>
      <p:sp>
        <p:nvSpPr>
          <p:cNvPr id="252" name="Text Box 15"/>
          <p:cNvSpPr/>
          <p:nvPr/>
        </p:nvSpPr>
        <p:spPr>
          <a:xfrm>
            <a:off x="380880" y="3849840"/>
            <a:ext cx="335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 Mastery for/in All</a:t>
            </a:r>
            <a:endParaRPr b="0" lang="en-US" sz="1800" spc="-1" strike="noStrike">
              <a:solidFill>
                <a:srgbClr val="000000"/>
              </a:solidFill>
              <a:latin typeface="Arial"/>
            </a:endParaRPr>
          </a:p>
        </p:txBody>
      </p:sp>
      <p:sp>
        <p:nvSpPr>
          <p:cNvPr id="253"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54"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ffffff"/>
                </a:solidFill>
                <a:latin typeface="Arial"/>
              </a:rPr>
              <a:t>Disciplines</a:t>
            </a:r>
            <a:r>
              <a:rPr b="0" lang="en-US" sz="5000" spc="-1" strike="noStrike">
                <a:solidFill>
                  <a:srgbClr val="ffffff"/>
                </a:solidFill>
                <a:latin typeface="Arial"/>
              </a:rPr>
              <a:t> of a Learning Community</a:t>
            </a:r>
            <a:endParaRPr b="0" lang="en-US" sz="5000" spc="-1" strike="noStrike">
              <a:solidFill>
                <a:srgbClr val="000000"/>
              </a:solidFill>
              <a:latin typeface="Arial"/>
            </a:endParaRPr>
          </a:p>
        </p:txBody>
      </p:sp>
      <p:sp>
        <p:nvSpPr>
          <p:cNvPr id="25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 Short-cu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a:rPr>
              <a:t>Caution!!!!</a:t>
            </a:r>
            <a:endParaRPr b="0" lang="en-US" sz="5400" spc="-1" strike="noStrike">
              <a:solidFill>
                <a:srgbClr val="000000"/>
              </a:solidFill>
              <a:latin typeface="Arial"/>
            </a:endParaRPr>
          </a:p>
        </p:txBody>
      </p:sp>
      <p:sp>
        <p:nvSpPr>
          <p:cNvPr id="258" name="PlaceHolder 2"/>
          <p:cNvSpPr>
            <a:spLocks noGrp="1"/>
          </p:cNvSpPr>
          <p:nvPr>
            <p:ph/>
          </p:nvPr>
        </p:nvSpPr>
        <p:spPr>
          <a:xfrm>
            <a:off x="974880" y="2249280"/>
            <a:ext cx="7488000" cy="3614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ve disciplines are inextricably linked and interdepend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Each</a:t>
            </a:r>
            <a:r>
              <a:rPr b="0" lang="en-US" sz="3200" spc="-1" strike="noStrike">
                <a:solidFill>
                  <a:srgbClr val="000000"/>
                </a:solidFill>
                <a:latin typeface="Arial"/>
              </a:rPr>
              <a:t> discipline can aid every organization, </a:t>
            </a:r>
            <a:r>
              <a:rPr b="1" i="1" lang="en-US" sz="3200" spc="-1" strike="noStrike">
                <a:solidFill>
                  <a:srgbClr val="ff0000"/>
                </a:solidFill>
                <a:latin typeface="Arial"/>
              </a:rPr>
              <a:t>however</a:t>
            </a:r>
            <a:r>
              <a:rPr b="0" lang="en-US" sz="3200" spc="-1" strike="noStrike">
                <a:solidFill>
                  <a:srgbClr val="000000"/>
                </a:solidFill>
                <a:latin typeface="Arial"/>
              </a:rPr>
              <a:t>, </a:t>
            </a:r>
            <a:r>
              <a:rPr b="0" i="1" lang="en-US" sz="3200" spc="-1" strike="noStrike">
                <a:solidFill>
                  <a:srgbClr val="000000"/>
                </a:solidFill>
                <a:latin typeface="Arial"/>
              </a:rPr>
              <a:t>all disciplines</a:t>
            </a:r>
            <a:r>
              <a:rPr b="0" lang="en-US" sz="3200" spc="-1" strike="noStrike">
                <a:solidFill>
                  <a:srgbClr val="000000"/>
                </a:solidFill>
                <a:latin typeface="Arial"/>
              </a:rPr>
              <a:t> must to be practiced </a:t>
            </a:r>
            <a:r>
              <a:rPr b="0" i="1" lang="en-US" sz="3200" spc="-1" strike="noStrike">
                <a:solidFill>
                  <a:srgbClr val="000000"/>
                </a:solidFill>
                <a:latin typeface="Arial"/>
              </a:rPr>
              <a:t>simultaneously</a:t>
            </a:r>
            <a:r>
              <a:rPr b="0" lang="en-US" sz="3200" spc="-1" strike="noStrike">
                <a:solidFill>
                  <a:srgbClr val="000000"/>
                </a:solidFill>
                <a:latin typeface="Arial"/>
              </a:rPr>
              <a:t> to </a:t>
            </a:r>
            <a:r>
              <a:rPr b="1" i="1" lang="en-US" sz="3200" spc="-1" strike="noStrike">
                <a:solidFill>
                  <a:srgbClr val="000000"/>
                </a:solidFill>
                <a:latin typeface="Arial"/>
              </a:rPr>
              <a:t>maximize </a:t>
            </a:r>
            <a:r>
              <a:rPr b="0" lang="en-US" sz="3200" spc="-1" strike="noStrike">
                <a:solidFill>
                  <a:srgbClr val="000000"/>
                </a:solidFill>
                <a:latin typeface="Arial"/>
              </a:rPr>
              <a:t>organizational effectiveness and efficacy.</a:t>
            </a:r>
            <a:endParaRPr b="0" lang="en-US" sz="3200" spc="-1" strike="noStrike">
              <a:solidFill>
                <a:srgbClr val="000000"/>
              </a:solidFill>
              <a:latin typeface="Arial"/>
            </a:endParaRPr>
          </a:p>
        </p:txBody>
      </p:sp>
      <p:sp>
        <p:nvSpPr>
          <p:cNvPr id="259" name="AutoShape 4"/>
          <p:cNvSpPr/>
          <p:nvPr/>
        </p:nvSpPr>
        <p:spPr>
          <a:xfrm>
            <a:off x="5943600" y="609480"/>
            <a:ext cx="838080" cy="83844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5867280" y="762120"/>
            <a:ext cx="106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1143000" y="457200"/>
            <a:ext cx="6705720" cy="1447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Disciplines of a Learning Organization</a:t>
            </a:r>
            <a:endParaRPr b="0" lang="en-US" sz="4400" spc="-1" strike="noStrike">
              <a:solidFill>
                <a:srgbClr val="000000"/>
              </a:solidFill>
              <a:latin typeface="Arial"/>
            </a:endParaRPr>
          </a:p>
        </p:txBody>
      </p:sp>
      <p:sp>
        <p:nvSpPr>
          <p:cNvPr id="263"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onal Mastery</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al Models</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m Learning</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ed Vision</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ystems Think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29"/>
          <p:cNvSpPr/>
          <p:nvPr/>
        </p:nvSpPr>
        <p:spPr>
          <a:xfrm rot="950400">
            <a:off x="2057040" y="3124080"/>
            <a:ext cx="762120" cy="289584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32"/>
          <p:cNvSpPr/>
          <p:nvPr/>
        </p:nvSpPr>
        <p:spPr>
          <a:xfrm>
            <a:off x="4343400" y="3429000"/>
            <a:ext cx="762120" cy="25146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Legged Stool</a:t>
            </a:r>
            <a:endParaRPr b="0" lang="en-US" sz="4400" spc="-1" strike="noStrike">
              <a:solidFill>
                <a:srgbClr val="000000"/>
              </a:solidFill>
              <a:latin typeface="Arial"/>
            </a:endParaRPr>
          </a:p>
        </p:txBody>
      </p:sp>
      <p:sp>
        <p:nvSpPr>
          <p:cNvPr id="267" name="Rectangle 1030"/>
          <p:cNvSpPr/>
          <p:nvPr/>
        </p:nvSpPr>
        <p:spPr>
          <a:xfrm rot="21037200">
            <a:off x="6553080" y="3276360"/>
            <a:ext cx="762120" cy="28954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027"/>
          <p:cNvSpPr/>
          <p:nvPr/>
        </p:nvSpPr>
        <p:spPr>
          <a:xfrm>
            <a:off x="2209680" y="2438280"/>
            <a:ext cx="5334120" cy="99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33"/>
          <p:cNvSpPr/>
          <p:nvPr/>
        </p:nvSpPr>
        <p:spPr>
          <a:xfrm>
            <a:off x="2209680" y="373392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M</a:t>
            </a:r>
            <a:endParaRPr b="0" lang="en-US" sz="3200" spc="-1" strike="noStrike">
              <a:solidFill>
                <a:srgbClr val="000000"/>
              </a:solidFill>
              <a:latin typeface="Arial"/>
            </a:endParaRPr>
          </a:p>
        </p:txBody>
      </p:sp>
      <p:sp>
        <p:nvSpPr>
          <p:cNvPr id="270" name="Text Box 1034"/>
          <p:cNvSpPr/>
          <p:nvPr/>
        </p:nvSpPr>
        <p:spPr>
          <a:xfrm>
            <a:off x="6629400" y="48006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L</a:t>
            </a:r>
            <a:endParaRPr b="0" lang="en-US" sz="3200" spc="-1" strike="noStrike">
              <a:solidFill>
                <a:srgbClr val="000000"/>
              </a:solidFill>
              <a:latin typeface="Arial"/>
            </a:endParaRPr>
          </a:p>
        </p:txBody>
      </p:sp>
      <p:sp>
        <p:nvSpPr>
          <p:cNvPr id="271" name="Text Box 1035"/>
          <p:cNvSpPr/>
          <p:nvPr/>
        </p:nvSpPr>
        <p:spPr>
          <a:xfrm>
            <a:off x="19051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V</a:t>
            </a:r>
            <a:endParaRPr b="0" lang="en-US" sz="3200" spc="-1" strike="noStrike">
              <a:solidFill>
                <a:srgbClr val="000000"/>
              </a:solidFill>
              <a:latin typeface="Arial"/>
            </a:endParaRPr>
          </a:p>
        </p:txBody>
      </p:sp>
      <p:sp>
        <p:nvSpPr>
          <p:cNvPr id="272" name="Text Box 1036"/>
          <p:cNvSpPr/>
          <p:nvPr/>
        </p:nvSpPr>
        <p:spPr>
          <a:xfrm>
            <a:off x="4419720" y="41148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
            </a:r>
            <a:endParaRPr b="0" lang="en-US" sz="3200" spc="-1" strike="noStrike">
              <a:solidFill>
                <a:srgbClr val="000000"/>
              </a:solidFill>
              <a:latin typeface="Arial"/>
            </a:endParaRPr>
          </a:p>
        </p:txBody>
      </p:sp>
      <p:sp>
        <p:nvSpPr>
          <p:cNvPr id="273" name="Text Box 1037"/>
          <p:cNvSpPr/>
          <p:nvPr/>
        </p:nvSpPr>
        <p:spPr>
          <a:xfrm>
            <a:off x="6400800" y="38098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M</a:t>
            </a:r>
            <a:endParaRPr b="0" lang="en-US" sz="3200" spc="-1" strike="noStrike">
              <a:solidFill>
                <a:srgbClr val="000000"/>
              </a:solidFill>
              <a:latin typeface="Arial"/>
            </a:endParaRPr>
          </a:p>
        </p:txBody>
      </p:sp>
      <p:sp>
        <p:nvSpPr>
          <p:cNvPr id="274" name="Text Box 1040"/>
          <p:cNvSpPr/>
          <p:nvPr/>
        </p:nvSpPr>
        <p:spPr>
          <a:xfrm>
            <a:off x="1219320" y="62485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iration</a:t>
            </a:r>
            <a:endParaRPr b="0" lang="en-US" sz="2000" spc="-1" strike="noStrike">
              <a:solidFill>
                <a:srgbClr val="000000"/>
              </a:solidFill>
              <a:latin typeface="Arial"/>
            </a:endParaRPr>
          </a:p>
        </p:txBody>
      </p:sp>
      <p:sp>
        <p:nvSpPr>
          <p:cNvPr id="275" name="Text Box 1042"/>
          <p:cNvSpPr/>
          <p:nvPr/>
        </p:nvSpPr>
        <p:spPr>
          <a:xfrm>
            <a:off x="32004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Complexity</a:t>
            </a:r>
            <a:endParaRPr b="0" lang="en-US" sz="2000" spc="-1" strike="noStrike">
              <a:solidFill>
                <a:srgbClr val="000000"/>
              </a:solidFill>
              <a:latin typeface="Arial"/>
            </a:endParaRPr>
          </a:p>
        </p:txBody>
      </p:sp>
      <p:sp>
        <p:nvSpPr>
          <p:cNvPr id="276" name="Text Box 1043"/>
          <p:cNvSpPr/>
          <p:nvPr/>
        </p:nvSpPr>
        <p:spPr>
          <a:xfrm>
            <a:off x="7010280" y="62485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a:t>
            </a:r>
            <a:endParaRPr b="0" lang="en-US" sz="2000" spc="-1" strike="noStrike">
              <a:solidFill>
                <a:srgbClr val="000000"/>
              </a:solidFill>
              <a:latin typeface="Arial"/>
            </a:endParaRPr>
          </a:p>
        </p:txBody>
      </p:sp>
      <p:sp>
        <p:nvSpPr>
          <p:cNvPr id="277" name="Text Box 1044"/>
          <p:cNvSpPr/>
          <p:nvPr/>
        </p:nvSpPr>
        <p:spPr>
          <a:xfrm>
            <a:off x="2895480" y="28195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Object 2"/>
          <p:cNvGraphicFramePr/>
          <p:nvPr/>
        </p:nvGraphicFramePr>
        <p:xfrm>
          <a:off x="0" y="0"/>
          <a:ext cx="9151920" cy="6784920"/>
        </p:xfrm>
        <a:graphic>
          <a:graphicData uri="http://schemas.openxmlformats.org/presentationml/2006/ole">
            <p:oleObj r:id="rId1" spid="">
              <p:embed/>
              <p:pic>
                <p:nvPicPr>
                  <p:cNvPr id="279" name="Object 2" descr=""/>
                  <p:cNvPicPr/>
                  <p:nvPr/>
                </p:nvPicPr>
                <p:blipFill>
                  <a:blip r:embed="rId2"/>
                  <a:stretch/>
                </p:blipFill>
                <p:spPr>
                  <a:xfrm>
                    <a:off x="0" y="0"/>
                    <a:ext cx="9151920" cy="6784920"/>
                  </a:xfrm>
                  <a:prstGeom prst="rect">
                    <a:avLst/>
                  </a:prstGeom>
                  <a:ln w="0">
                    <a:noFill/>
                  </a:ln>
                </p:spPr>
              </p:pic>
            </p:oleObj>
          </a:graphicData>
        </a:graphic>
      </p:graphicFrame>
      <p:sp>
        <p:nvSpPr>
          <p:cNvPr id="280" name="Text Box 5"/>
          <p:cNvSpPr/>
          <p:nvPr/>
        </p:nvSpPr>
        <p:spPr>
          <a:xfrm>
            <a:off x="4038480" y="39625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ughts about Leadership</a:t>
            </a:r>
            <a:endParaRPr b="0" lang="en-US" sz="4000" spc="-1" strike="noStrike">
              <a:solidFill>
                <a:srgbClr val="000000"/>
              </a:solidFill>
              <a:latin typeface="Arial"/>
            </a:endParaRPr>
          </a:p>
        </p:txBody>
      </p:sp>
      <p:sp>
        <p:nvSpPr>
          <p:cNvPr id="121" name="PlaceHolder 2"/>
          <p:cNvSpPr>
            <a:spLocks noGrp="1"/>
          </p:cNvSpPr>
          <p:nvPr>
            <p:ph/>
          </p:nvPr>
        </p:nvSpPr>
        <p:spPr>
          <a:xfrm>
            <a:off x="0" y="1523880"/>
            <a:ext cx="9144000" cy="7772400"/>
          </a:xfrm>
          <a:prstGeom prst="rect">
            <a:avLst/>
          </a:prstGeom>
          <a:noFill/>
          <a:ln w="0">
            <a:noFill/>
          </a:ln>
        </p:spPr>
        <p:txBody>
          <a:bodyPr anchor="t">
            <a:normAutofit/>
          </a:bodyPr>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ver doubt that a small group of thoughtful, committed citizens can change the world. Indeed, it is the only thing that ever has." – Margaret Mead</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600" spc="-1" strike="noStrike">
                <a:solidFill>
                  <a:srgbClr val="000000"/>
                </a:solidFill>
                <a:latin typeface="Times New Roman"/>
              </a:rPr>
              <a:t>The future belongs to the leader who can juggle a dozen conundrums at once.” – Tom Peters</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very essence of leadership is that you have to have vision.  You can’t blow an uncertain trumpet.- </a:t>
            </a:r>
            <a:r>
              <a:rPr b="1" lang="en-US" sz="2600" spc="-1" strike="noStrike">
                <a:solidFill>
                  <a:srgbClr val="000000"/>
                </a:solidFill>
                <a:latin typeface="Times New Roman"/>
                <a:ea typeface="ＭＳ Ｐゴシック"/>
              </a:rPr>
              <a:t>Theodore M. Hesburgh </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A rising tide raises all boats – J.F.Kennedy</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isciplines Defined</a:t>
            </a:r>
            <a:endParaRPr b="0" lang="en-US" sz="4400" spc="-1" strike="noStrike">
              <a:solidFill>
                <a:srgbClr val="000000"/>
              </a:solidFill>
              <a:latin typeface="Arial"/>
            </a:endParaRPr>
          </a:p>
        </p:txBody>
      </p:sp>
      <p:sp>
        <p:nvSpPr>
          <p:cNvPr id="282" name="PlaceHolder 2"/>
          <p:cNvSpPr>
            <a:spLocks noGrp="1"/>
          </p:cNvSpPr>
          <p:nvPr>
            <p:ph/>
          </p:nvPr>
        </p:nvSpPr>
        <p:spPr>
          <a:xfrm>
            <a:off x="838080" y="1447920"/>
            <a:ext cx="7772400" cy="4952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Master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ipline of personal growth and learning.  High levels of P.M. </a:t>
            </a:r>
            <a:r>
              <a:rPr b="1" i="1" lang="en-US" sz="2800" spc="-1" strike="noStrike">
                <a:solidFill>
                  <a:srgbClr val="000000"/>
                </a:solidFill>
                <a:latin typeface="Arial"/>
              </a:rPr>
              <a:t>continually</a:t>
            </a:r>
            <a:r>
              <a:rPr b="0" lang="en-US" sz="2800" spc="-1" strike="noStrike">
                <a:solidFill>
                  <a:srgbClr val="000000"/>
                </a:solidFill>
                <a:latin typeface="Arial"/>
              </a:rPr>
              <a:t> expand their ability to create the results they seek personally and professionall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Vis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sion that many are committed to because it reflects their own personal vision.  It is the fuel that provides focus and energy for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isciplines defined</a:t>
            </a:r>
            <a:endParaRPr b="0" lang="en-US" sz="4400" spc="-1" strike="noStrike">
              <a:solidFill>
                <a:srgbClr val="000000"/>
              </a:solidFill>
              <a:latin typeface="Arial"/>
            </a:endParaRPr>
          </a:p>
        </p:txBody>
      </p:sp>
      <p:sp>
        <p:nvSpPr>
          <p:cNvPr id="284" name="PlaceHolder 2"/>
          <p:cNvSpPr>
            <a:spLocks noGrp="1"/>
          </p:cNvSpPr>
          <p:nvPr>
            <p:ph/>
          </p:nvPr>
        </p:nvSpPr>
        <p:spPr>
          <a:xfrm>
            <a:off x="838080" y="1676160"/>
            <a:ext cx="7772400" cy="46479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Mode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itudes, beliefs, and assumptions that each individuals hold that brings order to their world</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Lear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am Learning is the process of aligning and developing the capacity of a team to create the results its members truly desire.” (Senge, 1990, p.236)</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isciplines defined</a:t>
            </a:r>
            <a:endParaRPr b="0" lang="en-US" sz="4400" spc="-1" strike="noStrike">
              <a:solidFill>
                <a:srgbClr val="000000"/>
              </a:solidFill>
              <a:latin typeface="Arial"/>
            </a:endParaRPr>
          </a:p>
        </p:txBody>
      </p:sp>
      <p:sp>
        <p:nvSpPr>
          <p:cNvPr id="286" name="PlaceHolder 2"/>
          <p:cNvSpPr>
            <a:spLocks noGrp="1"/>
          </p:cNvSpPr>
          <p:nvPr>
            <p:ph/>
          </p:nvPr>
        </p:nvSpPr>
        <p:spPr>
          <a:xfrm>
            <a:off x="838080" y="1905120"/>
            <a:ext cx="7772400" cy="44193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Thinking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ipline by which we understand the interconnectivity and relationships of all parts of an organization to the whole.  </a:t>
            </a:r>
            <a:r>
              <a:rPr b="0" lang="en-US" sz="2800" spc="-1" strike="noStrike">
                <a:solidFill>
                  <a:srgbClr val="000000"/>
                </a:solidFill>
                <a:latin typeface="Arial"/>
              </a:rPr>
              <a:t>	</a:t>
            </a:r>
            <a:r>
              <a:rPr b="0" lang="en-US" sz="2800" spc="-1" strike="noStrike">
                <a:solidFill>
                  <a:srgbClr val="000000"/>
                </a:solidFill>
                <a:latin typeface="Arial"/>
              </a:rPr>
              <a:t> * Planning considers the vision and decisions all reflect awareness of intended and potentially unintended consequences.  * Accountability and assessment of goals is built in every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ersonal Mastery</a:t>
            </a:r>
            <a:endParaRPr b="0" lang="en-US" sz="5000" spc="-1" strike="noStrike">
              <a:solidFill>
                <a:srgbClr val="000000"/>
              </a:solidFill>
              <a:latin typeface="Arial"/>
            </a:endParaRPr>
          </a:p>
        </p:txBody>
      </p:sp>
      <p:sp>
        <p:nvSpPr>
          <p:cNvPr id="28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Your capacity to improve yourself and your organiz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Mastery</a:t>
            </a: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 person and a situation that you observed that required high levels of personal mastery </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he situation?</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as the person?</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re the skills you observed?</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re they necessary to resolve th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hared Vision</a:t>
            </a:r>
            <a:endParaRPr b="0" lang="en-US" sz="5000" spc="-1" strike="noStrike">
              <a:solidFill>
                <a:srgbClr val="000000"/>
              </a:solidFill>
              <a:latin typeface="Arial"/>
            </a:endParaRPr>
          </a:p>
        </p:txBody>
      </p:sp>
      <p:sp>
        <p:nvSpPr>
          <p:cNvPr id="292"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t, “Here’s my vision.  Let me share it with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685800" y="1387440"/>
            <a:ext cx="80773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a:t>
            </a:r>
            <a:r>
              <a:rPr b="1" lang="en-US" sz="7200" spc="-1" strike="noStrike">
                <a:solidFill>
                  <a:srgbClr val="000000"/>
                </a:solidFill>
                <a:latin typeface="Trebuchet MS"/>
              </a:rPr>
              <a:t>You can’t escape the responsibility of tomorrow by evading it today.”</a:t>
            </a:r>
            <a:endParaRPr b="0" lang="en-US" sz="7200" spc="-1" strike="noStrike">
              <a:solidFill>
                <a:srgbClr val="000000"/>
              </a:solidFill>
              <a:latin typeface="Arial"/>
            </a:endParaRPr>
          </a:p>
        </p:txBody>
      </p:sp>
      <p:sp>
        <p:nvSpPr>
          <p:cNvPr id="294" name="PlaceHolder 1"/>
          <p:cNvSpPr>
            <a:spLocks noGrp="1"/>
          </p:cNvSpPr>
          <p:nvPr>
            <p:ph type="title"/>
          </p:nvPr>
        </p:nvSpPr>
        <p:spPr>
          <a:xfrm>
            <a:off x="457200" y="457200"/>
            <a:ext cx="82296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 once sai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ink the Leg of Aspiration</a:t>
            </a:r>
            <a:endParaRPr b="0" lang="en-US" sz="5000" spc="-1" strike="noStrike">
              <a:solidFill>
                <a:srgbClr val="000000"/>
              </a:solidFill>
              <a:latin typeface="Arial"/>
            </a:endParaRPr>
          </a:p>
        </p:txBody>
      </p:sp>
      <p:sp>
        <p:nvSpPr>
          <p:cNvPr id="29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M/SV</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tory of the Philharmoni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Mental Models</a:t>
            </a:r>
            <a:endParaRPr b="0" lang="en-US" sz="5000" spc="-1" strike="noStrike">
              <a:solidFill>
                <a:srgbClr val="000000"/>
              </a:solidFill>
              <a:latin typeface="Arial"/>
            </a:endParaRPr>
          </a:p>
        </p:txBody>
      </p:sp>
      <p:sp>
        <p:nvSpPr>
          <p:cNvPr id="29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
            </a:r>
            <a:r>
              <a:rPr b="0" lang="en-US" sz="3400" spc="-1" strike="noStrike">
                <a:solidFill>
                  <a:srgbClr val="000000"/>
                </a:solidFill>
                <a:latin typeface="Arial"/>
              </a:rPr>
              <a:t>You are what you think”</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609480" y="533520"/>
            <a:ext cx="8305920" cy="65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You must give birth to your image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are the future waiting to be bor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ear not the strangeness you feel.</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future must enter you long before it happen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ust wait for the birth,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r the hour of new clarity.</a:t>
            </a:r>
            <a:endParaRPr b="0" lang="en-US" sz="36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ner Maria Ril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920"/>
            <a:ext cx="822960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ughts about Leadership</a:t>
            </a:r>
            <a:endParaRPr b="0" lang="en-US" sz="4000" spc="-1" strike="noStrike">
              <a:solidFill>
                <a:srgbClr val="000000"/>
              </a:solidFill>
              <a:latin typeface="Arial"/>
            </a:endParaRPr>
          </a:p>
        </p:txBody>
      </p:sp>
      <p:sp>
        <p:nvSpPr>
          <p:cNvPr id="123" name="PlaceHolder 2"/>
          <p:cNvSpPr>
            <a:spLocks noGrp="1"/>
          </p:cNvSpPr>
          <p:nvPr>
            <p:ph/>
          </p:nvPr>
        </p:nvSpPr>
        <p:spPr>
          <a:xfrm>
            <a:off x="0" y="1218960"/>
            <a:ext cx="9144000" cy="5105160"/>
          </a:xfrm>
          <a:prstGeom prst="rect">
            <a:avLst/>
          </a:prstGeom>
          <a:noFill/>
          <a:ln w="0">
            <a:noFill/>
          </a:ln>
        </p:spPr>
        <p:txBody>
          <a:bodyPr anchor="t">
            <a:normAutofit fontScale="95000"/>
          </a:bodyPr>
          <a:p>
            <a:pPr marL="325800" indent="-32580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You do not lead by hitting people over the head- that’s assault, not leadership.</a:t>
            </a:r>
            <a:r>
              <a:rPr b="1" lang="en-US" sz="2600" spc="-1" strike="noStrike">
                <a:solidFill>
                  <a:srgbClr val="000000"/>
                </a:solidFill>
                <a:latin typeface="Times New Roman"/>
                <a:ea typeface="ＭＳ Ｐゴシック"/>
              </a:rPr>
              <a:t> - Dwight D. Eisenhower</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What you always do before you make a decision is consult.  The best public policy is made when you are listening to people who are going to be impacted.  Then, once policy is determined, you call on them to help you sell it. - Elizabeth Dole</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Most important, leaders can conceive and articulate goals that lift people out of their petty preoccupations and unite them in pursuit of objectives worthy of their best efforts.-John Gardner</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How Do “Mental Models” Impact Organizational Learning?</a:t>
            </a:r>
            <a:endParaRPr b="0" lang="en-US" sz="4000" spc="-1" strike="noStrike">
              <a:solidFill>
                <a:srgbClr val="000000"/>
              </a:solidFill>
              <a:latin typeface="Arial"/>
            </a:endParaRPr>
          </a:p>
        </p:txBody>
      </p:sp>
      <p:sp>
        <p:nvSpPr>
          <p:cNvPr id="301" name="PlaceHolder 2"/>
          <p:cNvSpPr>
            <a:spLocks noGrp="1"/>
          </p:cNvSpPr>
          <p:nvPr>
            <p:ph/>
          </p:nvPr>
        </p:nvSpPr>
        <p:spPr>
          <a:xfrm>
            <a:off x="228600" y="1676520"/>
            <a:ext cx="8686800" cy="54864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if they are </a:t>
            </a:r>
            <a:r>
              <a:rPr b="1" i="1" lang="en-US" sz="3200" spc="-1" strike="noStrike">
                <a:solidFill>
                  <a:srgbClr val="000000"/>
                </a:solidFill>
                <a:latin typeface="Arial"/>
              </a:rPr>
              <a:t>not</a:t>
            </a:r>
            <a:r>
              <a:rPr b="0" lang="en-US" sz="3200" spc="-1" strike="noStrike">
                <a:solidFill>
                  <a:srgbClr val="000000"/>
                </a:solidFill>
                <a:latin typeface="Arial"/>
              </a:rPr>
              <a:t> recognized, suspended, and modified through new learn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M’s are </a:t>
            </a:r>
            <a:r>
              <a:rPr b="1" i="1" lang="en-US" sz="3200" spc="-1" strike="noStrike">
                <a:solidFill>
                  <a:srgbClr val="000000"/>
                </a:solidFill>
                <a:latin typeface="Arial"/>
              </a:rPr>
              <a:t>not  </a:t>
            </a:r>
            <a:r>
              <a:rPr b="0" lang="en-US" sz="3200" spc="-1" strike="noStrike">
                <a:solidFill>
                  <a:srgbClr val="000000"/>
                </a:solidFill>
                <a:latin typeface="Arial"/>
              </a:rPr>
              <a:t>recognized and suspended, the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of “team” cannot exis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annot take plac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s are filled with blame and lose-lose solu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ganization is destined to create “Fixes That F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Models are:</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ently neither good nor bad.</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ently neither right or wrong.</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every life experience you’ve ever had.</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barriers we must suspend to enable growth and to see and accomplish things that conventional wisdom deems im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ools That Reveal Mental Models</a:t>
            </a:r>
            <a:endParaRPr b="0" lang="en-US" sz="5000" spc="-1" strike="noStrike">
              <a:solidFill>
                <a:srgbClr val="000000"/>
              </a:solidFill>
              <a:latin typeface="Arial"/>
            </a:endParaRPr>
          </a:p>
        </p:txBody>
      </p:sp>
      <p:sp>
        <p:nvSpPr>
          <p:cNvPr id="305"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28720" y="536400"/>
            <a:ext cx="7515360" cy="787680"/>
          </a:xfrm>
          <a:prstGeom prst="rect">
            <a:avLst/>
          </a:prstGeom>
          <a:solidFill>
            <a:srgbClr val="666699"/>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adder of Inference</a:t>
            </a:r>
            <a:endParaRPr b="0" lang="en-US" sz="4400" spc="-1" strike="noStrike">
              <a:solidFill>
                <a:srgbClr val="000000"/>
              </a:solidFill>
              <a:latin typeface="Arial"/>
            </a:endParaRPr>
          </a:p>
        </p:txBody>
      </p:sp>
      <p:sp>
        <p:nvSpPr>
          <p:cNvPr id="307" name="Line 3"/>
          <p:cNvSpPr/>
          <p:nvPr/>
        </p:nvSpPr>
        <p:spPr>
          <a:xfrm>
            <a:off x="5181480" y="160020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
          <p:cNvSpPr/>
          <p:nvPr/>
        </p:nvSpPr>
        <p:spPr>
          <a:xfrm>
            <a:off x="3352680" y="160020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5"/>
          <p:cNvSpPr/>
          <p:nvPr/>
        </p:nvSpPr>
        <p:spPr>
          <a:xfrm>
            <a:off x="3352680" y="54864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6"/>
          <p:cNvSpPr/>
          <p:nvPr/>
        </p:nvSpPr>
        <p:spPr>
          <a:xfrm>
            <a:off x="3352680" y="42670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7"/>
          <p:cNvSpPr/>
          <p:nvPr/>
        </p:nvSpPr>
        <p:spPr>
          <a:xfrm>
            <a:off x="3352680" y="35812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8"/>
          <p:cNvSpPr/>
          <p:nvPr/>
        </p:nvSpPr>
        <p:spPr>
          <a:xfrm>
            <a:off x="3352680" y="28954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9"/>
          <p:cNvSpPr/>
          <p:nvPr/>
        </p:nvSpPr>
        <p:spPr>
          <a:xfrm>
            <a:off x="990720" y="61722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Data Data Data Data Data Data Data Data</a:t>
            </a:r>
            <a:endParaRPr b="0" lang="en-US" sz="2400" spc="-1" strike="noStrike">
              <a:solidFill>
                <a:srgbClr val="000000"/>
              </a:solidFill>
              <a:latin typeface="Arial"/>
            </a:endParaRPr>
          </a:p>
        </p:txBody>
      </p:sp>
      <p:sp>
        <p:nvSpPr>
          <p:cNvPr id="314" name="Line 10"/>
          <p:cNvSpPr/>
          <p:nvPr/>
        </p:nvSpPr>
        <p:spPr>
          <a:xfrm>
            <a:off x="3352680" y="5486400"/>
            <a:ext cx="0" cy="533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1"/>
          <p:cNvSpPr/>
          <p:nvPr/>
        </p:nvSpPr>
        <p:spPr>
          <a:xfrm>
            <a:off x="5181480" y="5486400"/>
            <a:ext cx="0" cy="533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2"/>
          <p:cNvSpPr/>
          <p:nvPr/>
        </p:nvSpPr>
        <p:spPr>
          <a:xfrm>
            <a:off x="3352680" y="48769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13"/>
          <p:cNvSpPr/>
          <p:nvPr/>
        </p:nvSpPr>
        <p:spPr>
          <a:xfrm>
            <a:off x="3505320" y="563868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See</a:t>
            </a:r>
            <a:endParaRPr b="0" lang="en-US" sz="1800" spc="-1" strike="noStrike">
              <a:solidFill>
                <a:srgbClr val="000000"/>
              </a:solidFill>
              <a:latin typeface="Arial"/>
            </a:endParaRPr>
          </a:p>
        </p:txBody>
      </p:sp>
      <p:sp>
        <p:nvSpPr>
          <p:cNvPr id="318" name="Text Box 14"/>
          <p:cNvSpPr/>
          <p:nvPr/>
        </p:nvSpPr>
        <p:spPr>
          <a:xfrm>
            <a:off x="3429000" y="50292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Select</a:t>
            </a:r>
            <a:endParaRPr b="0" lang="en-US" sz="1800" spc="-1" strike="noStrike">
              <a:solidFill>
                <a:srgbClr val="000000"/>
              </a:solidFill>
              <a:latin typeface="Arial"/>
            </a:endParaRPr>
          </a:p>
        </p:txBody>
      </p:sp>
      <p:sp>
        <p:nvSpPr>
          <p:cNvPr id="319" name="Text Box 15"/>
          <p:cNvSpPr/>
          <p:nvPr/>
        </p:nvSpPr>
        <p:spPr>
          <a:xfrm>
            <a:off x="3505320" y="44197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Add</a:t>
            </a:r>
            <a:endParaRPr b="0" lang="en-US" sz="1800" spc="-1" strike="noStrike">
              <a:solidFill>
                <a:srgbClr val="000000"/>
              </a:solidFill>
              <a:latin typeface="Arial"/>
            </a:endParaRPr>
          </a:p>
        </p:txBody>
      </p:sp>
      <p:sp>
        <p:nvSpPr>
          <p:cNvPr id="320" name="Text Box 16"/>
          <p:cNvSpPr/>
          <p:nvPr/>
        </p:nvSpPr>
        <p:spPr>
          <a:xfrm>
            <a:off x="3505320" y="36259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Assume</a:t>
            </a:r>
            <a:endParaRPr b="0" lang="en-US" sz="1800" spc="-1" strike="noStrike">
              <a:solidFill>
                <a:srgbClr val="000000"/>
              </a:solidFill>
              <a:latin typeface="Arial"/>
            </a:endParaRPr>
          </a:p>
        </p:txBody>
      </p:sp>
      <p:sp>
        <p:nvSpPr>
          <p:cNvPr id="321" name="Text Box 17"/>
          <p:cNvSpPr/>
          <p:nvPr/>
        </p:nvSpPr>
        <p:spPr>
          <a:xfrm>
            <a:off x="3505320" y="29401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Conclude</a:t>
            </a:r>
            <a:endParaRPr b="0" lang="en-US" sz="1800" spc="-1" strike="noStrike">
              <a:solidFill>
                <a:srgbClr val="000000"/>
              </a:solidFill>
              <a:latin typeface="Arial"/>
            </a:endParaRPr>
          </a:p>
        </p:txBody>
      </p:sp>
      <p:sp>
        <p:nvSpPr>
          <p:cNvPr id="322" name="Line 18"/>
          <p:cNvSpPr/>
          <p:nvPr/>
        </p:nvSpPr>
        <p:spPr>
          <a:xfrm>
            <a:off x="3352680" y="2133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19"/>
          <p:cNvSpPr/>
          <p:nvPr/>
        </p:nvSpPr>
        <p:spPr>
          <a:xfrm>
            <a:off x="3352680" y="2362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Adopt Beliefs</a:t>
            </a:r>
            <a:endParaRPr b="0" lang="en-US" sz="1800" spc="-1" strike="noStrike">
              <a:solidFill>
                <a:srgbClr val="000000"/>
              </a:solidFill>
              <a:latin typeface="Arial"/>
            </a:endParaRPr>
          </a:p>
        </p:txBody>
      </p:sp>
      <p:sp>
        <p:nvSpPr>
          <p:cNvPr id="324" name="Text Box 20"/>
          <p:cNvSpPr/>
          <p:nvPr/>
        </p:nvSpPr>
        <p:spPr>
          <a:xfrm>
            <a:off x="3429000" y="167652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Take Action</a:t>
            </a:r>
            <a:endParaRPr b="0" lang="en-US" sz="1800" spc="-1" strike="noStrike">
              <a:solidFill>
                <a:srgbClr val="000000"/>
              </a:solidFill>
              <a:latin typeface="Arial"/>
            </a:endParaRPr>
          </a:p>
        </p:txBody>
      </p:sp>
      <p:sp>
        <p:nvSpPr>
          <p:cNvPr id="325" name="AutoShape 21"/>
          <p:cNvSpPr/>
          <p:nvPr/>
        </p:nvSpPr>
        <p:spPr>
          <a:xfrm>
            <a:off x="6705720" y="1828800"/>
            <a:ext cx="609480" cy="3886200"/>
          </a:xfrm>
          <a:prstGeom prst="upArrow">
            <a:avLst>
              <a:gd name="adj1" fmla="val 50000"/>
              <a:gd name="adj2" fmla="val 159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22"/>
          <p:cNvSpPr/>
          <p:nvPr/>
        </p:nvSpPr>
        <p:spPr>
          <a:xfrm>
            <a:off x="6238800" y="1371600"/>
            <a:ext cx="161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dvocacy</a:t>
            </a:r>
            <a:endParaRPr b="0" lang="en-US" sz="2400" spc="-1" strike="noStrike">
              <a:solidFill>
                <a:srgbClr val="000000"/>
              </a:solidFill>
              <a:latin typeface="Arial"/>
            </a:endParaRPr>
          </a:p>
        </p:txBody>
      </p:sp>
      <p:sp>
        <p:nvSpPr>
          <p:cNvPr id="327" name="AutoShape 23"/>
          <p:cNvSpPr/>
          <p:nvPr/>
        </p:nvSpPr>
        <p:spPr>
          <a:xfrm rot="10800000">
            <a:off x="1218960" y="1599840"/>
            <a:ext cx="609480" cy="3886200"/>
          </a:xfrm>
          <a:prstGeom prst="upArrow">
            <a:avLst>
              <a:gd name="adj1" fmla="val 50000"/>
              <a:gd name="adj2" fmla="val 159406"/>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4"/>
          <p:cNvSpPr/>
          <p:nvPr/>
        </p:nvSpPr>
        <p:spPr>
          <a:xfrm>
            <a:off x="533520" y="54100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Inqui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How Often Have You Been Up The Ladder?</a:t>
            </a:r>
            <a:endParaRPr b="0" lang="en-US" sz="4600" spc="-1" strike="noStrike">
              <a:solidFill>
                <a:srgbClr val="000000"/>
              </a:solidFill>
              <a:latin typeface="Arial"/>
            </a:endParaRPr>
          </a:p>
        </p:txBody>
      </p:sp>
      <p:sp>
        <p:nvSpPr>
          <p:cNvPr id="330"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scribe a scenario when your data was wrong because you rushed to judgm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8720" y="457200"/>
            <a:ext cx="751536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eft Hand Column</a:t>
            </a:r>
            <a:endParaRPr b="0" lang="en-US" sz="4400" spc="-1" strike="noStrike">
              <a:solidFill>
                <a:srgbClr val="000000"/>
              </a:solidFill>
              <a:latin typeface="Arial"/>
            </a:endParaRPr>
          </a:p>
        </p:txBody>
      </p:sp>
      <p:sp>
        <p:nvSpPr>
          <p:cNvPr id="332" name="PlaceHolder 2"/>
          <p:cNvSpPr>
            <a:spLocks noGrp="1"/>
          </p:cNvSpPr>
          <p:nvPr>
            <p:ph/>
          </p:nvPr>
        </p:nvSpPr>
        <p:spPr>
          <a:xfrm>
            <a:off x="228600" y="1904760"/>
            <a:ext cx="4191120" cy="2895480"/>
          </a:xfrm>
          <a:prstGeom prst="rect">
            <a:avLst/>
          </a:prstGeom>
          <a:noFill/>
          <a:ln w="0">
            <a:noFill/>
          </a:ln>
        </p:spPr>
        <p:txBody>
          <a:bodyPr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 actually mean to say</a:t>
            </a:r>
            <a:endParaRPr b="0" lang="en-US" sz="4400" spc="-1" strike="noStrike">
              <a:solidFill>
                <a:srgbClr val="000000"/>
              </a:solidFill>
              <a:latin typeface="Arial"/>
            </a:endParaRPr>
          </a:p>
        </p:txBody>
      </p:sp>
      <p:sp>
        <p:nvSpPr>
          <p:cNvPr id="333" name="PlaceHolder 3"/>
          <p:cNvSpPr>
            <a:spLocks noGrp="1"/>
          </p:cNvSpPr>
          <p:nvPr>
            <p:ph/>
          </p:nvPr>
        </p:nvSpPr>
        <p:spPr>
          <a:xfrm>
            <a:off x="4800600" y="1905120"/>
            <a:ext cx="4114800" cy="4114800"/>
          </a:xfrm>
          <a:prstGeom prst="rect">
            <a:avLst/>
          </a:prstGeom>
          <a:noFill/>
          <a:ln w="0">
            <a:noFill/>
          </a:ln>
        </p:spPr>
        <p:txBody>
          <a:bodyPr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 say</a:t>
            </a:r>
            <a:endParaRPr b="0" lang="en-US" sz="4400" spc="-1" strike="noStrike">
              <a:solidFill>
                <a:srgbClr val="000000"/>
              </a:solidFill>
              <a:latin typeface="Arial"/>
            </a:endParaRPr>
          </a:p>
        </p:txBody>
      </p:sp>
      <p:sp>
        <p:nvSpPr>
          <p:cNvPr id="334" name="Text Box 5"/>
          <p:cNvSpPr/>
          <p:nvPr/>
        </p:nvSpPr>
        <p:spPr>
          <a:xfrm>
            <a:off x="228600" y="533412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gyris (1997) describes this phenomena as </a:t>
            </a:r>
            <a:r>
              <a:rPr b="1" lang="en-US" sz="2800" spc="-1" strike="noStrike">
                <a:solidFill>
                  <a:srgbClr val="ff0000"/>
                </a:solidFill>
                <a:latin typeface="Tahoma"/>
              </a:rPr>
              <a:t>“skilled incompetence”</a:t>
            </a:r>
            <a:r>
              <a:rPr b="1" lang="en-US" sz="2800" spc="-1" strike="noStrike">
                <a:solidFill>
                  <a:srgbClr val="000000"/>
                </a:solidFill>
                <a:latin typeface="Tahoma"/>
              </a:rPr>
              <a:t> and a </a:t>
            </a:r>
            <a:r>
              <a:rPr b="1" lang="en-US" sz="2800" spc="-1" strike="noStrike">
                <a:solidFill>
                  <a:srgbClr val="ff0000"/>
                </a:solidFill>
                <a:latin typeface="Tahoma"/>
              </a:rPr>
              <a:t>“defensive routine”</a:t>
            </a:r>
            <a:r>
              <a:rPr b="1" lang="en-US" sz="2800" spc="-1" strike="noStrike">
                <a:solidFill>
                  <a:srgbClr val="000000"/>
                </a:solidFill>
                <a:latin typeface="Tahoma"/>
              </a:rPr>
              <a:t> found in many organizations.</a:t>
            </a:r>
            <a:endParaRPr b="0" lang="en-US" sz="2800" spc="-1" strike="noStrike">
              <a:solidFill>
                <a:srgbClr val="000000"/>
              </a:solidFill>
              <a:latin typeface="Arial"/>
            </a:endParaRPr>
          </a:p>
        </p:txBody>
      </p:sp>
      <p:sp>
        <p:nvSpPr>
          <p:cNvPr id="335" name="Oval 6"/>
          <p:cNvSpPr/>
          <p:nvPr/>
        </p:nvSpPr>
        <p:spPr>
          <a:xfrm>
            <a:off x="76320" y="1143000"/>
            <a:ext cx="4190760" cy="3429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8720" y="456840"/>
            <a:ext cx="7515360" cy="1182600"/>
          </a:xfrm>
          <a:prstGeom prst="rect">
            <a:avLst/>
          </a:prstGeom>
          <a:blipFill rotWithShape="0">
            <a:blip r:embed="rId1"/>
            <a:stretch/>
          </a:blipFill>
          <a:ln w="381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ceberg </a:t>
            </a:r>
            <a:endParaRPr b="0" lang="en-US" sz="4400" spc="-1" strike="noStrike">
              <a:solidFill>
                <a:srgbClr val="000000"/>
              </a:solidFill>
              <a:latin typeface="Arial"/>
            </a:endParaRPr>
          </a:p>
        </p:txBody>
      </p:sp>
      <p:sp>
        <p:nvSpPr>
          <p:cNvPr id="337" name="Freeform 1027"/>
          <p:cNvSpPr/>
          <p:nvPr/>
        </p:nvSpPr>
        <p:spPr>
          <a:xfrm>
            <a:off x="1295280" y="1523880"/>
            <a:ext cx="7278840" cy="5207040"/>
          </a:xfrm>
          <a:custGeom>
            <a:avLst/>
            <a:gdLst>
              <a:gd name="textAreaLeft" fmla="*/ 0 w 7278840"/>
              <a:gd name="textAreaRight" fmla="*/ 7279200 w 7278840"/>
              <a:gd name="textAreaTop" fmla="*/ 0 h 5207040"/>
              <a:gd name="textAreaBottom" fmla="*/ 5207400 h 5207040"/>
            </a:gdLst>
            <a:ahLst/>
            <a:rect l="textAreaLeft" t="textAreaTop" r="textAreaRight" b="textAreaBottom"/>
            <a:pathLst>
              <a:path w="4585" h="3280">
                <a:moveTo>
                  <a:pt x="0" y="3080"/>
                </a:moveTo>
                <a:cubicBezTo>
                  <a:pt x="42" y="3066"/>
                  <a:pt x="80" y="3056"/>
                  <a:pt x="118" y="3033"/>
                </a:cubicBezTo>
                <a:cubicBezTo>
                  <a:pt x="201" y="2982"/>
                  <a:pt x="130" y="3010"/>
                  <a:pt x="200" y="2986"/>
                </a:cubicBezTo>
                <a:cubicBezTo>
                  <a:pt x="235" y="2936"/>
                  <a:pt x="287" y="2910"/>
                  <a:pt x="329" y="2868"/>
                </a:cubicBezTo>
                <a:cubicBezTo>
                  <a:pt x="374" y="2823"/>
                  <a:pt x="358" y="2825"/>
                  <a:pt x="388" y="2774"/>
                </a:cubicBezTo>
                <a:cubicBezTo>
                  <a:pt x="444" y="2681"/>
                  <a:pt x="510" y="2605"/>
                  <a:pt x="553" y="2504"/>
                </a:cubicBezTo>
                <a:cubicBezTo>
                  <a:pt x="575" y="2374"/>
                  <a:pt x="552" y="2453"/>
                  <a:pt x="659" y="2281"/>
                </a:cubicBezTo>
                <a:cubicBezTo>
                  <a:pt x="693" y="2225"/>
                  <a:pt x="681" y="2148"/>
                  <a:pt x="717" y="2093"/>
                </a:cubicBezTo>
                <a:cubicBezTo>
                  <a:pt x="791" y="1981"/>
                  <a:pt x="848" y="1879"/>
                  <a:pt x="894" y="1752"/>
                </a:cubicBezTo>
                <a:cubicBezTo>
                  <a:pt x="922" y="1675"/>
                  <a:pt x="940" y="1590"/>
                  <a:pt x="976" y="1517"/>
                </a:cubicBezTo>
                <a:cubicBezTo>
                  <a:pt x="1006" y="1457"/>
                  <a:pt x="1073" y="1396"/>
                  <a:pt x="1117" y="1352"/>
                </a:cubicBezTo>
                <a:cubicBezTo>
                  <a:pt x="1143" y="1276"/>
                  <a:pt x="1167" y="1243"/>
                  <a:pt x="1223" y="1187"/>
                </a:cubicBezTo>
                <a:cubicBezTo>
                  <a:pt x="1251" y="1102"/>
                  <a:pt x="1302" y="1033"/>
                  <a:pt x="1340" y="952"/>
                </a:cubicBezTo>
                <a:cubicBezTo>
                  <a:pt x="1365" y="898"/>
                  <a:pt x="1387" y="843"/>
                  <a:pt x="1411" y="788"/>
                </a:cubicBezTo>
                <a:cubicBezTo>
                  <a:pt x="1431" y="741"/>
                  <a:pt x="1474" y="709"/>
                  <a:pt x="1505" y="670"/>
                </a:cubicBezTo>
                <a:cubicBezTo>
                  <a:pt x="1542" y="624"/>
                  <a:pt x="1576" y="576"/>
                  <a:pt x="1611" y="529"/>
                </a:cubicBezTo>
                <a:cubicBezTo>
                  <a:pt x="1644" y="485"/>
                  <a:pt x="1675" y="446"/>
                  <a:pt x="1705" y="400"/>
                </a:cubicBezTo>
                <a:cubicBezTo>
                  <a:pt x="1723" y="372"/>
                  <a:pt x="1764" y="318"/>
                  <a:pt x="1764" y="318"/>
                </a:cubicBezTo>
                <a:cubicBezTo>
                  <a:pt x="1778" y="276"/>
                  <a:pt x="1814" y="166"/>
                  <a:pt x="1834" y="129"/>
                </a:cubicBezTo>
                <a:cubicBezTo>
                  <a:pt x="1859" y="84"/>
                  <a:pt x="1909" y="72"/>
                  <a:pt x="1952" y="59"/>
                </a:cubicBezTo>
                <a:cubicBezTo>
                  <a:pt x="2007" y="42"/>
                  <a:pt x="2054" y="25"/>
                  <a:pt x="2105" y="0"/>
                </a:cubicBezTo>
                <a:cubicBezTo>
                  <a:pt x="2153" y="12"/>
                  <a:pt x="2188" y="29"/>
                  <a:pt x="2234" y="47"/>
                </a:cubicBezTo>
                <a:cubicBezTo>
                  <a:pt x="2257" y="56"/>
                  <a:pt x="2304" y="71"/>
                  <a:pt x="2304" y="71"/>
                </a:cubicBezTo>
                <a:cubicBezTo>
                  <a:pt x="2347" y="133"/>
                  <a:pt x="2318" y="96"/>
                  <a:pt x="2398" y="176"/>
                </a:cubicBezTo>
                <a:cubicBezTo>
                  <a:pt x="2456" y="234"/>
                  <a:pt x="2465" y="298"/>
                  <a:pt x="2504" y="365"/>
                </a:cubicBezTo>
                <a:cubicBezTo>
                  <a:pt x="2512" y="379"/>
                  <a:pt x="2528" y="387"/>
                  <a:pt x="2539" y="400"/>
                </a:cubicBezTo>
                <a:cubicBezTo>
                  <a:pt x="2578" y="446"/>
                  <a:pt x="2551" y="426"/>
                  <a:pt x="2586" y="482"/>
                </a:cubicBezTo>
                <a:cubicBezTo>
                  <a:pt x="2604" y="510"/>
                  <a:pt x="2626" y="536"/>
                  <a:pt x="2645" y="564"/>
                </a:cubicBezTo>
                <a:cubicBezTo>
                  <a:pt x="2661" y="588"/>
                  <a:pt x="2683" y="608"/>
                  <a:pt x="2692" y="635"/>
                </a:cubicBezTo>
                <a:cubicBezTo>
                  <a:pt x="2700" y="658"/>
                  <a:pt x="2704" y="684"/>
                  <a:pt x="2716" y="705"/>
                </a:cubicBezTo>
                <a:cubicBezTo>
                  <a:pt x="2735" y="739"/>
                  <a:pt x="2786" y="800"/>
                  <a:pt x="2786" y="800"/>
                </a:cubicBezTo>
                <a:cubicBezTo>
                  <a:pt x="2802" y="895"/>
                  <a:pt x="2845" y="991"/>
                  <a:pt x="2904" y="1070"/>
                </a:cubicBezTo>
                <a:cubicBezTo>
                  <a:pt x="2937" y="1189"/>
                  <a:pt x="2981" y="1324"/>
                  <a:pt x="3057" y="1423"/>
                </a:cubicBezTo>
                <a:cubicBezTo>
                  <a:pt x="3070" y="1477"/>
                  <a:pt x="3069" y="1536"/>
                  <a:pt x="3092" y="1587"/>
                </a:cubicBezTo>
                <a:cubicBezTo>
                  <a:pt x="3099" y="1602"/>
                  <a:pt x="3116" y="1609"/>
                  <a:pt x="3127" y="1622"/>
                </a:cubicBezTo>
                <a:cubicBezTo>
                  <a:pt x="3169" y="1672"/>
                  <a:pt x="3225" y="1718"/>
                  <a:pt x="3257" y="1775"/>
                </a:cubicBezTo>
                <a:cubicBezTo>
                  <a:pt x="3327" y="1899"/>
                  <a:pt x="3364" y="2035"/>
                  <a:pt x="3421" y="2163"/>
                </a:cubicBezTo>
                <a:cubicBezTo>
                  <a:pt x="3450" y="2227"/>
                  <a:pt x="3463" y="2286"/>
                  <a:pt x="3527" y="2328"/>
                </a:cubicBezTo>
                <a:cubicBezTo>
                  <a:pt x="3586" y="2367"/>
                  <a:pt x="3628" y="2377"/>
                  <a:pt x="3691" y="2398"/>
                </a:cubicBezTo>
                <a:cubicBezTo>
                  <a:pt x="3796" y="2503"/>
                  <a:pt x="3672" y="2393"/>
                  <a:pt x="3809" y="2469"/>
                </a:cubicBezTo>
                <a:cubicBezTo>
                  <a:pt x="3855" y="2495"/>
                  <a:pt x="3887" y="2541"/>
                  <a:pt x="3927" y="2575"/>
                </a:cubicBezTo>
                <a:cubicBezTo>
                  <a:pt x="3988" y="2681"/>
                  <a:pt x="3978" y="2691"/>
                  <a:pt x="4091" y="2739"/>
                </a:cubicBezTo>
                <a:cubicBezTo>
                  <a:pt x="4135" y="2868"/>
                  <a:pt x="4081" y="2764"/>
                  <a:pt x="4209" y="2857"/>
                </a:cubicBezTo>
                <a:cubicBezTo>
                  <a:pt x="4225" y="2869"/>
                  <a:pt x="4231" y="2890"/>
                  <a:pt x="4244" y="2904"/>
                </a:cubicBezTo>
                <a:cubicBezTo>
                  <a:pt x="4357" y="3028"/>
                  <a:pt x="4467" y="3162"/>
                  <a:pt x="4585" y="3280"/>
                </a:cubicBezTo>
              </a:path>
            </a:pathLst>
          </a:custGeom>
          <a:noFill/>
          <a:ln w="38160">
            <a:solidFill>
              <a:srgbClr val="090a15"/>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8" name="Freeform 1028"/>
          <p:cNvSpPr/>
          <p:nvPr/>
        </p:nvSpPr>
        <p:spPr>
          <a:xfrm>
            <a:off x="447840" y="2743200"/>
            <a:ext cx="8192880" cy="279360"/>
          </a:xfrm>
          <a:custGeom>
            <a:avLst/>
            <a:gdLst>
              <a:gd name="textAreaLeft" fmla="*/ 0 w 8192880"/>
              <a:gd name="textAreaRight" fmla="*/ 8193240 w 8192880"/>
              <a:gd name="textAreaTop" fmla="*/ 0 h 279360"/>
              <a:gd name="textAreaBottom" fmla="*/ 279720 h 279360"/>
            </a:gdLst>
            <a:ahLst/>
            <a:rect l="textAreaLeft" t="textAreaTop" r="textAreaRight" b="textAreaBottom"/>
            <a:pathLst>
              <a:path w="5161" h="176">
                <a:moveTo>
                  <a:pt x="0" y="129"/>
                </a:moveTo>
                <a:cubicBezTo>
                  <a:pt x="117" y="169"/>
                  <a:pt x="180" y="124"/>
                  <a:pt x="259" y="59"/>
                </a:cubicBezTo>
                <a:cubicBezTo>
                  <a:pt x="272" y="49"/>
                  <a:pt x="280" y="32"/>
                  <a:pt x="294" y="24"/>
                </a:cubicBezTo>
                <a:cubicBezTo>
                  <a:pt x="316" y="12"/>
                  <a:pt x="365" y="0"/>
                  <a:pt x="365" y="0"/>
                </a:cubicBezTo>
                <a:cubicBezTo>
                  <a:pt x="377" y="4"/>
                  <a:pt x="389" y="6"/>
                  <a:pt x="400" y="12"/>
                </a:cubicBezTo>
                <a:cubicBezTo>
                  <a:pt x="412" y="18"/>
                  <a:pt x="422" y="29"/>
                  <a:pt x="435" y="35"/>
                </a:cubicBezTo>
                <a:cubicBezTo>
                  <a:pt x="561" y="91"/>
                  <a:pt x="462" y="30"/>
                  <a:pt x="541" y="82"/>
                </a:cubicBezTo>
                <a:cubicBezTo>
                  <a:pt x="575" y="135"/>
                  <a:pt x="591" y="122"/>
                  <a:pt x="647" y="141"/>
                </a:cubicBezTo>
                <a:cubicBezTo>
                  <a:pt x="718" y="131"/>
                  <a:pt x="776" y="122"/>
                  <a:pt x="835" y="82"/>
                </a:cubicBezTo>
                <a:cubicBezTo>
                  <a:pt x="877" y="19"/>
                  <a:pt x="887" y="25"/>
                  <a:pt x="964" y="35"/>
                </a:cubicBezTo>
                <a:cubicBezTo>
                  <a:pt x="999" y="40"/>
                  <a:pt x="1035" y="43"/>
                  <a:pt x="1070" y="47"/>
                </a:cubicBezTo>
                <a:cubicBezTo>
                  <a:pt x="1128" y="67"/>
                  <a:pt x="1150" y="120"/>
                  <a:pt x="1211" y="141"/>
                </a:cubicBezTo>
                <a:cubicBezTo>
                  <a:pt x="1261" y="158"/>
                  <a:pt x="1234" y="150"/>
                  <a:pt x="1293" y="165"/>
                </a:cubicBezTo>
                <a:cubicBezTo>
                  <a:pt x="1324" y="157"/>
                  <a:pt x="1357" y="154"/>
                  <a:pt x="1387" y="141"/>
                </a:cubicBezTo>
                <a:cubicBezTo>
                  <a:pt x="1583" y="57"/>
                  <a:pt x="1367" y="117"/>
                  <a:pt x="1505" y="82"/>
                </a:cubicBezTo>
                <a:cubicBezTo>
                  <a:pt x="1553" y="51"/>
                  <a:pt x="1604" y="18"/>
                  <a:pt x="1658" y="0"/>
                </a:cubicBezTo>
                <a:cubicBezTo>
                  <a:pt x="1756" y="34"/>
                  <a:pt x="1863" y="21"/>
                  <a:pt x="1963" y="47"/>
                </a:cubicBezTo>
                <a:cubicBezTo>
                  <a:pt x="2012" y="59"/>
                  <a:pt x="2018" y="72"/>
                  <a:pt x="2069" y="106"/>
                </a:cubicBezTo>
                <a:cubicBezTo>
                  <a:pt x="2113" y="135"/>
                  <a:pt x="2197" y="145"/>
                  <a:pt x="2245" y="153"/>
                </a:cubicBezTo>
                <a:cubicBezTo>
                  <a:pt x="2269" y="145"/>
                  <a:pt x="2292" y="137"/>
                  <a:pt x="2316" y="129"/>
                </a:cubicBezTo>
                <a:cubicBezTo>
                  <a:pt x="2328" y="125"/>
                  <a:pt x="2351" y="118"/>
                  <a:pt x="2351" y="118"/>
                </a:cubicBezTo>
                <a:cubicBezTo>
                  <a:pt x="2420" y="73"/>
                  <a:pt x="2471" y="51"/>
                  <a:pt x="2551" y="35"/>
                </a:cubicBezTo>
                <a:cubicBezTo>
                  <a:pt x="2598" y="43"/>
                  <a:pt x="2618" y="42"/>
                  <a:pt x="2657" y="59"/>
                </a:cubicBezTo>
                <a:cubicBezTo>
                  <a:pt x="2706" y="80"/>
                  <a:pt x="2757" y="111"/>
                  <a:pt x="2810" y="118"/>
                </a:cubicBezTo>
                <a:cubicBezTo>
                  <a:pt x="2865" y="126"/>
                  <a:pt x="2974" y="141"/>
                  <a:pt x="2974" y="141"/>
                </a:cubicBezTo>
                <a:cubicBezTo>
                  <a:pt x="3085" y="125"/>
                  <a:pt x="3180" y="78"/>
                  <a:pt x="3292" y="59"/>
                </a:cubicBezTo>
                <a:cubicBezTo>
                  <a:pt x="3384" y="27"/>
                  <a:pt x="3410" y="38"/>
                  <a:pt x="3527" y="47"/>
                </a:cubicBezTo>
                <a:cubicBezTo>
                  <a:pt x="3550" y="55"/>
                  <a:pt x="3574" y="63"/>
                  <a:pt x="3597" y="71"/>
                </a:cubicBezTo>
                <a:cubicBezTo>
                  <a:pt x="3609" y="75"/>
                  <a:pt x="3632" y="82"/>
                  <a:pt x="3632" y="82"/>
                </a:cubicBezTo>
                <a:cubicBezTo>
                  <a:pt x="3703" y="129"/>
                  <a:pt x="3760" y="131"/>
                  <a:pt x="3844" y="141"/>
                </a:cubicBezTo>
                <a:cubicBezTo>
                  <a:pt x="3935" y="131"/>
                  <a:pt x="4025" y="117"/>
                  <a:pt x="4114" y="94"/>
                </a:cubicBezTo>
                <a:cubicBezTo>
                  <a:pt x="4171" y="57"/>
                  <a:pt x="4236" y="39"/>
                  <a:pt x="4302" y="24"/>
                </a:cubicBezTo>
                <a:cubicBezTo>
                  <a:pt x="4337" y="28"/>
                  <a:pt x="4373" y="28"/>
                  <a:pt x="4408" y="35"/>
                </a:cubicBezTo>
                <a:cubicBezTo>
                  <a:pt x="4531" y="59"/>
                  <a:pt x="4436" y="48"/>
                  <a:pt x="4514" y="82"/>
                </a:cubicBezTo>
                <a:cubicBezTo>
                  <a:pt x="4537" y="92"/>
                  <a:pt x="4563" y="95"/>
                  <a:pt x="4585" y="106"/>
                </a:cubicBezTo>
                <a:cubicBezTo>
                  <a:pt x="4655" y="141"/>
                  <a:pt x="4689" y="159"/>
                  <a:pt x="4761" y="176"/>
                </a:cubicBezTo>
                <a:cubicBezTo>
                  <a:pt x="4845" y="156"/>
                  <a:pt x="4953" y="146"/>
                  <a:pt x="5031" y="106"/>
                </a:cubicBezTo>
                <a:cubicBezTo>
                  <a:pt x="5068" y="87"/>
                  <a:pt x="5118" y="59"/>
                  <a:pt x="5161" y="59"/>
                </a:cubicBezTo>
              </a:path>
            </a:pathLst>
          </a:custGeom>
          <a:noFill/>
          <a:ln w="76320">
            <a:solidFill>
              <a:srgbClr val="0000c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9" name="Text Box 1029"/>
          <p:cNvSpPr/>
          <p:nvPr/>
        </p:nvSpPr>
        <p:spPr>
          <a:xfrm>
            <a:off x="3962520" y="220968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a:t>
            </a:r>
            <a:endParaRPr b="0" lang="en-US" sz="2800" spc="-1" strike="noStrike">
              <a:solidFill>
                <a:srgbClr val="000000"/>
              </a:solidFill>
              <a:latin typeface="Arial"/>
            </a:endParaRPr>
          </a:p>
        </p:txBody>
      </p:sp>
      <p:sp>
        <p:nvSpPr>
          <p:cNvPr id="340" name="Text Box 1030"/>
          <p:cNvSpPr/>
          <p:nvPr/>
        </p:nvSpPr>
        <p:spPr>
          <a:xfrm>
            <a:off x="3505320" y="321480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Arial"/>
            </a:endParaRPr>
          </a:p>
        </p:txBody>
      </p:sp>
      <p:sp>
        <p:nvSpPr>
          <p:cNvPr id="341" name="Text Box 1031"/>
          <p:cNvSpPr/>
          <p:nvPr/>
        </p:nvSpPr>
        <p:spPr>
          <a:xfrm>
            <a:off x="3124080" y="533412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odels</a:t>
            </a:r>
            <a:endParaRPr b="0" lang="en-US" sz="2800" spc="-1" strike="noStrike">
              <a:solidFill>
                <a:srgbClr val="000000"/>
              </a:solidFill>
              <a:latin typeface="Arial"/>
            </a:endParaRPr>
          </a:p>
        </p:txBody>
      </p:sp>
      <p:sp>
        <p:nvSpPr>
          <p:cNvPr id="342" name="Text Box 1032"/>
          <p:cNvSpPr/>
          <p:nvPr/>
        </p:nvSpPr>
        <p:spPr>
          <a:xfrm>
            <a:off x="2666880" y="4191120"/>
            <a:ext cx="403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s</a:t>
            </a:r>
            <a:endParaRPr b="0" lang="en-US" sz="2800" spc="-1" strike="noStrike">
              <a:solidFill>
                <a:srgbClr val="000000"/>
              </a:solidFill>
              <a:latin typeface="Arial"/>
            </a:endParaRPr>
          </a:p>
        </p:txBody>
      </p:sp>
      <p:sp>
        <p:nvSpPr>
          <p:cNvPr id="343" name="Freeform 10"/>
          <p:cNvSpPr/>
          <p:nvPr/>
        </p:nvSpPr>
        <p:spPr>
          <a:xfrm>
            <a:off x="1390680" y="3165480"/>
            <a:ext cx="2000160" cy="3197160"/>
          </a:xfrm>
          <a:custGeom>
            <a:avLst/>
            <a:gdLst>
              <a:gd name="textAreaLeft" fmla="*/ 0 w 2000160"/>
              <a:gd name="textAreaRight" fmla="*/ 2000520 w 2000160"/>
              <a:gd name="textAreaTop" fmla="*/ 0 h 3197160"/>
              <a:gd name="textAreaBottom" fmla="*/ 3197520 h 3197160"/>
            </a:gdLst>
            <a:ahLst/>
            <a:rect l="textAreaLeft" t="textAreaTop" r="textAreaRight" b="textAreaBottom"/>
            <a:pathLst>
              <a:path w="1260" h="2014">
                <a:moveTo>
                  <a:pt x="1260" y="574"/>
                </a:moveTo>
                <a:cubicBezTo>
                  <a:pt x="1256" y="562"/>
                  <a:pt x="1257" y="547"/>
                  <a:pt x="1248" y="538"/>
                </a:cubicBezTo>
                <a:cubicBezTo>
                  <a:pt x="1228" y="518"/>
                  <a:pt x="1176" y="490"/>
                  <a:pt x="1176" y="490"/>
                </a:cubicBezTo>
                <a:cubicBezTo>
                  <a:pt x="1168" y="478"/>
                  <a:pt x="1162" y="464"/>
                  <a:pt x="1152" y="454"/>
                </a:cubicBezTo>
                <a:cubicBezTo>
                  <a:pt x="1142" y="444"/>
                  <a:pt x="1125" y="441"/>
                  <a:pt x="1116" y="430"/>
                </a:cubicBezTo>
                <a:cubicBezTo>
                  <a:pt x="1097" y="408"/>
                  <a:pt x="1068" y="358"/>
                  <a:pt x="1068" y="358"/>
                </a:cubicBezTo>
                <a:cubicBezTo>
                  <a:pt x="1058" y="317"/>
                  <a:pt x="1042" y="279"/>
                  <a:pt x="1032" y="238"/>
                </a:cubicBezTo>
                <a:cubicBezTo>
                  <a:pt x="1028" y="222"/>
                  <a:pt x="1031" y="202"/>
                  <a:pt x="1020" y="190"/>
                </a:cubicBezTo>
                <a:cubicBezTo>
                  <a:pt x="979" y="144"/>
                  <a:pt x="920" y="132"/>
                  <a:pt x="864" y="118"/>
                </a:cubicBezTo>
                <a:cubicBezTo>
                  <a:pt x="833" y="72"/>
                  <a:pt x="785" y="28"/>
                  <a:pt x="732" y="10"/>
                </a:cubicBezTo>
                <a:cubicBezTo>
                  <a:pt x="672" y="15"/>
                  <a:pt x="602" y="0"/>
                  <a:pt x="552" y="34"/>
                </a:cubicBezTo>
                <a:cubicBezTo>
                  <a:pt x="515" y="59"/>
                  <a:pt x="527" y="114"/>
                  <a:pt x="492" y="142"/>
                </a:cubicBezTo>
                <a:cubicBezTo>
                  <a:pt x="435" y="187"/>
                  <a:pt x="348" y="161"/>
                  <a:pt x="276" y="166"/>
                </a:cubicBezTo>
                <a:cubicBezTo>
                  <a:pt x="264" y="170"/>
                  <a:pt x="249" y="169"/>
                  <a:pt x="240" y="178"/>
                </a:cubicBezTo>
                <a:cubicBezTo>
                  <a:pt x="226" y="192"/>
                  <a:pt x="212" y="274"/>
                  <a:pt x="204" y="298"/>
                </a:cubicBezTo>
                <a:cubicBezTo>
                  <a:pt x="200" y="398"/>
                  <a:pt x="198" y="498"/>
                  <a:pt x="192" y="598"/>
                </a:cubicBezTo>
                <a:cubicBezTo>
                  <a:pt x="190" y="622"/>
                  <a:pt x="180" y="646"/>
                  <a:pt x="180" y="670"/>
                </a:cubicBezTo>
                <a:cubicBezTo>
                  <a:pt x="180" y="698"/>
                  <a:pt x="187" y="726"/>
                  <a:pt x="192" y="754"/>
                </a:cubicBezTo>
                <a:cubicBezTo>
                  <a:pt x="199" y="794"/>
                  <a:pt x="216" y="874"/>
                  <a:pt x="216" y="874"/>
                </a:cubicBezTo>
                <a:cubicBezTo>
                  <a:pt x="212" y="926"/>
                  <a:pt x="217" y="979"/>
                  <a:pt x="204" y="1030"/>
                </a:cubicBezTo>
                <a:cubicBezTo>
                  <a:pt x="200" y="1046"/>
                  <a:pt x="178" y="1053"/>
                  <a:pt x="168" y="1066"/>
                </a:cubicBezTo>
                <a:cubicBezTo>
                  <a:pt x="150" y="1089"/>
                  <a:pt x="136" y="1114"/>
                  <a:pt x="120" y="1138"/>
                </a:cubicBezTo>
                <a:cubicBezTo>
                  <a:pt x="104" y="1162"/>
                  <a:pt x="88" y="1186"/>
                  <a:pt x="72" y="1210"/>
                </a:cubicBezTo>
                <a:cubicBezTo>
                  <a:pt x="64" y="1222"/>
                  <a:pt x="48" y="1246"/>
                  <a:pt x="48" y="1246"/>
                </a:cubicBezTo>
                <a:cubicBezTo>
                  <a:pt x="59" y="1376"/>
                  <a:pt x="75" y="1517"/>
                  <a:pt x="0" y="1630"/>
                </a:cubicBezTo>
                <a:cubicBezTo>
                  <a:pt x="7" y="1763"/>
                  <a:pt x="24" y="1883"/>
                  <a:pt x="24" y="201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1"/>
          <p:cNvSpPr/>
          <p:nvPr/>
        </p:nvSpPr>
        <p:spPr>
          <a:xfrm>
            <a:off x="5867280" y="3143160"/>
            <a:ext cx="3033720" cy="3433680"/>
          </a:xfrm>
          <a:custGeom>
            <a:avLst/>
            <a:gdLst>
              <a:gd name="textAreaLeft" fmla="*/ 0 w 3033720"/>
              <a:gd name="textAreaRight" fmla="*/ 3034080 w 3033720"/>
              <a:gd name="textAreaTop" fmla="*/ 0 h 3433680"/>
              <a:gd name="textAreaBottom" fmla="*/ 3434040 h 3433680"/>
            </a:gdLst>
            <a:ahLst/>
            <a:rect l="textAreaLeft" t="textAreaTop" r="textAreaRight" b="textAreaBottom"/>
            <a:pathLst>
              <a:path w="1911" h="2163">
                <a:moveTo>
                  <a:pt x="0" y="0"/>
                </a:moveTo>
                <a:cubicBezTo>
                  <a:pt x="4" y="32"/>
                  <a:pt x="6" y="64"/>
                  <a:pt x="12" y="96"/>
                </a:cubicBezTo>
                <a:cubicBezTo>
                  <a:pt x="28" y="187"/>
                  <a:pt x="110" y="205"/>
                  <a:pt x="180" y="240"/>
                </a:cubicBezTo>
                <a:cubicBezTo>
                  <a:pt x="220" y="300"/>
                  <a:pt x="192" y="268"/>
                  <a:pt x="276" y="324"/>
                </a:cubicBezTo>
                <a:cubicBezTo>
                  <a:pt x="288" y="332"/>
                  <a:pt x="312" y="348"/>
                  <a:pt x="312" y="348"/>
                </a:cubicBezTo>
                <a:cubicBezTo>
                  <a:pt x="328" y="372"/>
                  <a:pt x="351" y="393"/>
                  <a:pt x="360" y="420"/>
                </a:cubicBezTo>
                <a:cubicBezTo>
                  <a:pt x="364" y="432"/>
                  <a:pt x="363" y="447"/>
                  <a:pt x="372" y="456"/>
                </a:cubicBezTo>
                <a:cubicBezTo>
                  <a:pt x="378" y="462"/>
                  <a:pt x="456" y="480"/>
                  <a:pt x="456" y="480"/>
                </a:cubicBezTo>
                <a:cubicBezTo>
                  <a:pt x="510" y="475"/>
                  <a:pt x="666" y="453"/>
                  <a:pt x="720" y="480"/>
                </a:cubicBezTo>
                <a:cubicBezTo>
                  <a:pt x="738" y="489"/>
                  <a:pt x="721" y="523"/>
                  <a:pt x="732" y="540"/>
                </a:cubicBezTo>
                <a:cubicBezTo>
                  <a:pt x="739" y="551"/>
                  <a:pt x="756" y="548"/>
                  <a:pt x="768" y="552"/>
                </a:cubicBezTo>
                <a:cubicBezTo>
                  <a:pt x="780" y="544"/>
                  <a:pt x="796" y="540"/>
                  <a:pt x="804" y="528"/>
                </a:cubicBezTo>
                <a:cubicBezTo>
                  <a:pt x="817" y="507"/>
                  <a:pt x="828" y="456"/>
                  <a:pt x="828" y="456"/>
                </a:cubicBezTo>
                <a:cubicBezTo>
                  <a:pt x="832" y="428"/>
                  <a:pt x="830" y="398"/>
                  <a:pt x="840" y="372"/>
                </a:cubicBezTo>
                <a:cubicBezTo>
                  <a:pt x="877" y="277"/>
                  <a:pt x="892" y="299"/>
                  <a:pt x="984" y="288"/>
                </a:cubicBezTo>
                <a:cubicBezTo>
                  <a:pt x="1128" y="240"/>
                  <a:pt x="1031" y="263"/>
                  <a:pt x="1284" y="276"/>
                </a:cubicBezTo>
                <a:cubicBezTo>
                  <a:pt x="1363" y="394"/>
                  <a:pt x="1319" y="470"/>
                  <a:pt x="1332" y="648"/>
                </a:cubicBezTo>
                <a:cubicBezTo>
                  <a:pt x="1335" y="692"/>
                  <a:pt x="1361" y="731"/>
                  <a:pt x="1380" y="768"/>
                </a:cubicBezTo>
                <a:cubicBezTo>
                  <a:pt x="1402" y="812"/>
                  <a:pt x="1383" y="809"/>
                  <a:pt x="1404" y="864"/>
                </a:cubicBezTo>
                <a:cubicBezTo>
                  <a:pt x="1409" y="878"/>
                  <a:pt x="1422" y="887"/>
                  <a:pt x="1428" y="900"/>
                </a:cubicBezTo>
                <a:cubicBezTo>
                  <a:pt x="1434" y="911"/>
                  <a:pt x="1436" y="924"/>
                  <a:pt x="1440" y="936"/>
                </a:cubicBezTo>
                <a:cubicBezTo>
                  <a:pt x="1444" y="972"/>
                  <a:pt x="1441" y="1010"/>
                  <a:pt x="1452" y="1044"/>
                </a:cubicBezTo>
                <a:cubicBezTo>
                  <a:pt x="1466" y="1087"/>
                  <a:pt x="1505" y="1121"/>
                  <a:pt x="1536" y="1152"/>
                </a:cubicBezTo>
                <a:cubicBezTo>
                  <a:pt x="1566" y="1241"/>
                  <a:pt x="1652" y="1280"/>
                  <a:pt x="1716" y="1344"/>
                </a:cubicBezTo>
                <a:cubicBezTo>
                  <a:pt x="1726" y="1373"/>
                  <a:pt x="1745" y="1398"/>
                  <a:pt x="1752" y="1428"/>
                </a:cubicBezTo>
                <a:cubicBezTo>
                  <a:pt x="1761" y="1463"/>
                  <a:pt x="1781" y="1576"/>
                  <a:pt x="1788" y="1620"/>
                </a:cubicBezTo>
                <a:cubicBezTo>
                  <a:pt x="1801" y="1699"/>
                  <a:pt x="1803" y="1769"/>
                  <a:pt x="1848" y="1836"/>
                </a:cubicBezTo>
                <a:cubicBezTo>
                  <a:pt x="1861" y="1900"/>
                  <a:pt x="1871" y="1964"/>
                  <a:pt x="1884" y="2028"/>
                </a:cubicBezTo>
                <a:cubicBezTo>
                  <a:pt x="1911" y="2163"/>
                  <a:pt x="1908" y="2147"/>
                  <a:pt x="1908" y="208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2"/>
          <p:cNvSpPr/>
          <p:nvPr/>
        </p:nvSpPr>
        <p:spPr>
          <a:xfrm>
            <a:off x="5981760" y="3543480"/>
            <a:ext cx="2755800" cy="3205080"/>
          </a:xfrm>
          <a:custGeom>
            <a:avLst/>
            <a:gdLst>
              <a:gd name="textAreaLeft" fmla="*/ 0 w 2755800"/>
              <a:gd name="textAreaRight" fmla="*/ 2756160 w 2755800"/>
              <a:gd name="textAreaTop" fmla="*/ 0 h 3205080"/>
              <a:gd name="textAreaBottom" fmla="*/ 3205440 h 3205080"/>
            </a:gdLst>
            <a:ahLst/>
            <a:rect l="textAreaLeft" t="textAreaTop" r="textAreaRight" b="textAreaBottom"/>
            <a:pathLst>
              <a:path w="1736" h="2019">
                <a:moveTo>
                  <a:pt x="0" y="0"/>
                </a:moveTo>
                <a:cubicBezTo>
                  <a:pt x="17" y="85"/>
                  <a:pt x="10" y="103"/>
                  <a:pt x="96" y="132"/>
                </a:cubicBezTo>
                <a:cubicBezTo>
                  <a:pt x="112" y="180"/>
                  <a:pt x="116" y="228"/>
                  <a:pt x="132" y="276"/>
                </a:cubicBezTo>
                <a:cubicBezTo>
                  <a:pt x="136" y="312"/>
                  <a:pt x="135" y="349"/>
                  <a:pt x="144" y="384"/>
                </a:cubicBezTo>
                <a:cubicBezTo>
                  <a:pt x="155" y="426"/>
                  <a:pt x="251" y="455"/>
                  <a:pt x="288" y="480"/>
                </a:cubicBezTo>
                <a:cubicBezTo>
                  <a:pt x="316" y="591"/>
                  <a:pt x="336" y="672"/>
                  <a:pt x="420" y="756"/>
                </a:cubicBezTo>
                <a:cubicBezTo>
                  <a:pt x="427" y="774"/>
                  <a:pt x="450" y="827"/>
                  <a:pt x="456" y="852"/>
                </a:cubicBezTo>
                <a:cubicBezTo>
                  <a:pt x="463" y="879"/>
                  <a:pt x="466" y="921"/>
                  <a:pt x="480" y="948"/>
                </a:cubicBezTo>
                <a:cubicBezTo>
                  <a:pt x="486" y="961"/>
                  <a:pt x="498" y="971"/>
                  <a:pt x="504" y="984"/>
                </a:cubicBezTo>
                <a:cubicBezTo>
                  <a:pt x="514" y="1007"/>
                  <a:pt x="520" y="1032"/>
                  <a:pt x="528" y="1056"/>
                </a:cubicBezTo>
                <a:cubicBezTo>
                  <a:pt x="532" y="1068"/>
                  <a:pt x="530" y="1084"/>
                  <a:pt x="540" y="1092"/>
                </a:cubicBezTo>
                <a:cubicBezTo>
                  <a:pt x="604" y="1140"/>
                  <a:pt x="625" y="1140"/>
                  <a:pt x="708" y="1152"/>
                </a:cubicBezTo>
                <a:cubicBezTo>
                  <a:pt x="741" y="1163"/>
                  <a:pt x="819" y="1178"/>
                  <a:pt x="852" y="1200"/>
                </a:cubicBezTo>
                <a:cubicBezTo>
                  <a:pt x="876" y="1216"/>
                  <a:pt x="924" y="1248"/>
                  <a:pt x="924" y="1248"/>
                </a:cubicBezTo>
                <a:cubicBezTo>
                  <a:pt x="952" y="1290"/>
                  <a:pt x="972" y="1304"/>
                  <a:pt x="1020" y="1320"/>
                </a:cubicBezTo>
                <a:cubicBezTo>
                  <a:pt x="1032" y="1332"/>
                  <a:pt x="1041" y="1348"/>
                  <a:pt x="1056" y="1356"/>
                </a:cubicBezTo>
                <a:cubicBezTo>
                  <a:pt x="1078" y="1368"/>
                  <a:pt x="1107" y="1366"/>
                  <a:pt x="1128" y="1380"/>
                </a:cubicBezTo>
                <a:cubicBezTo>
                  <a:pt x="1140" y="1388"/>
                  <a:pt x="1152" y="1396"/>
                  <a:pt x="1164" y="1404"/>
                </a:cubicBezTo>
                <a:cubicBezTo>
                  <a:pt x="1182" y="1459"/>
                  <a:pt x="1216" y="1506"/>
                  <a:pt x="1236" y="1560"/>
                </a:cubicBezTo>
                <a:cubicBezTo>
                  <a:pt x="1248" y="1593"/>
                  <a:pt x="1242" y="1620"/>
                  <a:pt x="1272" y="1644"/>
                </a:cubicBezTo>
                <a:cubicBezTo>
                  <a:pt x="1316" y="1679"/>
                  <a:pt x="1384" y="1663"/>
                  <a:pt x="1440" y="1668"/>
                </a:cubicBezTo>
                <a:cubicBezTo>
                  <a:pt x="1509" y="1691"/>
                  <a:pt x="1451" y="1661"/>
                  <a:pt x="1488" y="1716"/>
                </a:cubicBezTo>
                <a:cubicBezTo>
                  <a:pt x="1497" y="1730"/>
                  <a:pt x="1514" y="1739"/>
                  <a:pt x="1524" y="1752"/>
                </a:cubicBezTo>
                <a:cubicBezTo>
                  <a:pt x="1559" y="1797"/>
                  <a:pt x="1588" y="1849"/>
                  <a:pt x="1620" y="1896"/>
                </a:cubicBezTo>
                <a:cubicBezTo>
                  <a:pt x="1639" y="1925"/>
                  <a:pt x="1676" y="1935"/>
                  <a:pt x="1704" y="1956"/>
                </a:cubicBezTo>
                <a:cubicBezTo>
                  <a:pt x="1715" y="1989"/>
                  <a:pt x="1736" y="2019"/>
                  <a:pt x="1668" y="1980"/>
                </a:cubicBezTo>
                <a:cubicBezTo>
                  <a:pt x="1630" y="1958"/>
                  <a:pt x="1616" y="1913"/>
                  <a:pt x="1572" y="1884"/>
                </a:cubicBezTo>
                <a:cubicBezTo>
                  <a:pt x="1551" y="1852"/>
                  <a:pt x="1544" y="1837"/>
                  <a:pt x="1512" y="1812"/>
                </a:cubicBezTo>
                <a:cubicBezTo>
                  <a:pt x="1489" y="1794"/>
                  <a:pt x="1460" y="1784"/>
                  <a:pt x="1440" y="1764"/>
                </a:cubicBezTo>
                <a:cubicBezTo>
                  <a:pt x="1428" y="1752"/>
                  <a:pt x="1419" y="1736"/>
                  <a:pt x="1404" y="1728"/>
                </a:cubicBezTo>
                <a:cubicBezTo>
                  <a:pt x="1328" y="1686"/>
                  <a:pt x="1332" y="1732"/>
                  <a:pt x="1332"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3"/>
          <p:cNvSpPr/>
          <p:nvPr/>
        </p:nvSpPr>
        <p:spPr>
          <a:xfrm>
            <a:off x="1401840" y="3695760"/>
            <a:ext cx="1608120" cy="2709720"/>
          </a:xfrm>
          <a:custGeom>
            <a:avLst/>
            <a:gdLst>
              <a:gd name="textAreaLeft" fmla="*/ 0 w 1608120"/>
              <a:gd name="textAreaRight" fmla="*/ 1608480 w 1608120"/>
              <a:gd name="textAreaTop" fmla="*/ 0 h 2709720"/>
              <a:gd name="textAreaBottom" fmla="*/ 2710080 h 2709720"/>
            </a:gdLst>
            <a:ahLst/>
            <a:rect l="textAreaLeft" t="textAreaTop" r="textAreaRight" b="textAreaBottom"/>
            <a:pathLst>
              <a:path w="1013" h="1707">
                <a:moveTo>
                  <a:pt x="1013" y="0"/>
                </a:moveTo>
                <a:cubicBezTo>
                  <a:pt x="956" y="38"/>
                  <a:pt x="951" y="65"/>
                  <a:pt x="929" y="132"/>
                </a:cubicBezTo>
                <a:cubicBezTo>
                  <a:pt x="920" y="159"/>
                  <a:pt x="857" y="180"/>
                  <a:pt x="857" y="180"/>
                </a:cubicBezTo>
                <a:cubicBezTo>
                  <a:pt x="853" y="224"/>
                  <a:pt x="864" y="272"/>
                  <a:pt x="845" y="312"/>
                </a:cubicBezTo>
                <a:cubicBezTo>
                  <a:pt x="833" y="338"/>
                  <a:pt x="773" y="360"/>
                  <a:pt x="773" y="360"/>
                </a:cubicBezTo>
                <a:cubicBezTo>
                  <a:pt x="752" y="422"/>
                  <a:pt x="763" y="491"/>
                  <a:pt x="737" y="552"/>
                </a:cubicBezTo>
                <a:cubicBezTo>
                  <a:pt x="731" y="565"/>
                  <a:pt x="719" y="575"/>
                  <a:pt x="713" y="588"/>
                </a:cubicBezTo>
                <a:cubicBezTo>
                  <a:pt x="707" y="599"/>
                  <a:pt x="707" y="613"/>
                  <a:pt x="701" y="624"/>
                </a:cubicBezTo>
                <a:cubicBezTo>
                  <a:pt x="687" y="649"/>
                  <a:pt x="653" y="696"/>
                  <a:pt x="653" y="696"/>
                </a:cubicBezTo>
                <a:cubicBezTo>
                  <a:pt x="634" y="771"/>
                  <a:pt x="632" y="865"/>
                  <a:pt x="605" y="936"/>
                </a:cubicBezTo>
                <a:cubicBezTo>
                  <a:pt x="586" y="986"/>
                  <a:pt x="545" y="1033"/>
                  <a:pt x="521" y="1080"/>
                </a:cubicBezTo>
                <a:cubicBezTo>
                  <a:pt x="507" y="1107"/>
                  <a:pt x="502" y="1139"/>
                  <a:pt x="485" y="1164"/>
                </a:cubicBezTo>
                <a:cubicBezTo>
                  <a:pt x="459" y="1203"/>
                  <a:pt x="417" y="1235"/>
                  <a:pt x="389" y="1272"/>
                </a:cubicBezTo>
                <a:cubicBezTo>
                  <a:pt x="350" y="1322"/>
                  <a:pt x="342" y="1372"/>
                  <a:pt x="293" y="1404"/>
                </a:cubicBezTo>
                <a:cubicBezTo>
                  <a:pt x="284" y="1430"/>
                  <a:pt x="279" y="1457"/>
                  <a:pt x="257" y="1476"/>
                </a:cubicBezTo>
                <a:cubicBezTo>
                  <a:pt x="235" y="1495"/>
                  <a:pt x="185" y="1524"/>
                  <a:pt x="185" y="1524"/>
                </a:cubicBezTo>
                <a:cubicBezTo>
                  <a:pt x="169" y="1548"/>
                  <a:pt x="161" y="1580"/>
                  <a:pt x="137" y="1596"/>
                </a:cubicBezTo>
                <a:cubicBezTo>
                  <a:pt x="113" y="1612"/>
                  <a:pt x="65" y="1644"/>
                  <a:pt x="65" y="1644"/>
                </a:cubicBezTo>
                <a:cubicBezTo>
                  <a:pt x="57" y="1656"/>
                  <a:pt x="51" y="1670"/>
                  <a:pt x="41" y="1680"/>
                </a:cubicBezTo>
                <a:cubicBezTo>
                  <a:pt x="31" y="1690"/>
                  <a:pt x="18" y="1698"/>
                  <a:pt x="5" y="1704"/>
                </a:cubicBezTo>
                <a:cubicBezTo>
                  <a:pt x="0" y="1707"/>
                  <a:pt x="13" y="1696"/>
                  <a:pt x="17"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4"/>
          <p:cNvSpPr/>
          <p:nvPr/>
        </p:nvSpPr>
        <p:spPr>
          <a:xfrm>
            <a:off x="6210360" y="4035600"/>
            <a:ext cx="2476440" cy="2798640"/>
          </a:xfrm>
          <a:custGeom>
            <a:avLst/>
            <a:gdLst>
              <a:gd name="textAreaLeft" fmla="*/ 0 w 2476440"/>
              <a:gd name="textAreaRight" fmla="*/ 2476800 w 2476440"/>
              <a:gd name="textAreaTop" fmla="*/ 0 h 2798640"/>
              <a:gd name="textAreaBottom" fmla="*/ 2798640 h 2798640"/>
            </a:gdLst>
            <a:ahLst/>
            <a:rect l="textAreaLeft" t="textAreaTop" r="textAreaRight" b="textAreaBottom"/>
            <a:pathLst>
              <a:path w="1560" h="1763">
                <a:moveTo>
                  <a:pt x="0" y="26"/>
                </a:moveTo>
                <a:cubicBezTo>
                  <a:pt x="20" y="30"/>
                  <a:pt x="40" y="33"/>
                  <a:pt x="60" y="38"/>
                </a:cubicBezTo>
                <a:cubicBezTo>
                  <a:pt x="72" y="41"/>
                  <a:pt x="91" y="38"/>
                  <a:pt x="96" y="50"/>
                </a:cubicBezTo>
                <a:cubicBezTo>
                  <a:pt x="109" y="84"/>
                  <a:pt x="91" y="126"/>
                  <a:pt x="108" y="158"/>
                </a:cubicBezTo>
                <a:cubicBezTo>
                  <a:pt x="122" y="183"/>
                  <a:pt x="180" y="206"/>
                  <a:pt x="180" y="206"/>
                </a:cubicBezTo>
                <a:cubicBezTo>
                  <a:pt x="210" y="296"/>
                  <a:pt x="232" y="390"/>
                  <a:pt x="300" y="458"/>
                </a:cubicBezTo>
                <a:cubicBezTo>
                  <a:pt x="304" y="470"/>
                  <a:pt x="306" y="483"/>
                  <a:pt x="312" y="494"/>
                </a:cubicBezTo>
                <a:cubicBezTo>
                  <a:pt x="326" y="519"/>
                  <a:pt x="360" y="566"/>
                  <a:pt x="360" y="566"/>
                </a:cubicBezTo>
                <a:cubicBezTo>
                  <a:pt x="366" y="610"/>
                  <a:pt x="352" y="666"/>
                  <a:pt x="384" y="698"/>
                </a:cubicBezTo>
                <a:cubicBezTo>
                  <a:pt x="428" y="742"/>
                  <a:pt x="480" y="750"/>
                  <a:pt x="528" y="782"/>
                </a:cubicBezTo>
                <a:cubicBezTo>
                  <a:pt x="556" y="823"/>
                  <a:pt x="583" y="850"/>
                  <a:pt x="624" y="878"/>
                </a:cubicBezTo>
                <a:cubicBezTo>
                  <a:pt x="671" y="948"/>
                  <a:pt x="619" y="887"/>
                  <a:pt x="696" y="926"/>
                </a:cubicBezTo>
                <a:cubicBezTo>
                  <a:pt x="750" y="953"/>
                  <a:pt x="820" y="1027"/>
                  <a:pt x="876" y="1046"/>
                </a:cubicBezTo>
                <a:cubicBezTo>
                  <a:pt x="946" y="1069"/>
                  <a:pt x="968" y="1078"/>
                  <a:pt x="1020" y="1130"/>
                </a:cubicBezTo>
                <a:cubicBezTo>
                  <a:pt x="1029" y="1158"/>
                  <a:pt x="1033" y="1187"/>
                  <a:pt x="1044" y="1214"/>
                </a:cubicBezTo>
                <a:cubicBezTo>
                  <a:pt x="1050" y="1227"/>
                  <a:pt x="1062" y="1237"/>
                  <a:pt x="1068" y="1250"/>
                </a:cubicBezTo>
                <a:cubicBezTo>
                  <a:pt x="1074" y="1261"/>
                  <a:pt x="1080" y="1299"/>
                  <a:pt x="1080" y="1286"/>
                </a:cubicBezTo>
                <a:cubicBezTo>
                  <a:pt x="1080" y="1227"/>
                  <a:pt x="1068" y="1244"/>
                  <a:pt x="1032" y="1214"/>
                </a:cubicBezTo>
                <a:cubicBezTo>
                  <a:pt x="914" y="1116"/>
                  <a:pt x="1066" y="1236"/>
                  <a:pt x="972" y="1142"/>
                </a:cubicBezTo>
                <a:cubicBezTo>
                  <a:pt x="950" y="1120"/>
                  <a:pt x="922" y="1104"/>
                  <a:pt x="900" y="1082"/>
                </a:cubicBezTo>
                <a:cubicBezTo>
                  <a:pt x="892" y="1094"/>
                  <a:pt x="876" y="1104"/>
                  <a:pt x="876" y="1118"/>
                </a:cubicBezTo>
                <a:cubicBezTo>
                  <a:pt x="876" y="1185"/>
                  <a:pt x="895" y="1187"/>
                  <a:pt x="936" y="1214"/>
                </a:cubicBezTo>
                <a:cubicBezTo>
                  <a:pt x="972" y="1268"/>
                  <a:pt x="1019" y="1290"/>
                  <a:pt x="1080" y="1310"/>
                </a:cubicBezTo>
                <a:cubicBezTo>
                  <a:pt x="1096" y="1302"/>
                  <a:pt x="1121" y="1303"/>
                  <a:pt x="1128" y="1286"/>
                </a:cubicBezTo>
                <a:cubicBezTo>
                  <a:pt x="1133" y="1273"/>
                  <a:pt x="1115" y="1259"/>
                  <a:pt x="1104" y="1250"/>
                </a:cubicBezTo>
                <a:cubicBezTo>
                  <a:pt x="1046" y="1199"/>
                  <a:pt x="993" y="1194"/>
                  <a:pt x="924" y="1166"/>
                </a:cubicBezTo>
                <a:cubicBezTo>
                  <a:pt x="912" y="1154"/>
                  <a:pt x="902" y="1139"/>
                  <a:pt x="888" y="1130"/>
                </a:cubicBezTo>
                <a:cubicBezTo>
                  <a:pt x="877" y="1123"/>
                  <a:pt x="861" y="1127"/>
                  <a:pt x="852" y="1118"/>
                </a:cubicBezTo>
                <a:cubicBezTo>
                  <a:pt x="843" y="1109"/>
                  <a:pt x="828" y="1084"/>
                  <a:pt x="840" y="1082"/>
                </a:cubicBezTo>
                <a:cubicBezTo>
                  <a:pt x="865" y="1077"/>
                  <a:pt x="888" y="1098"/>
                  <a:pt x="912" y="1106"/>
                </a:cubicBezTo>
                <a:cubicBezTo>
                  <a:pt x="964" y="1123"/>
                  <a:pt x="936" y="1115"/>
                  <a:pt x="996" y="1130"/>
                </a:cubicBezTo>
                <a:cubicBezTo>
                  <a:pt x="1031" y="1156"/>
                  <a:pt x="1071" y="1175"/>
                  <a:pt x="1104" y="1202"/>
                </a:cubicBezTo>
                <a:cubicBezTo>
                  <a:pt x="1215" y="1293"/>
                  <a:pt x="1132" y="1259"/>
                  <a:pt x="1212" y="1286"/>
                </a:cubicBezTo>
                <a:cubicBezTo>
                  <a:pt x="1247" y="1339"/>
                  <a:pt x="1277" y="1361"/>
                  <a:pt x="1332" y="1394"/>
                </a:cubicBezTo>
                <a:cubicBezTo>
                  <a:pt x="1340" y="1406"/>
                  <a:pt x="1350" y="1417"/>
                  <a:pt x="1356" y="1430"/>
                </a:cubicBezTo>
                <a:cubicBezTo>
                  <a:pt x="1362" y="1441"/>
                  <a:pt x="1362" y="1455"/>
                  <a:pt x="1368" y="1466"/>
                </a:cubicBezTo>
                <a:cubicBezTo>
                  <a:pt x="1400" y="1523"/>
                  <a:pt x="1442" y="1576"/>
                  <a:pt x="1488" y="1622"/>
                </a:cubicBezTo>
                <a:cubicBezTo>
                  <a:pt x="1516" y="1706"/>
                  <a:pt x="1536" y="1686"/>
                  <a:pt x="1476" y="1706"/>
                </a:cubicBezTo>
                <a:cubicBezTo>
                  <a:pt x="1450" y="1671"/>
                  <a:pt x="1437" y="1650"/>
                  <a:pt x="1404" y="1622"/>
                </a:cubicBezTo>
                <a:cubicBezTo>
                  <a:pt x="1393" y="1613"/>
                  <a:pt x="1378" y="1608"/>
                  <a:pt x="1368" y="1598"/>
                </a:cubicBezTo>
                <a:cubicBezTo>
                  <a:pt x="1342" y="1572"/>
                  <a:pt x="1322" y="1540"/>
                  <a:pt x="1296" y="1514"/>
                </a:cubicBezTo>
                <a:cubicBezTo>
                  <a:pt x="1316" y="1575"/>
                  <a:pt x="1384" y="1618"/>
                  <a:pt x="1440" y="1646"/>
                </a:cubicBezTo>
                <a:cubicBezTo>
                  <a:pt x="1448" y="1658"/>
                  <a:pt x="1454" y="1672"/>
                  <a:pt x="1464" y="1682"/>
                </a:cubicBezTo>
                <a:cubicBezTo>
                  <a:pt x="1474" y="1692"/>
                  <a:pt x="1491" y="1695"/>
                  <a:pt x="1500" y="1706"/>
                </a:cubicBezTo>
                <a:cubicBezTo>
                  <a:pt x="1511" y="1720"/>
                  <a:pt x="1511" y="1741"/>
                  <a:pt x="1524" y="1754"/>
                </a:cubicBezTo>
                <a:cubicBezTo>
                  <a:pt x="1533" y="1763"/>
                  <a:pt x="1518" y="1729"/>
                  <a:pt x="1512" y="1718"/>
                </a:cubicBezTo>
                <a:cubicBezTo>
                  <a:pt x="1506" y="1705"/>
                  <a:pt x="1499" y="1691"/>
                  <a:pt x="1488" y="1682"/>
                </a:cubicBezTo>
                <a:cubicBezTo>
                  <a:pt x="1466" y="1663"/>
                  <a:pt x="1416" y="1634"/>
                  <a:pt x="1416" y="1634"/>
                </a:cubicBezTo>
                <a:cubicBezTo>
                  <a:pt x="1388" y="1593"/>
                  <a:pt x="1361" y="1566"/>
                  <a:pt x="1320" y="1538"/>
                </a:cubicBezTo>
                <a:cubicBezTo>
                  <a:pt x="1295" y="1488"/>
                  <a:pt x="1282" y="1461"/>
                  <a:pt x="1236" y="1430"/>
                </a:cubicBezTo>
                <a:cubicBezTo>
                  <a:pt x="1210" y="1536"/>
                  <a:pt x="1239" y="1525"/>
                  <a:pt x="1320" y="1574"/>
                </a:cubicBezTo>
                <a:cubicBezTo>
                  <a:pt x="1367" y="1602"/>
                  <a:pt x="1400" y="1629"/>
                  <a:pt x="1452" y="1646"/>
                </a:cubicBezTo>
                <a:cubicBezTo>
                  <a:pt x="1534" y="1728"/>
                  <a:pt x="1496" y="1699"/>
                  <a:pt x="1560" y="1742"/>
                </a:cubicBezTo>
                <a:cubicBezTo>
                  <a:pt x="1532" y="1657"/>
                  <a:pt x="1466" y="1600"/>
                  <a:pt x="1404" y="1538"/>
                </a:cubicBezTo>
                <a:cubicBezTo>
                  <a:pt x="1359" y="1493"/>
                  <a:pt x="1308" y="1422"/>
                  <a:pt x="1260" y="1382"/>
                </a:cubicBezTo>
                <a:cubicBezTo>
                  <a:pt x="1218" y="1347"/>
                  <a:pt x="1165" y="1333"/>
                  <a:pt x="1116" y="1310"/>
                </a:cubicBezTo>
                <a:cubicBezTo>
                  <a:pt x="1084" y="1295"/>
                  <a:pt x="1051" y="1280"/>
                  <a:pt x="1020" y="1262"/>
                </a:cubicBezTo>
                <a:cubicBezTo>
                  <a:pt x="1003" y="1252"/>
                  <a:pt x="990" y="1235"/>
                  <a:pt x="972" y="1226"/>
                </a:cubicBezTo>
                <a:cubicBezTo>
                  <a:pt x="834" y="1157"/>
                  <a:pt x="1018" y="1279"/>
                  <a:pt x="876" y="1190"/>
                </a:cubicBezTo>
                <a:cubicBezTo>
                  <a:pt x="760" y="1118"/>
                  <a:pt x="634" y="1038"/>
                  <a:pt x="528" y="950"/>
                </a:cubicBezTo>
                <a:cubicBezTo>
                  <a:pt x="460" y="893"/>
                  <a:pt x="421" y="807"/>
                  <a:pt x="348" y="758"/>
                </a:cubicBezTo>
                <a:cubicBezTo>
                  <a:pt x="340" y="746"/>
                  <a:pt x="332" y="734"/>
                  <a:pt x="324" y="722"/>
                </a:cubicBezTo>
                <a:cubicBezTo>
                  <a:pt x="312" y="706"/>
                  <a:pt x="288" y="694"/>
                  <a:pt x="288" y="674"/>
                </a:cubicBezTo>
                <a:cubicBezTo>
                  <a:pt x="288" y="660"/>
                  <a:pt x="313" y="689"/>
                  <a:pt x="324" y="698"/>
                </a:cubicBezTo>
                <a:cubicBezTo>
                  <a:pt x="385" y="749"/>
                  <a:pt x="330" y="727"/>
                  <a:pt x="408" y="746"/>
                </a:cubicBezTo>
                <a:cubicBezTo>
                  <a:pt x="448" y="770"/>
                  <a:pt x="484" y="803"/>
                  <a:pt x="528" y="818"/>
                </a:cubicBezTo>
                <a:cubicBezTo>
                  <a:pt x="614" y="847"/>
                  <a:pt x="579" y="828"/>
                  <a:pt x="636" y="866"/>
                </a:cubicBezTo>
                <a:cubicBezTo>
                  <a:pt x="648" y="862"/>
                  <a:pt x="666" y="865"/>
                  <a:pt x="672" y="854"/>
                </a:cubicBezTo>
                <a:cubicBezTo>
                  <a:pt x="687" y="823"/>
                  <a:pt x="629" y="799"/>
                  <a:pt x="600" y="770"/>
                </a:cubicBezTo>
                <a:cubicBezTo>
                  <a:pt x="590" y="760"/>
                  <a:pt x="586" y="744"/>
                  <a:pt x="576" y="734"/>
                </a:cubicBezTo>
                <a:cubicBezTo>
                  <a:pt x="535" y="693"/>
                  <a:pt x="485" y="679"/>
                  <a:pt x="444" y="638"/>
                </a:cubicBezTo>
                <a:cubicBezTo>
                  <a:pt x="417" y="719"/>
                  <a:pt x="470" y="746"/>
                  <a:pt x="528" y="794"/>
                </a:cubicBezTo>
                <a:cubicBezTo>
                  <a:pt x="535" y="800"/>
                  <a:pt x="588" y="850"/>
                  <a:pt x="588" y="866"/>
                </a:cubicBezTo>
                <a:cubicBezTo>
                  <a:pt x="588" y="875"/>
                  <a:pt x="564" y="854"/>
                  <a:pt x="564" y="854"/>
                </a:cubicBezTo>
                <a:cubicBezTo>
                  <a:pt x="556" y="842"/>
                  <a:pt x="549" y="829"/>
                  <a:pt x="540" y="818"/>
                </a:cubicBezTo>
                <a:cubicBezTo>
                  <a:pt x="529" y="805"/>
                  <a:pt x="514" y="796"/>
                  <a:pt x="504" y="782"/>
                </a:cubicBezTo>
                <a:cubicBezTo>
                  <a:pt x="477" y="744"/>
                  <a:pt x="456" y="702"/>
                  <a:pt x="432" y="662"/>
                </a:cubicBezTo>
                <a:cubicBezTo>
                  <a:pt x="407" y="621"/>
                  <a:pt x="370" y="585"/>
                  <a:pt x="348" y="542"/>
                </a:cubicBezTo>
                <a:cubicBezTo>
                  <a:pt x="298" y="443"/>
                  <a:pt x="381" y="573"/>
                  <a:pt x="312" y="470"/>
                </a:cubicBezTo>
                <a:cubicBezTo>
                  <a:pt x="286" y="339"/>
                  <a:pt x="319" y="476"/>
                  <a:pt x="276" y="362"/>
                </a:cubicBezTo>
                <a:cubicBezTo>
                  <a:pt x="270" y="347"/>
                  <a:pt x="273" y="328"/>
                  <a:pt x="264" y="314"/>
                </a:cubicBezTo>
                <a:cubicBezTo>
                  <a:pt x="256" y="302"/>
                  <a:pt x="240" y="298"/>
                  <a:pt x="228" y="290"/>
                </a:cubicBezTo>
                <a:cubicBezTo>
                  <a:pt x="204" y="254"/>
                  <a:pt x="180" y="218"/>
                  <a:pt x="156" y="182"/>
                </a:cubicBezTo>
                <a:cubicBezTo>
                  <a:pt x="139" y="156"/>
                  <a:pt x="104" y="146"/>
                  <a:pt x="84" y="122"/>
                </a:cubicBezTo>
                <a:cubicBezTo>
                  <a:pt x="34" y="62"/>
                  <a:pt x="90" y="106"/>
                  <a:pt x="24" y="62"/>
                </a:cubicBezTo>
                <a:cubicBezTo>
                  <a:pt x="24" y="62"/>
                  <a:pt x="48" y="78"/>
                  <a:pt x="60" y="86"/>
                </a:cubicBezTo>
                <a:cubicBezTo>
                  <a:pt x="84" y="122"/>
                  <a:pt x="106" y="159"/>
                  <a:pt x="132" y="194"/>
                </a:cubicBezTo>
                <a:cubicBezTo>
                  <a:pt x="144" y="210"/>
                  <a:pt x="156" y="226"/>
                  <a:pt x="168" y="242"/>
                </a:cubicBezTo>
                <a:cubicBezTo>
                  <a:pt x="176" y="254"/>
                  <a:pt x="202" y="288"/>
                  <a:pt x="192" y="278"/>
                </a:cubicBezTo>
                <a:cubicBezTo>
                  <a:pt x="178" y="264"/>
                  <a:pt x="168" y="246"/>
                  <a:pt x="156" y="230"/>
                </a:cubicBezTo>
                <a:cubicBezTo>
                  <a:pt x="139" y="180"/>
                  <a:pt x="110" y="124"/>
                  <a:pt x="72" y="86"/>
                </a:cubicBezTo>
                <a:cubicBezTo>
                  <a:pt x="60" y="74"/>
                  <a:pt x="47" y="63"/>
                  <a:pt x="36" y="50"/>
                </a:cubicBezTo>
                <a:cubicBezTo>
                  <a:pt x="27" y="39"/>
                  <a:pt x="12" y="0"/>
                  <a:pt x="12" y="14"/>
                </a:cubicBezTo>
                <a:cubicBezTo>
                  <a:pt x="12" y="89"/>
                  <a:pt x="26" y="83"/>
                  <a:pt x="72" y="98"/>
                </a:cubicBezTo>
                <a:cubicBezTo>
                  <a:pt x="92" y="157"/>
                  <a:pt x="125" y="199"/>
                  <a:pt x="168" y="242"/>
                </a:cubicBezTo>
                <a:cubicBezTo>
                  <a:pt x="206" y="355"/>
                  <a:pt x="223" y="472"/>
                  <a:pt x="276" y="578"/>
                </a:cubicBezTo>
                <a:cubicBezTo>
                  <a:pt x="282" y="589"/>
                  <a:pt x="280" y="604"/>
                  <a:pt x="288" y="614"/>
                </a:cubicBezTo>
                <a:cubicBezTo>
                  <a:pt x="309" y="641"/>
                  <a:pt x="336" y="662"/>
                  <a:pt x="360" y="686"/>
                </a:cubicBezTo>
                <a:cubicBezTo>
                  <a:pt x="388" y="714"/>
                  <a:pt x="422" y="737"/>
                  <a:pt x="456" y="758"/>
                </a:cubicBezTo>
                <a:cubicBezTo>
                  <a:pt x="494" y="781"/>
                  <a:pt x="576" y="818"/>
                  <a:pt x="576" y="818"/>
                </a:cubicBezTo>
                <a:cubicBezTo>
                  <a:pt x="602" y="857"/>
                  <a:pt x="653" y="954"/>
                  <a:pt x="612" y="830"/>
                </a:cubicBezTo>
                <a:cubicBezTo>
                  <a:pt x="596" y="783"/>
                  <a:pt x="586" y="780"/>
                  <a:pt x="552" y="746"/>
                </a:cubicBezTo>
                <a:cubicBezTo>
                  <a:pt x="585" y="844"/>
                  <a:pt x="686" y="892"/>
                  <a:pt x="756" y="962"/>
                </a:cubicBezTo>
                <a:cubicBezTo>
                  <a:pt x="778" y="984"/>
                  <a:pt x="796" y="1010"/>
                  <a:pt x="816" y="1034"/>
                </a:cubicBezTo>
                <a:cubicBezTo>
                  <a:pt x="825" y="1045"/>
                  <a:pt x="854" y="1070"/>
                  <a:pt x="840" y="1070"/>
                </a:cubicBezTo>
                <a:cubicBezTo>
                  <a:pt x="823" y="1070"/>
                  <a:pt x="817" y="1045"/>
                  <a:pt x="804" y="1034"/>
                </a:cubicBezTo>
                <a:cubicBezTo>
                  <a:pt x="797" y="1028"/>
                  <a:pt x="788" y="1026"/>
                  <a:pt x="780" y="102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5"/>
          <p:cNvSpPr/>
          <p:nvPr/>
        </p:nvSpPr>
        <p:spPr>
          <a:xfrm>
            <a:off x="1481040" y="3697200"/>
            <a:ext cx="1605240" cy="2675160"/>
          </a:xfrm>
          <a:custGeom>
            <a:avLst/>
            <a:gdLst>
              <a:gd name="textAreaLeft" fmla="*/ 0 w 1605240"/>
              <a:gd name="textAreaRight" fmla="*/ 1605600 w 1605240"/>
              <a:gd name="textAreaTop" fmla="*/ 0 h 2675160"/>
              <a:gd name="textAreaBottom" fmla="*/ 2675520 h 2675160"/>
            </a:gdLst>
            <a:ahLst/>
            <a:rect l="textAreaLeft" t="textAreaTop" r="textAreaRight" b="textAreaBottom"/>
            <a:pathLst>
              <a:path w="1011" h="1685">
                <a:moveTo>
                  <a:pt x="867" y="227"/>
                </a:moveTo>
                <a:cubicBezTo>
                  <a:pt x="863" y="243"/>
                  <a:pt x="870" y="268"/>
                  <a:pt x="855" y="275"/>
                </a:cubicBezTo>
                <a:cubicBezTo>
                  <a:pt x="844" y="281"/>
                  <a:pt x="855" y="241"/>
                  <a:pt x="843" y="239"/>
                </a:cubicBezTo>
                <a:cubicBezTo>
                  <a:pt x="825" y="235"/>
                  <a:pt x="811" y="255"/>
                  <a:pt x="795" y="263"/>
                </a:cubicBezTo>
                <a:cubicBezTo>
                  <a:pt x="767" y="347"/>
                  <a:pt x="763" y="311"/>
                  <a:pt x="783" y="371"/>
                </a:cubicBezTo>
                <a:cubicBezTo>
                  <a:pt x="783" y="371"/>
                  <a:pt x="749" y="401"/>
                  <a:pt x="735" y="419"/>
                </a:cubicBezTo>
                <a:cubicBezTo>
                  <a:pt x="724" y="433"/>
                  <a:pt x="711" y="467"/>
                  <a:pt x="711" y="467"/>
                </a:cubicBezTo>
                <a:cubicBezTo>
                  <a:pt x="699" y="463"/>
                  <a:pt x="682" y="444"/>
                  <a:pt x="675" y="455"/>
                </a:cubicBezTo>
                <a:cubicBezTo>
                  <a:pt x="666" y="469"/>
                  <a:pt x="671" y="498"/>
                  <a:pt x="687" y="503"/>
                </a:cubicBezTo>
                <a:cubicBezTo>
                  <a:pt x="701" y="508"/>
                  <a:pt x="721" y="436"/>
                  <a:pt x="723" y="431"/>
                </a:cubicBezTo>
                <a:cubicBezTo>
                  <a:pt x="735" y="443"/>
                  <a:pt x="755" y="450"/>
                  <a:pt x="759" y="467"/>
                </a:cubicBezTo>
                <a:cubicBezTo>
                  <a:pt x="764" y="491"/>
                  <a:pt x="752" y="515"/>
                  <a:pt x="747" y="539"/>
                </a:cubicBezTo>
                <a:cubicBezTo>
                  <a:pt x="744" y="555"/>
                  <a:pt x="746" y="574"/>
                  <a:pt x="735" y="587"/>
                </a:cubicBezTo>
                <a:cubicBezTo>
                  <a:pt x="724" y="601"/>
                  <a:pt x="703" y="603"/>
                  <a:pt x="687" y="611"/>
                </a:cubicBezTo>
                <a:cubicBezTo>
                  <a:pt x="679" y="599"/>
                  <a:pt x="677" y="575"/>
                  <a:pt x="663" y="575"/>
                </a:cubicBezTo>
                <a:cubicBezTo>
                  <a:pt x="650" y="575"/>
                  <a:pt x="676" y="598"/>
                  <a:pt x="675" y="611"/>
                </a:cubicBezTo>
                <a:cubicBezTo>
                  <a:pt x="672" y="636"/>
                  <a:pt x="661" y="660"/>
                  <a:pt x="651" y="683"/>
                </a:cubicBezTo>
                <a:cubicBezTo>
                  <a:pt x="632" y="726"/>
                  <a:pt x="620" y="717"/>
                  <a:pt x="591" y="755"/>
                </a:cubicBezTo>
                <a:cubicBezTo>
                  <a:pt x="561" y="794"/>
                  <a:pt x="536" y="836"/>
                  <a:pt x="507" y="875"/>
                </a:cubicBezTo>
                <a:cubicBezTo>
                  <a:pt x="478" y="961"/>
                  <a:pt x="497" y="926"/>
                  <a:pt x="459" y="983"/>
                </a:cubicBezTo>
                <a:cubicBezTo>
                  <a:pt x="457" y="992"/>
                  <a:pt x="432" y="1088"/>
                  <a:pt x="435" y="1091"/>
                </a:cubicBezTo>
                <a:cubicBezTo>
                  <a:pt x="448" y="1104"/>
                  <a:pt x="468" y="1077"/>
                  <a:pt x="483" y="1067"/>
                </a:cubicBezTo>
                <a:cubicBezTo>
                  <a:pt x="524" y="1038"/>
                  <a:pt x="552" y="988"/>
                  <a:pt x="579" y="947"/>
                </a:cubicBezTo>
                <a:cubicBezTo>
                  <a:pt x="575" y="931"/>
                  <a:pt x="582" y="905"/>
                  <a:pt x="567" y="899"/>
                </a:cubicBezTo>
                <a:cubicBezTo>
                  <a:pt x="451" y="856"/>
                  <a:pt x="483" y="910"/>
                  <a:pt x="495" y="947"/>
                </a:cubicBezTo>
                <a:cubicBezTo>
                  <a:pt x="491" y="983"/>
                  <a:pt x="483" y="1019"/>
                  <a:pt x="483" y="1055"/>
                </a:cubicBezTo>
                <a:cubicBezTo>
                  <a:pt x="483" y="1071"/>
                  <a:pt x="483" y="1019"/>
                  <a:pt x="495" y="1007"/>
                </a:cubicBezTo>
                <a:cubicBezTo>
                  <a:pt x="510" y="992"/>
                  <a:pt x="535" y="991"/>
                  <a:pt x="555" y="983"/>
                </a:cubicBezTo>
                <a:cubicBezTo>
                  <a:pt x="621" y="884"/>
                  <a:pt x="547" y="1024"/>
                  <a:pt x="543" y="1031"/>
                </a:cubicBezTo>
                <a:cubicBezTo>
                  <a:pt x="531" y="1023"/>
                  <a:pt x="521" y="1009"/>
                  <a:pt x="507" y="1007"/>
                </a:cubicBezTo>
                <a:cubicBezTo>
                  <a:pt x="495" y="1005"/>
                  <a:pt x="480" y="1010"/>
                  <a:pt x="471" y="1019"/>
                </a:cubicBezTo>
                <a:cubicBezTo>
                  <a:pt x="429" y="1061"/>
                  <a:pt x="399" y="1127"/>
                  <a:pt x="351" y="1175"/>
                </a:cubicBezTo>
                <a:cubicBezTo>
                  <a:pt x="331" y="1235"/>
                  <a:pt x="276" y="1257"/>
                  <a:pt x="255" y="1319"/>
                </a:cubicBezTo>
                <a:cubicBezTo>
                  <a:pt x="247" y="1343"/>
                  <a:pt x="206" y="1391"/>
                  <a:pt x="231" y="1391"/>
                </a:cubicBezTo>
                <a:cubicBezTo>
                  <a:pt x="247" y="1391"/>
                  <a:pt x="344" y="1266"/>
                  <a:pt x="363" y="1247"/>
                </a:cubicBezTo>
                <a:cubicBezTo>
                  <a:pt x="346" y="1315"/>
                  <a:pt x="311" y="1362"/>
                  <a:pt x="267" y="1415"/>
                </a:cubicBezTo>
                <a:cubicBezTo>
                  <a:pt x="258" y="1426"/>
                  <a:pt x="254" y="1442"/>
                  <a:pt x="243" y="1451"/>
                </a:cubicBezTo>
                <a:cubicBezTo>
                  <a:pt x="229" y="1462"/>
                  <a:pt x="211" y="1466"/>
                  <a:pt x="195" y="1475"/>
                </a:cubicBezTo>
                <a:cubicBezTo>
                  <a:pt x="182" y="1482"/>
                  <a:pt x="159" y="1485"/>
                  <a:pt x="159" y="1499"/>
                </a:cubicBezTo>
                <a:cubicBezTo>
                  <a:pt x="159" y="1512"/>
                  <a:pt x="183" y="1491"/>
                  <a:pt x="195" y="1487"/>
                </a:cubicBezTo>
                <a:cubicBezTo>
                  <a:pt x="166" y="1573"/>
                  <a:pt x="192" y="1545"/>
                  <a:pt x="135" y="1583"/>
                </a:cubicBezTo>
                <a:cubicBezTo>
                  <a:pt x="178" y="1518"/>
                  <a:pt x="159" y="1556"/>
                  <a:pt x="111" y="1583"/>
                </a:cubicBezTo>
                <a:cubicBezTo>
                  <a:pt x="100" y="1589"/>
                  <a:pt x="87" y="1591"/>
                  <a:pt x="75" y="1595"/>
                </a:cubicBezTo>
                <a:cubicBezTo>
                  <a:pt x="15" y="1685"/>
                  <a:pt x="0" y="1678"/>
                  <a:pt x="87" y="1643"/>
                </a:cubicBezTo>
                <a:cubicBezTo>
                  <a:pt x="171" y="1559"/>
                  <a:pt x="278" y="1472"/>
                  <a:pt x="375" y="1403"/>
                </a:cubicBezTo>
                <a:cubicBezTo>
                  <a:pt x="445" y="1353"/>
                  <a:pt x="531" y="1319"/>
                  <a:pt x="579" y="1247"/>
                </a:cubicBezTo>
                <a:cubicBezTo>
                  <a:pt x="583" y="1231"/>
                  <a:pt x="592" y="1215"/>
                  <a:pt x="591" y="1199"/>
                </a:cubicBezTo>
                <a:cubicBezTo>
                  <a:pt x="588" y="1158"/>
                  <a:pt x="602" y="1101"/>
                  <a:pt x="567" y="1079"/>
                </a:cubicBezTo>
                <a:cubicBezTo>
                  <a:pt x="565" y="1077"/>
                  <a:pt x="439" y="1183"/>
                  <a:pt x="423" y="1199"/>
                </a:cubicBezTo>
                <a:cubicBezTo>
                  <a:pt x="396" y="1090"/>
                  <a:pt x="454" y="973"/>
                  <a:pt x="519" y="887"/>
                </a:cubicBezTo>
                <a:cubicBezTo>
                  <a:pt x="523" y="875"/>
                  <a:pt x="521" y="859"/>
                  <a:pt x="531" y="851"/>
                </a:cubicBezTo>
                <a:cubicBezTo>
                  <a:pt x="544" y="841"/>
                  <a:pt x="573" y="824"/>
                  <a:pt x="579" y="839"/>
                </a:cubicBezTo>
                <a:cubicBezTo>
                  <a:pt x="592" y="869"/>
                  <a:pt x="573" y="903"/>
                  <a:pt x="567" y="935"/>
                </a:cubicBezTo>
                <a:cubicBezTo>
                  <a:pt x="565" y="947"/>
                  <a:pt x="555" y="984"/>
                  <a:pt x="555" y="971"/>
                </a:cubicBezTo>
                <a:cubicBezTo>
                  <a:pt x="555" y="882"/>
                  <a:pt x="591" y="791"/>
                  <a:pt x="639" y="719"/>
                </a:cubicBezTo>
                <a:cubicBezTo>
                  <a:pt x="649" y="642"/>
                  <a:pt x="667" y="588"/>
                  <a:pt x="687" y="515"/>
                </a:cubicBezTo>
                <a:cubicBezTo>
                  <a:pt x="697" y="478"/>
                  <a:pt x="711" y="443"/>
                  <a:pt x="723" y="407"/>
                </a:cubicBezTo>
                <a:cubicBezTo>
                  <a:pt x="727" y="395"/>
                  <a:pt x="735" y="371"/>
                  <a:pt x="735" y="371"/>
                </a:cubicBezTo>
                <a:cubicBezTo>
                  <a:pt x="728" y="423"/>
                  <a:pt x="728" y="469"/>
                  <a:pt x="699" y="515"/>
                </a:cubicBezTo>
                <a:cubicBezTo>
                  <a:pt x="690" y="529"/>
                  <a:pt x="651" y="539"/>
                  <a:pt x="663" y="551"/>
                </a:cubicBezTo>
                <a:cubicBezTo>
                  <a:pt x="677" y="565"/>
                  <a:pt x="703" y="543"/>
                  <a:pt x="723" y="539"/>
                </a:cubicBezTo>
                <a:cubicBezTo>
                  <a:pt x="772" y="506"/>
                  <a:pt x="814" y="470"/>
                  <a:pt x="867" y="443"/>
                </a:cubicBezTo>
                <a:cubicBezTo>
                  <a:pt x="895" y="411"/>
                  <a:pt x="922" y="378"/>
                  <a:pt x="951" y="347"/>
                </a:cubicBezTo>
                <a:cubicBezTo>
                  <a:pt x="992" y="302"/>
                  <a:pt x="1011" y="299"/>
                  <a:pt x="939" y="335"/>
                </a:cubicBezTo>
                <a:cubicBezTo>
                  <a:pt x="861" y="452"/>
                  <a:pt x="983" y="270"/>
                  <a:pt x="879" y="419"/>
                </a:cubicBezTo>
                <a:cubicBezTo>
                  <a:pt x="862" y="443"/>
                  <a:pt x="831" y="491"/>
                  <a:pt x="831" y="491"/>
                </a:cubicBezTo>
                <a:cubicBezTo>
                  <a:pt x="823" y="459"/>
                  <a:pt x="815" y="427"/>
                  <a:pt x="807" y="395"/>
                </a:cubicBezTo>
                <a:cubicBezTo>
                  <a:pt x="803" y="379"/>
                  <a:pt x="795" y="347"/>
                  <a:pt x="795" y="347"/>
                </a:cubicBezTo>
                <a:cubicBezTo>
                  <a:pt x="811" y="323"/>
                  <a:pt x="829" y="300"/>
                  <a:pt x="843" y="275"/>
                </a:cubicBezTo>
                <a:cubicBezTo>
                  <a:pt x="861" y="244"/>
                  <a:pt x="891" y="179"/>
                  <a:pt x="891" y="179"/>
                </a:cubicBezTo>
                <a:cubicBezTo>
                  <a:pt x="887" y="127"/>
                  <a:pt x="900" y="71"/>
                  <a:pt x="879" y="23"/>
                </a:cubicBezTo>
                <a:cubicBezTo>
                  <a:pt x="869" y="0"/>
                  <a:pt x="863" y="71"/>
                  <a:pt x="855" y="95"/>
                </a:cubicBezTo>
                <a:cubicBezTo>
                  <a:pt x="834" y="159"/>
                  <a:pt x="816" y="223"/>
                  <a:pt x="795" y="287"/>
                </a:cubicBezTo>
                <a:cubicBezTo>
                  <a:pt x="821" y="391"/>
                  <a:pt x="817" y="293"/>
                  <a:pt x="807" y="263"/>
                </a:cubicBezTo>
                <a:cubicBezTo>
                  <a:pt x="740" y="285"/>
                  <a:pt x="725" y="357"/>
                  <a:pt x="675" y="407"/>
                </a:cubicBezTo>
                <a:cubicBezTo>
                  <a:pt x="656" y="464"/>
                  <a:pt x="626" y="514"/>
                  <a:pt x="615" y="575"/>
                </a:cubicBezTo>
                <a:cubicBezTo>
                  <a:pt x="601" y="652"/>
                  <a:pt x="599" y="725"/>
                  <a:pt x="555" y="791"/>
                </a:cubicBezTo>
                <a:cubicBezTo>
                  <a:pt x="551" y="811"/>
                  <a:pt x="550" y="832"/>
                  <a:pt x="543" y="851"/>
                </a:cubicBezTo>
                <a:cubicBezTo>
                  <a:pt x="538" y="865"/>
                  <a:pt x="533" y="887"/>
                  <a:pt x="519" y="887"/>
                </a:cubicBezTo>
                <a:cubicBezTo>
                  <a:pt x="505" y="887"/>
                  <a:pt x="503" y="863"/>
                  <a:pt x="495" y="851"/>
                </a:cubicBezTo>
                <a:cubicBezTo>
                  <a:pt x="479" y="898"/>
                  <a:pt x="452" y="935"/>
                  <a:pt x="435" y="983"/>
                </a:cubicBezTo>
                <a:cubicBezTo>
                  <a:pt x="426" y="1007"/>
                  <a:pt x="419" y="1031"/>
                  <a:pt x="411" y="1055"/>
                </a:cubicBezTo>
                <a:cubicBezTo>
                  <a:pt x="407" y="1067"/>
                  <a:pt x="399" y="1091"/>
                  <a:pt x="399" y="1091"/>
                </a:cubicBezTo>
                <a:cubicBezTo>
                  <a:pt x="399" y="1091"/>
                  <a:pt x="407" y="1067"/>
                  <a:pt x="411" y="1055"/>
                </a:cubicBezTo>
                <a:cubicBezTo>
                  <a:pt x="415" y="1044"/>
                  <a:pt x="470" y="972"/>
                  <a:pt x="471" y="971"/>
                </a:cubicBezTo>
                <a:lnTo>
                  <a:pt x="459" y="1007"/>
                </a:lnTo>
                <a:cubicBezTo>
                  <a:pt x="471" y="1011"/>
                  <a:pt x="483" y="1021"/>
                  <a:pt x="495" y="1019"/>
                </a:cubicBezTo>
                <a:cubicBezTo>
                  <a:pt x="509" y="1017"/>
                  <a:pt x="531" y="1009"/>
                  <a:pt x="531" y="995"/>
                </a:cubicBezTo>
                <a:cubicBezTo>
                  <a:pt x="531" y="982"/>
                  <a:pt x="507" y="1003"/>
                  <a:pt x="495" y="1007"/>
                </a:cubicBezTo>
                <a:cubicBezTo>
                  <a:pt x="479" y="1023"/>
                  <a:pt x="461" y="1037"/>
                  <a:pt x="447" y="1055"/>
                </a:cubicBezTo>
                <a:cubicBezTo>
                  <a:pt x="429" y="1078"/>
                  <a:pt x="399" y="1127"/>
                  <a:pt x="399" y="1127"/>
                </a:cubicBezTo>
                <a:cubicBezTo>
                  <a:pt x="414" y="1067"/>
                  <a:pt x="411" y="1095"/>
                  <a:pt x="411" y="1043"/>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6"/>
          <p:cNvSpPr/>
          <p:nvPr/>
        </p:nvSpPr>
        <p:spPr>
          <a:xfrm>
            <a:off x="247680" y="4457880"/>
            <a:ext cx="1447920" cy="1981080"/>
          </a:xfrm>
          <a:custGeom>
            <a:avLst/>
            <a:gdLst>
              <a:gd name="textAreaLeft" fmla="*/ 0 w 1447920"/>
              <a:gd name="textAreaRight" fmla="*/ 1448280 w 1447920"/>
              <a:gd name="textAreaTop" fmla="*/ 0 h 1981080"/>
              <a:gd name="textAreaBottom" fmla="*/ 1981440 h 1981080"/>
            </a:gdLst>
            <a:ahLst/>
            <a:rect l="textAreaLeft" t="textAreaTop" r="textAreaRight" b="textAreaBottom"/>
            <a:pathLst>
              <a:path w="912" h="1248">
                <a:moveTo>
                  <a:pt x="912" y="0"/>
                </a:moveTo>
                <a:cubicBezTo>
                  <a:pt x="826" y="57"/>
                  <a:pt x="791" y="125"/>
                  <a:pt x="732" y="204"/>
                </a:cubicBezTo>
                <a:cubicBezTo>
                  <a:pt x="724" y="215"/>
                  <a:pt x="681" y="270"/>
                  <a:pt x="672" y="288"/>
                </a:cubicBezTo>
                <a:cubicBezTo>
                  <a:pt x="593" y="446"/>
                  <a:pt x="683" y="302"/>
                  <a:pt x="588" y="444"/>
                </a:cubicBezTo>
                <a:cubicBezTo>
                  <a:pt x="566" y="477"/>
                  <a:pt x="506" y="463"/>
                  <a:pt x="480" y="492"/>
                </a:cubicBezTo>
                <a:cubicBezTo>
                  <a:pt x="453" y="522"/>
                  <a:pt x="436" y="560"/>
                  <a:pt x="408" y="588"/>
                </a:cubicBezTo>
                <a:cubicBezTo>
                  <a:pt x="396" y="600"/>
                  <a:pt x="384" y="612"/>
                  <a:pt x="372" y="624"/>
                </a:cubicBezTo>
                <a:cubicBezTo>
                  <a:pt x="368" y="636"/>
                  <a:pt x="369" y="651"/>
                  <a:pt x="360" y="660"/>
                </a:cubicBezTo>
                <a:cubicBezTo>
                  <a:pt x="354" y="666"/>
                  <a:pt x="231" y="758"/>
                  <a:pt x="216" y="768"/>
                </a:cubicBezTo>
                <a:cubicBezTo>
                  <a:pt x="188" y="810"/>
                  <a:pt x="180" y="840"/>
                  <a:pt x="144" y="876"/>
                </a:cubicBezTo>
                <a:cubicBezTo>
                  <a:pt x="127" y="928"/>
                  <a:pt x="94" y="971"/>
                  <a:pt x="72" y="1020"/>
                </a:cubicBezTo>
                <a:cubicBezTo>
                  <a:pt x="39" y="1093"/>
                  <a:pt x="36" y="1177"/>
                  <a:pt x="0" y="124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7"/>
          <p:cNvSpPr/>
          <p:nvPr/>
        </p:nvSpPr>
        <p:spPr>
          <a:xfrm>
            <a:off x="990720" y="5721480"/>
            <a:ext cx="642960" cy="1014120"/>
          </a:xfrm>
          <a:custGeom>
            <a:avLst/>
            <a:gdLst>
              <a:gd name="textAreaLeft" fmla="*/ 0 w 642960"/>
              <a:gd name="textAreaRight" fmla="*/ 643320 w 642960"/>
              <a:gd name="textAreaTop" fmla="*/ 0 h 1014120"/>
              <a:gd name="textAreaBottom" fmla="*/ 1014480 h 1014120"/>
            </a:gdLst>
            <a:ahLst/>
            <a:rect l="textAreaLeft" t="textAreaTop" r="textAreaRight" b="textAreaBottom"/>
            <a:pathLst>
              <a:path w="405" h="639">
                <a:moveTo>
                  <a:pt x="288" y="32"/>
                </a:moveTo>
                <a:cubicBezTo>
                  <a:pt x="282" y="34"/>
                  <a:pt x="212" y="54"/>
                  <a:pt x="216" y="68"/>
                </a:cubicBezTo>
                <a:cubicBezTo>
                  <a:pt x="220" y="85"/>
                  <a:pt x="301" y="101"/>
                  <a:pt x="312" y="104"/>
                </a:cubicBezTo>
                <a:cubicBezTo>
                  <a:pt x="300" y="108"/>
                  <a:pt x="286" y="108"/>
                  <a:pt x="276" y="116"/>
                </a:cubicBezTo>
                <a:cubicBezTo>
                  <a:pt x="265" y="125"/>
                  <a:pt x="238" y="149"/>
                  <a:pt x="252" y="152"/>
                </a:cubicBezTo>
                <a:cubicBezTo>
                  <a:pt x="277" y="158"/>
                  <a:pt x="300" y="136"/>
                  <a:pt x="324" y="128"/>
                </a:cubicBezTo>
                <a:cubicBezTo>
                  <a:pt x="175" y="103"/>
                  <a:pt x="210" y="105"/>
                  <a:pt x="0" y="128"/>
                </a:cubicBezTo>
                <a:cubicBezTo>
                  <a:pt x="4" y="160"/>
                  <a:pt x="0" y="194"/>
                  <a:pt x="12" y="224"/>
                </a:cubicBezTo>
                <a:cubicBezTo>
                  <a:pt x="17" y="237"/>
                  <a:pt x="34" y="247"/>
                  <a:pt x="48" y="248"/>
                </a:cubicBezTo>
                <a:cubicBezTo>
                  <a:pt x="150" y="255"/>
                  <a:pt x="270" y="229"/>
                  <a:pt x="372" y="212"/>
                </a:cubicBezTo>
                <a:cubicBezTo>
                  <a:pt x="364" y="200"/>
                  <a:pt x="362" y="176"/>
                  <a:pt x="348" y="176"/>
                </a:cubicBezTo>
                <a:cubicBezTo>
                  <a:pt x="334" y="176"/>
                  <a:pt x="330" y="199"/>
                  <a:pt x="324" y="212"/>
                </a:cubicBezTo>
                <a:cubicBezTo>
                  <a:pt x="310" y="241"/>
                  <a:pt x="298" y="277"/>
                  <a:pt x="288" y="308"/>
                </a:cubicBezTo>
                <a:cubicBezTo>
                  <a:pt x="280" y="292"/>
                  <a:pt x="282" y="260"/>
                  <a:pt x="264" y="260"/>
                </a:cubicBezTo>
                <a:cubicBezTo>
                  <a:pt x="246" y="260"/>
                  <a:pt x="246" y="325"/>
                  <a:pt x="240" y="308"/>
                </a:cubicBezTo>
                <a:cubicBezTo>
                  <a:pt x="226" y="266"/>
                  <a:pt x="255" y="226"/>
                  <a:pt x="264" y="188"/>
                </a:cubicBezTo>
                <a:cubicBezTo>
                  <a:pt x="269" y="164"/>
                  <a:pt x="298" y="127"/>
                  <a:pt x="276" y="116"/>
                </a:cubicBezTo>
                <a:cubicBezTo>
                  <a:pt x="255" y="106"/>
                  <a:pt x="250" y="155"/>
                  <a:pt x="240" y="176"/>
                </a:cubicBezTo>
                <a:cubicBezTo>
                  <a:pt x="226" y="205"/>
                  <a:pt x="214" y="241"/>
                  <a:pt x="204" y="272"/>
                </a:cubicBezTo>
                <a:cubicBezTo>
                  <a:pt x="190" y="202"/>
                  <a:pt x="204" y="163"/>
                  <a:pt x="216" y="92"/>
                </a:cubicBezTo>
                <a:cubicBezTo>
                  <a:pt x="220" y="132"/>
                  <a:pt x="200" y="240"/>
                  <a:pt x="228" y="212"/>
                </a:cubicBezTo>
                <a:cubicBezTo>
                  <a:pt x="262" y="178"/>
                  <a:pt x="225" y="114"/>
                  <a:pt x="240" y="68"/>
                </a:cubicBezTo>
                <a:cubicBezTo>
                  <a:pt x="248" y="45"/>
                  <a:pt x="247" y="116"/>
                  <a:pt x="252" y="140"/>
                </a:cubicBezTo>
                <a:cubicBezTo>
                  <a:pt x="263" y="188"/>
                  <a:pt x="272" y="237"/>
                  <a:pt x="288" y="284"/>
                </a:cubicBezTo>
                <a:cubicBezTo>
                  <a:pt x="294" y="301"/>
                  <a:pt x="294" y="332"/>
                  <a:pt x="312" y="332"/>
                </a:cubicBezTo>
                <a:cubicBezTo>
                  <a:pt x="328" y="332"/>
                  <a:pt x="303" y="300"/>
                  <a:pt x="300" y="284"/>
                </a:cubicBezTo>
                <a:cubicBezTo>
                  <a:pt x="295" y="256"/>
                  <a:pt x="294" y="228"/>
                  <a:pt x="288" y="200"/>
                </a:cubicBezTo>
                <a:cubicBezTo>
                  <a:pt x="282" y="175"/>
                  <a:pt x="264" y="128"/>
                  <a:pt x="264" y="128"/>
                </a:cubicBezTo>
                <a:cubicBezTo>
                  <a:pt x="246" y="217"/>
                  <a:pt x="236" y="301"/>
                  <a:pt x="228" y="392"/>
                </a:cubicBezTo>
                <a:cubicBezTo>
                  <a:pt x="224" y="380"/>
                  <a:pt x="228" y="352"/>
                  <a:pt x="216" y="356"/>
                </a:cubicBezTo>
                <a:cubicBezTo>
                  <a:pt x="199" y="362"/>
                  <a:pt x="183" y="439"/>
                  <a:pt x="180" y="452"/>
                </a:cubicBezTo>
                <a:cubicBezTo>
                  <a:pt x="211" y="639"/>
                  <a:pt x="205" y="398"/>
                  <a:pt x="216" y="344"/>
                </a:cubicBezTo>
                <a:cubicBezTo>
                  <a:pt x="220" y="380"/>
                  <a:pt x="215" y="418"/>
                  <a:pt x="228" y="452"/>
                </a:cubicBezTo>
                <a:cubicBezTo>
                  <a:pt x="234" y="467"/>
                  <a:pt x="240" y="420"/>
                  <a:pt x="240" y="404"/>
                </a:cubicBezTo>
                <a:cubicBezTo>
                  <a:pt x="240" y="388"/>
                  <a:pt x="232" y="372"/>
                  <a:pt x="228" y="356"/>
                </a:cubicBezTo>
                <a:cubicBezTo>
                  <a:pt x="228" y="356"/>
                  <a:pt x="196" y="428"/>
                  <a:pt x="228" y="428"/>
                </a:cubicBezTo>
                <a:cubicBezTo>
                  <a:pt x="242" y="428"/>
                  <a:pt x="245" y="405"/>
                  <a:pt x="252" y="392"/>
                </a:cubicBezTo>
                <a:cubicBezTo>
                  <a:pt x="261" y="376"/>
                  <a:pt x="270" y="361"/>
                  <a:pt x="276" y="344"/>
                </a:cubicBezTo>
                <a:cubicBezTo>
                  <a:pt x="282" y="329"/>
                  <a:pt x="288" y="280"/>
                  <a:pt x="288" y="296"/>
                </a:cubicBezTo>
                <a:cubicBezTo>
                  <a:pt x="288" y="328"/>
                  <a:pt x="276" y="360"/>
                  <a:pt x="276" y="392"/>
                </a:cubicBezTo>
                <a:cubicBezTo>
                  <a:pt x="276" y="405"/>
                  <a:pt x="297" y="365"/>
                  <a:pt x="288" y="356"/>
                </a:cubicBezTo>
                <a:cubicBezTo>
                  <a:pt x="279" y="347"/>
                  <a:pt x="264" y="364"/>
                  <a:pt x="252" y="368"/>
                </a:cubicBezTo>
                <a:cubicBezTo>
                  <a:pt x="248" y="380"/>
                  <a:pt x="241" y="417"/>
                  <a:pt x="240" y="404"/>
                </a:cubicBezTo>
                <a:cubicBezTo>
                  <a:pt x="217" y="159"/>
                  <a:pt x="245" y="0"/>
                  <a:pt x="216" y="200"/>
                </a:cubicBezTo>
                <a:cubicBezTo>
                  <a:pt x="212" y="148"/>
                  <a:pt x="214" y="95"/>
                  <a:pt x="204" y="44"/>
                </a:cubicBezTo>
                <a:cubicBezTo>
                  <a:pt x="202" y="32"/>
                  <a:pt x="192" y="67"/>
                  <a:pt x="192" y="80"/>
                </a:cubicBezTo>
                <a:cubicBezTo>
                  <a:pt x="192" y="120"/>
                  <a:pt x="200" y="160"/>
                  <a:pt x="204" y="200"/>
                </a:cubicBezTo>
                <a:cubicBezTo>
                  <a:pt x="214" y="151"/>
                  <a:pt x="224" y="104"/>
                  <a:pt x="240" y="56"/>
                </a:cubicBezTo>
                <a:cubicBezTo>
                  <a:pt x="257" y="107"/>
                  <a:pt x="259" y="161"/>
                  <a:pt x="276" y="212"/>
                </a:cubicBezTo>
                <a:cubicBezTo>
                  <a:pt x="284" y="196"/>
                  <a:pt x="285" y="154"/>
                  <a:pt x="300" y="164"/>
                </a:cubicBezTo>
                <a:cubicBezTo>
                  <a:pt x="320" y="177"/>
                  <a:pt x="307" y="212"/>
                  <a:pt x="312" y="236"/>
                </a:cubicBezTo>
                <a:cubicBezTo>
                  <a:pt x="315" y="248"/>
                  <a:pt x="320" y="260"/>
                  <a:pt x="324" y="272"/>
                </a:cubicBezTo>
                <a:cubicBezTo>
                  <a:pt x="335" y="216"/>
                  <a:pt x="346" y="179"/>
                  <a:pt x="372" y="128"/>
                </a:cubicBezTo>
                <a:cubicBezTo>
                  <a:pt x="376" y="184"/>
                  <a:pt x="373" y="241"/>
                  <a:pt x="384" y="296"/>
                </a:cubicBezTo>
                <a:cubicBezTo>
                  <a:pt x="387" y="312"/>
                  <a:pt x="405" y="262"/>
                  <a:pt x="396" y="248"/>
                </a:cubicBezTo>
                <a:cubicBezTo>
                  <a:pt x="389" y="237"/>
                  <a:pt x="372" y="256"/>
                  <a:pt x="360" y="260"/>
                </a:cubicBezTo>
                <a:cubicBezTo>
                  <a:pt x="351" y="241"/>
                  <a:pt x="334" y="188"/>
                  <a:pt x="300" y="188"/>
                </a:cubicBezTo>
                <a:cubicBezTo>
                  <a:pt x="286" y="188"/>
                  <a:pt x="276" y="204"/>
                  <a:pt x="264" y="212"/>
                </a:cubicBezTo>
                <a:cubicBezTo>
                  <a:pt x="236" y="169"/>
                  <a:pt x="254" y="176"/>
                  <a:pt x="216" y="17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eam Learning</a:t>
            </a:r>
            <a:endParaRPr b="0" lang="en-US" sz="5000" spc="-1" strike="noStrike">
              <a:solidFill>
                <a:srgbClr val="000000"/>
              </a:solidFill>
              <a:latin typeface="Arial"/>
            </a:endParaRPr>
          </a:p>
        </p:txBody>
      </p:sp>
      <p:sp>
        <p:nvSpPr>
          <p:cNvPr id="352" name="PlaceHolder 2"/>
          <p:cNvSpPr>
            <a:spLocks noGrp="1"/>
          </p:cNvSpPr>
          <p:nvPr>
            <p:ph type="subTitle"/>
          </p:nvPr>
        </p:nvSpPr>
        <p:spPr>
          <a:xfrm>
            <a:off x="990720" y="4191120"/>
            <a:ext cx="6400800" cy="1752480"/>
          </a:xfrm>
          <a:prstGeom prst="rect">
            <a:avLst/>
          </a:prstGeom>
          <a:noFill/>
          <a:ln w="0">
            <a:noFill/>
          </a:ln>
        </p:spPr>
        <p:txBody>
          <a:bodyPr anchor="t">
            <a:noAutofit/>
          </a:bodyPr>
          <a:p>
            <a:pPr lvl="1"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Team Learning is the process of aligning and developing the capacity of a team to create the results its members truly des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914400" y="685800"/>
            <a:ext cx="7467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ams are characterized by openness, “both the norm of speaking openly and honestly about important issues and the capacity to continually challenge one’s own thinking.  The first might be called participative openness, the second reflective openness.” (Senge, 1990, p. 27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Oval 2"/>
          <p:cNvSpPr/>
          <p:nvPr/>
        </p:nvSpPr>
        <p:spPr>
          <a:xfrm>
            <a:off x="5105520" y="3276720"/>
            <a:ext cx="259056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Learning: A Process of Alignment…</a:t>
            </a:r>
            <a:r>
              <a:rPr b="0" lang="en-US" sz="4400" spc="-1" strike="noStrike">
                <a:solidFill>
                  <a:srgbClr val="ff0000"/>
                </a:solidFill>
                <a:latin typeface="Arial"/>
              </a:rPr>
              <a:t>OR NO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356" name="Rectangle 4"/>
          <p:cNvSpPr/>
          <p:nvPr/>
        </p:nvSpPr>
        <p:spPr>
          <a:xfrm>
            <a:off x="1219320" y="2514600"/>
            <a:ext cx="3657600" cy="2743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p:cNvSpPr/>
          <p:nvPr/>
        </p:nvSpPr>
        <p:spPr>
          <a:xfrm rot="10800000">
            <a:off x="2895480" y="4876920"/>
            <a:ext cx="990720" cy="304560"/>
          </a:xfrm>
          <a:prstGeom prst="rightArrow">
            <a:avLst>
              <a:gd name="adj1" fmla="val 50000"/>
              <a:gd name="adj2" fmla="val 81324"/>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6"/>
          <p:cNvSpPr/>
          <p:nvPr/>
        </p:nvSpPr>
        <p:spPr>
          <a:xfrm rot="2533800">
            <a:off x="1447560" y="3962520"/>
            <a:ext cx="990360" cy="304560"/>
          </a:xfrm>
          <a:prstGeom prst="rightArrow">
            <a:avLst>
              <a:gd name="adj1" fmla="val 50000"/>
              <a:gd name="adj2" fmla="val 812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7"/>
          <p:cNvSpPr/>
          <p:nvPr/>
        </p:nvSpPr>
        <p:spPr>
          <a:xfrm rot="5126400">
            <a:off x="3657600" y="3429000"/>
            <a:ext cx="990360" cy="304560"/>
          </a:xfrm>
          <a:prstGeom prst="rightArrow">
            <a:avLst>
              <a:gd name="adj1" fmla="val 50000"/>
              <a:gd name="adj2" fmla="val 8129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rot="20677800">
            <a:off x="3124080" y="2971800"/>
            <a:ext cx="990720" cy="304920"/>
          </a:xfrm>
          <a:prstGeom prst="rightArrow">
            <a:avLst>
              <a:gd name="adj1" fmla="val 50000"/>
              <a:gd name="adj2" fmla="val 8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3733920" y="3886200"/>
            <a:ext cx="990360" cy="304920"/>
          </a:xfrm>
          <a:prstGeom prst="rightArrow">
            <a:avLst>
              <a:gd name="adj1" fmla="val 50000"/>
              <a:gd name="adj2" fmla="val 8119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0"/>
          <p:cNvSpPr/>
          <p:nvPr/>
        </p:nvSpPr>
        <p:spPr>
          <a:xfrm rot="20224800">
            <a:off x="1447920" y="3276360"/>
            <a:ext cx="990360" cy="304560"/>
          </a:xfrm>
          <a:prstGeom prst="rightArrow">
            <a:avLst>
              <a:gd name="adj1" fmla="val 50000"/>
              <a:gd name="adj2" fmla="val 8129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1"/>
          <p:cNvSpPr/>
          <p:nvPr/>
        </p:nvSpPr>
        <p:spPr>
          <a:xfrm rot="2808000">
            <a:off x="2742840" y="4190760"/>
            <a:ext cx="990720" cy="304560"/>
          </a:xfrm>
          <a:prstGeom prst="rightArrow">
            <a:avLst>
              <a:gd name="adj1" fmla="val 50000"/>
              <a:gd name="adj2" fmla="val 81324"/>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2"/>
          <p:cNvSpPr/>
          <p:nvPr/>
        </p:nvSpPr>
        <p:spPr>
          <a:xfrm rot="13669200">
            <a:off x="1409400" y="4533120"/>
            <a:ext cx="990360" cy="304920"/>
          </a:xfrm>
          <a:prstGeom prst="rightArrow">
            <a:avLst>
              <a:gd name="adj1" fmla="val 50000"/>
              <a:gd name="adj2" fmla="val 81198"/>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3"/>
          <p:cNvSpPr/>
          <p:nvPr/>
        </p:nvSpPr>
        <p:spPr>
          <a:xfrm rot="19619400">
            <a:off x="3581280" y="4572000"/>
            <a:ext cx="990720" cy="304920"/>
          </a:xfrm>
          <a:prstGeom prst="rightArrow">
            <a:avLst>
              <a:gd name="adj1" fmla="val 50000"/>
              <a:gd name="adj2" fmla="val 8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14"/>
          <p:cNvSpPr/>
          <p:nvPr/>
        </p:nvSpPr>
        <p:spPr>
          <a:xfrm rot="1546800">
            <a:off x="1828440" y="2743200"/>
            <a:ext cx="990720" cy="304920"/>
          </a:xfrm>
          <a:prstGeom prst="rightArrow">
            <a:avLst>
              <a:gd name="adj1" fmla="val 50000"/>
              <a:gd name="adj2" fmla="val 81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15"/>
          <p:cNvSpPr/>
          <p:nvPr/>
        </p:nvSpPr>
        <p:spPr>
          <a:xfrm rot="10546800">
            <a:off x="2361600" y="3657240"/>
            <a:ext cx="990360" cy="304920"/>
          </a:xfrm>
          <a:prstGeom prst="rightArrow">
            <a:avLst>
              <a:gd name="adj1" fmla="val 50000"/>
              <a:gd name="adj2" fmla="val 8119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6"/>
          <p:cNvSpPr/>
          <p:nvPr/>
        </p:nvSpPr>
        <p:spPr>
          <a:xfrm>
            <a:off x="5029200" y="3581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ared Vision?</a:t>
            </a:r>
            <a:endParaRPr b="0" lang="en-US" sz="2400" spc="-1" strike="noStrike">
              <a:solidFill>
                <a:srgbClr val="000000"/>
              </a:solidFill>
              <a:latin typeface="Arial"/>
            </a:endParaRPr>
          </a:p>
        </p:txBody>
      </p:sp>
      <p:sp>
        <p:nvSpPr>
          <p:cNvPr id="369" name="Text Box 17"/>
          <p:cNvSpPr/>
          <p:nvPr/>
        </p:nvSpPr>
        <p:spPr>
          <a:xfrm>
            <a:off x="914400" y="579132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Real:  Herein Lies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78040" y="190080"/>
            <a:ext cx="70610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25" name="PlaceHolder 2"/>
          <p:cNvSpPr>
            <a:spLocks noGrp="1"/>
          </p:cNvSpPr>
          <p:nvPr>
            <p:ph/>
          </p:nvPr>
        </p:nvSpPr>
        <p:spPr>
          <a:xfrm>
            <a:off x="304560" y="1066320"/>
            <a:ext cx="8839080" cy="4876920"/>
          </a:xfrm>
          <a:prstGeom prst="rect">
            <a:avLst/>
          </a:prstGeom>
          <a:noFill/>
          <a:ln w="0">
            <a:noFill/>
          </a:ln>
        </p:spPr>
        <p:txBody>
          <a:bodyPr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first responsibility of a leader is to define reality. The last is to say thank you. In between, the leader is a servant. - Max DePree</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 is not magnetic personality that can just as well be a glib tongue. It is not "making friends and influencing people“; that is flattery. Leadership is lifting a person's vision to higher sights, the raising of a person's performance to a higher standard, the building of a personality beyond its normal limitations. - Peter F. Druck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me given to thought is the greatest timesaver of all. - Norman Cousin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lowest performing teacher in your building sets </a:t>
            </a:r>
            <a:r>
              <a:rPr b="0" i="1" lang="en-US" sz="2400" spc="-1" strike="noStrike">
                <a:solidFill>
                  <a:srgbClr val="000000"/>
                </a:solidFill>
                <a:latin typeface="Arial"/>
                <a:ea typeface="ＭＳ Ｐゴシック"/>
              </a:rPr>
              <a:t>your </a:t>
            </a:r>
            <a:r>
              <a:rPr b="0" lang="en-US" sz="2400" spc="-1" strike="noStrike">
                <a:solidFill>
                  <a:srgbClr val="000000"/>
                </a:solidFill>
                <a:latin typeface="Arial"/>
                <a:ea typeface="ＭＳ Ｐゴシック"/>
              </a:rPr>
              <a:t>standard for what is acceptable – Rich Hawkin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Oval 2"/>
          <p:cNvSpPr/>
          <p:nvPr/>
        </p:nvSpPr>
        <p:spPr>
          <a:xfrm>
            <a:off x="5105520" y="3276720"/>
            <a:ext cx="259056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Learning: A Process of Alignment</a:t>
            </a:r>
            <a:endParaRPr b="0" lang="en-US" sz="4400" spc="-1" strike="noStrike">
              <a:solidFill>
                <a:srgbClr val="000000"/>
              </a:solidFill>
              <a:latin typeface="Arial"/>
            </a:endParaRPr>
          </a:p>
        </p:txBody>
      </p:sp>
      <p:sp>
        <p:nvSpPr>
          <p:cNvPr id="372" name="Rectangle 4"/>
          <p:cNvSpPr/>
          <p:nvPr/>
        </p:nvSpPr>
        <p:spPr>
          <a:xfrm>
            <a:off x="1219320" y="2514600"/>
            <a:ext cx="3657600" cy="2743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5"/>
          <p:cNvSpPr/>
          <p:nvPr/>
        </p:nvSpPr>
        <p:spPr>
          <a:xfrm>
            <a:off x="2895480" y="4876920"/>
            <a:ext cx="990720" cy="304560"/>
          </a:xfrm>
          <a:prstGeom prst="rightArrow">
            <a:avLst>
              <a:gd name="adj1" fmla="val 50000"/>
              <a:gd name="adj2" fmla="val 81324"/>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6"/>
          <p:cNvSpPr/>
          <p:nvPr/>
        </p:nvSpPr>
        <p:spPr>
          <a:xfrm>
            <a:off x="1447920" y="3962520"/>
            <a:ext cx="990360" cy="304560"/>
          </a:xfrm>
          <a:prstGeom prst="rightArrow">
            <a:avLst>
              <a:gd name="adj1" fmla="val 50000"/>
              <a:gd name="adj2" fmla="val 812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
          <p:cNvSpPr/>
          <p:nvPr/>
        </p:nvSpPr>
        <p:spPr>
          <a:xfrm>
            <a:off x="3657600" y="3429000"/>
            <a:ext cx="990720" cy="304920"/>
          </a:xfrm>
          <a:prstGeom prst="rightArrow">
            <a:avLst>
              <a:gd name="adj1" fmla="val 50000"/>
              <a:gd name="adj2" fmla="val 8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8"/>
          <p:cNvSpPr/>
          <p:nvPr/>
        </p:nvSpPr>
        <p:spPr>
          <a:xfrm>
            <a:off x="3124080" y="2971800"/>
            <a:ext cx="990720" cy="304920"/>
          </a:xfrm>
          <a:prstGeom prst="rightArrow">
            <a:avLst>
              <a:gd name="adj1" fmla="val 50000"/>
              <a:gd name="adj2" fmla="val 8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9"/>
          <p:cNvSpPr/>
          <p:nvPr/>
        </p:nvSpPr>
        <p:spPr>
          <a:xfrm>
            <a:off x="3733920" y="3886200"/>
            <a:ext cx="990360" cy="304920"/>
          </a:xfrm>
          <a:prstGeom prst="rightArrow">
            <a:avLst>
              <a:gd name="adj1" fmla="val 50000"/>
              <a:gd name="adj2" fmla="val 8119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0"/>
          <p:cNvSpPr/>
          <p:nvPr/>
        </p:nvSpPr>
        <p:spPr>
          <a:xfrm>
            <a:off x="1447920" y="3276720"/>
            <a:ext cx="990360" cy="304560"/>
          </a:xfrm>
          <a:prstGeom prst="rightArrow">
            <a:avLst>
              <a:gd name="adj1" fmla="val 50000"/>
              <a:gd name="adj2" fmla="val 8129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1"/>
          <p:cNvSpPr/>
          <p:nvPr/>
        </p:nvSpPr>
        <p:spPr>
          <a:xfrm>
            <a:off x="2743200" y="4191120"/>
            <a:ext cx="990720" cy="304560"/>
          </a:xfrm>
          <a:prstGeom prst="rightArrow">
            <a:avLst>
              <a:gd name="adj1" fmla="val 50000"/>
              <a:gd name="adj2" fmla="val 813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12"/>
          <p:cNvSpPr/>
          <p:nvPr/>
        </p:nvSpPr>
        <p:spPr>
          <a:xfrm>
            <a:off x="1676520" y="4724280"/>
            <a:ext cx="990360" cy="304920"/>
          </a:xfrm>
          <a:prstGeom prst="rightArrow">
            <a:avLst>
              <a:gd name="adj1" fmla="val 50000"/>
              <a:gd name="adj2" fmla="val 811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3"/>
          <p:cNvSpPr/>
          <p:nvPr/>
        </p:nvSpPr>
        <p:spPr>
          <a:xfrm>
            <a:off x="3581280" y="4572000"/>
            <a:ext cx="990720" cy="304920"/>
          </a:xfrm>
          <a:prstGeom prst="rightArrow">
            <a:avLst>
              <a:gd name="adj1" fmla="val 50000"/>
              <a:gd name="adj2" fmla="val 8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4"/>
          <p:cNvSpPr/>
          <p:nvPr/>
        </p:nvSpPr>
        <p:spPr>
          <a:xfrm>
            <a:off x="1828800" y="2743200"/>
            <a:ext cx="990720" cy="304920"/>
          </a:xfrm>
          <a:prstGeom prst="rightArrow">
            <a:avLst>
              <a:gd name="adj1" fmla="val 50000"/>
              <a:gd name="adj2" fmla="val 81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15"/>
          <p:cNvSpPr/>
          <p:nvPr/>
        </p:nvSpPr>
        <p:spPr>
          <a:xfrm>
            <a:off x="2286000" y="3657600"/>
            <a:ext cx="990720" cy="304920"/>
          </a:xfrm>
          <a:prstGeom prst="rightArrow">
            <a:avLst>
              <a:gd name="adj1" fmla="val 50000"/>
              <a:gd name="adj2" fmla="val 81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6"/>
          <p:cNvSpPr/>
          <p:nvPr/>
        </p:nvSpPr>
        <p:spPr>
          <a:xfrm>
            <a:off x="5029200" y="3581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ared Vision</a:t>
            </a:r>
            <a:endParaRPr b="0" lang="en-US" sz="2400" spc="-1" strike="noStrike">
              <a:solidFill>
                <a:srgbClr val="000000"/>
              </a:solidFill>
              <a:latin typeface="Arial"/>
            </a:endParaRPr>
          </a:p>
        </p:txBody>
      </p:sp>
      <p:sp>
        <p:nvSpPr>
          <p:cNvPr id="385" name="Text Box 17"/>
          <p:cNvSpPr/>
          <p:nvPr/>
        </p:nvSpPr>
        <p:spPr>
          <a:xfrm>
            <a:off x="914400" y="579132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Id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228600" y="304920"/>
            <a:ext cx="838188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t’s a question of alignment…</a:t>
            </a:r>
            <a:endParaRPr b="0" lang="en-US" sz="4400" spc="-1" strike="noStrike">
              <a:solidFill>
                <a:srgbClr val="000000"/>
              </a:solidFill>
              <a:latin typeface="Arial"/>
            </a:endParaRPr>
          </a:p>
        </p:txBody>
      </p:sp>
      <p:sp>
        <p:nvSpPr>
          <p:cNvPr id="387" name="AutoShape 3"/>
          <p:cNvSpPr/>
          <p:nvPr/>
        </p:nvSpPr>
        <p:spPr>
          <a:xfrm rot="10800000">
            <a:off x="685440" y="1599840"/>
            <a:ext cx="8001000" cy="5105520"/>
          </a:xfrm>
          <a:prstGeom prst="triangle">
            <a:avLst>
              <a:gd name="adj" fmla="val 49741"/>
            </a:avLst>
          </a:prstGeom>
          <a:solidFill>
            <a:srgbClr val="666699">
              <a:alpha val="50000"/>
            </a:srgbClr>
          </a:solidFill>
          <a:ln cap="sq" w="572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4"/>
          <p:cNvSpPr/>
          <p:nvPr/>
        </p:nvSpPr>
        <p:spPr>
          <a:xfrm>
            <a:off x="3962520" y="45720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YS Standards</a:t>
            </a:r>
            <a:endParaRPr b="0" lang="en-US" sz="2400" spc="-1" strike="noStrike">
              <a:solidFill>
                <a:srgbClr val="000000"/>
              </a:solidFill>
              <a:latin typeface="Arial"/>
            </a:endParaRPr>
          </a:p>
        </p:txBody>
      </p:sp>
      <p:sp>
        <p:nvSpPr>
          <p:cNvPr id="389" name="Text Box 5"/>
          <p:cNvSpPr/>
          <p:nvPr/>
        </p:nvSpPr>
        <p:spPr>
          <a:xfrm>
            <a:off x="3505320" y="380988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ng Principles</a:t>
            </a:r>
            <a:endParaRPr b="0" lang="en-US" sz="2400" spc="-1" strike="noStrike">
              <a:solidFill>
                <a:srgbClr val="000000"/>
              </a:solidFill>
              <a:latin typeface="Arial"/>
            </a:endParaRPr>
          </a:p>
        </p:txBody>
      </p:sp>
      <p:sp>
        <p:nvSpPr>
          <p:cNvPr id="390" name="Text Box 6"/>
          <p:cNvSpPr/>
          <p:nvPr/>
        </p:nvSpPr>
        <p:spPr>
          <a:xfrm>
            <a:off x="3124080" y="3048120"/>
            <a:ext cx="3353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al Student Progress P.D.S.A.</a:t>
            </a:r>
            <a:endParaRPr b="0" lang="en-US" sz="2400" spc="-1" strike="noStrike">
              <a:solidFill>
                <a:srgbClr val="000000"/>
              </a:solidFill>
              <a:latin typeface="Arial"/>
            </a:endParaRPr>
          </a:p>
        </p:txBody>
      </p:sp>
      <p:sp>
        <p:nvSpPr>
          <p:cNvPr id="391" name="Text Box 7"/>
          <p:cNvSpPr/>
          <p:nvPr/>
        </p:nvSpPr>
        <p:spPr>
          <a:xfrm>
            <a:off x="4114800" y="5257800"/>
            <a:ext cx="131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rict Mission</a:t>
            </a:r>
            <a:endParaRPr b="0" lang="en-US" sz="2400" spc="-1" strike="noStrike">
              <a:solidFill>
                <a:srgbClr val="000000"/>
              </a:solidFill>
              <a:latin typeface="Arial"/>
            </a:endParaRPr>
          </a:p>
        </p:txBody>
      </p:sp>
      <p:sp>
        <p:nvSpPr>
          <p:cNvPr id="392" name="Text Box 8"/>
          <p:cNvSpPr/>
          <p:nvPr/>
        </p:nvSpPr>
        <p:spPr>
          <a:xfrm>
            <a:off x="2438280" y="266688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 Instructional Priorities</a:t>
            </a:r>
            <a:endParaRPr b="0" lang="en-US" sz="2400" spc="-1" strike="noStrike">
              <a:solidFill>
                <a:srgbClr val="000000"/>
              </a:solidFill>
              <a:latin typeface="Arial"/>
            </a:endParaRPr>
          </a:p>
        </p:txBody>
      </p:sp>
      <p:sp>
        <p:nvSpPr>
          <p:cNvPr id="393" name="Text Box 9"/>
          <p:cNvSpPr/>
          <p:nvPr/>
        </p:nvSpPr>
        <p:spPr>
          <a:xfrm>
            <a:off x="1752480" y="2133720"/>
            <a:ext cx="586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hild Left Behind</a:t>
            </a:r>
            <a:endParaRPr b="0" lang="en-US" sz="2400" spc="-1" strike="noStrike">
              <a:solidFill>
                <a:srgbClr val="000000"/>
              </a:solidFill>
              <a:latin typeface="Arial"/>
            </a:endParaRPr>
          </a:p>
        </p:txBody>
      </p:sp>
      <p:sp>
        <p:nvSpPr>
          <p:cNvPr id="394" name="Text Box 10"/>
          <p:cNvSpPr/>
          <p:nvPr/>
        </p:nvSpPr>
        <p:spPr>
          <a:xfrm>
            <a:off x="1447920" y="1600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in Life</a:t>
            </a:r>
            <a:endParaRPr b="0" lang="en-US" sz="2400" spc="-1" strike="noStrike">
              <a:solidFill>
                <a:srgbClr val="000000"/>
              </a:solidFill>
              <a:latin typeface="Arial"/>
            </a:endParaRPr>
          </a:p>
        </p:txBody>
      </p:sp>
      <p:sp>
        <p:nvSpPr>
          <p:cNvPr id="395" name="Line 11"/>
          <p:cNvSpPr/>
          <p:nvPr/>
        </p:nvSpPr>
        <p:spPr>
          <a:xfrm>
            <a:off x="2743200" y="3886200"/>
            <a:ext cx="3962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2"/>
          <p:cNvSpPr/>
          <p:nvPr/>
        </p:nvSpPr>
        <p:spPr>
          <a:xfrm>
            <a:off x="2057400" y="3124080"/>
            <a:ext cx="51814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3"/>
          <p:cNvSpPr/>
          <p:nvPr/>
        </p:nvSpPr>
        <p:spPr>
          <a:xfrm>
            <a:off x="1752480" y="2590920"/>
            <a:ext cx="59436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4"/>
          <p:cNvSpPr/>
          <p:nvPr/>
        </p:nvSpPr>
        <p:spPr>
          <a:xfrm>
            <a:off x="1295280" y="2057400"/>
            <a:ext cx="67820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5"/>
          <p:cNvSpPr/>
          <p:nvPr/>
        </p:nvSpPr>
        <p:spPr>
          <a:xfrm>
            <a:off x="3886200" y="5334120"/>
            <a:ext cx="1676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6"/>
          <p:cNvSpPr/>
          <p:nvPr/>
        </p:nvSpPr>
        <p:spPr>
          <a:xfrm>
            <a:off x="3276720" y="4648320"/>
            <a:ext cx="28954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17"/>
          <p:cNvSpPr/>
          <p:nvPr/>
        </p:nvSpPr>
        <p:spPr>
          <a:xfrm>
            <a:off x="1143000" y="1752480"/>
            <a:ext cx="685800" cy="4267440"/>
          </a:xfrm>
          <a:prstGeom prst="upArrow">
            <a:avLst>
              <a:gd name="adj1" fmla="val 50000"/>
              <a:gd name="adj2" fmla="val 1555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8"/>
          <p:cNvSpPr/>
          <p:nvPr/>
        </p:nvSpPr>
        <p:spPr>
          <a:xfrm>
            <a:off x="228600" y="60199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Britannic Bold"/>
              </a:rPr>
              <a:t>William Floyd</a:t>
            </a:r>
            <a:endParaRPr b="0" lang="en-US" sz="3200" spc="-1" strike="noStrike">
              <a:solidFill>
                <a:srgbClr val="000000"/>
              </a:solidFill>
              <a:latin typeface="Arial"/>
            </a:endParaRPr>
          </a:p>
        </p:txBody>
      </p:sp>
      <p:pic>
        <p:nvPicPr>
          <p:cNvPr id="403" name="Picture 19" descr="PE01562_"/>
          <p:cNvPicPr/>
          <p:nvPr/>
        </p:nvPicPr>
        <p:blipFill>
          <a:blip r:embed="rId1"/>
          <a:stretch/>
        </p:blipFill>
        <p:spPr>
          <a:xfrm>
            <a:off x="228600" y="990720"/>
            <a:ext cx="1339920" cy="1411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Teams</a:t>
            </a:r>
            <a:endParaRPr b="0" lang="en-US" sz="4000" spc="-1" strike="noStrike">
              <a:solidFill>
                <a:srgbClr val="000000"/>
              </a:solidFill>
              <a:latin typeface="Arial"/>
            </a:endParaRPr>
          </a:p>
        </p:txBody>
      </p:sp>
      <p:sp>
        <p:nvSpPr>
          <p:cNvPr id="405" name="PlaceHolder 2"/>
          <p:cNvSpPr>
            <a:spLocks noGrp="1"/>
          </p:cNvSpPr>
          <p:nvPr>
            <p:ph/>
          </p:nvPr>
        </p:nvSpPr>
        <p:spPr>
          <a:xfrm>
            <a:off x="304920" y="1294920"/>
            <a:ext cx="8610480" cy="5334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experienced a moment in time where you were in total sync with another person or groups of people? Have you ever experienced a time when everything felt like slow motion and others could read your mind without a word spok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about a successful sports team you were on.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about a successful musical performance in which you sang or perform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about a conversation or situation you experienced with someone wherein you both deeply conn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difference between groups and teams</a:t>
            </a:r>
            <a:endParaRPr b="0" lang="en-US" sz="5000" spc="-1" strike="noStrike">
              <a:solidFill>
                <a:srgbClr val="000000"/>
              </a:solidFill>
              <a:latin typeface="Arial"/>
            </a:endParaRPr>
          </a:p>
        </p:txBody>
      </p:sp>
      <p:sp>
        <p:nvSpPr>
          <p:cNvPr id="407" name="PlaceHolder 2"/>
          <p:cNvSpPr>
            <a:spLocks noGrp="1"/>
          </p:cNvSpPr>
          <p:nvPr>
            <p:ph type="subTitle"/>
          </p:nvPr>
        </p:nvSpPr>
        <p:spPr>
          <a:xfrm>
            <a:off x="2971800" y="5452560"/>
            <a:ext cx="6019920" cy="5670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oups             Teams</a:t>
            </a:r>
            <a:endParaRPr b="0" lang="en-US" sz="4400" spc="-1" strike="noStrike">
              <a:solidFill>
                <a:srgbClr val="000000"/>
              </a:solidFill>
              <a:latin typeface="Arial"/>
            </a:endParaRPr>
          </a:p>
        </p:txBody>
      </p:sp>
      <p:sp>
        <p:nvSpPr>
          <p:cNvPr id="409" name="PlaceHolder 2"/>
          <p:cNvSpPr>
            <a:spLocks noGrp="1"/>
          </p:cNvSpPr>
          <p:nvPr>
            <p:ph/>
          </p:nvPr>
        </p:nvSpPr>
        <p:spPr>
          <a:xfrm>
            <a:off x="838080" y="1523880"/>
            <a:ext cx="381024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d to fulfill structural desig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and disconnec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y with others goals and objectiv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competitive internally and externall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and organizational mistrust may exist</a:t>
            </a:r>
            <a:endParaRPr b="0" lang="en-US" sz="2800" spc="-1" strike="noStrike">
              <a:solidFill>
                <a:srgbClr val="000000"/>
              </a:solidFill>
              <a:latin typeface="Arial"/>
            </a:endParaRPr>
          </a:p>
        </p:txBody>
      </p:sp>
      <p:sp>
        <p:nvSpPr>
          <p:cNvPr id="410" name="PlaceHolder 3"/>
          <p:cNvSpPr>
            <a:spLocks noGrp="1"/>
          </p:cNvSpPr>
          <p:nvPr>
            <p:ph/>
          </p:nvPr>
        </p:nvSpPr>
        <p:spPr>
          <a:xfrm>
            <a:off x="4800240" y="1523880"/>
            <a:ext cx="380988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what is right is valued over doing what someone wants you to d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 expect and respect the contributions of every memb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t and Supporti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Communi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oups             Teams</a:t>
            </a:r>
            <a:endParaRPr b="0" lang="en-US" sz="4400" spc="-1" strike="noStrike">
              <a:solidFill>
                <a:srgbClr val="000000"/>
              </a:solidFill>
              <a:latin typeface="Arial"/>
            </a:endParaRPr>
          </a:p>
        </p:txBody>
      </p:sp>
      <p:sp>
        <p:nvSpPr>
          <p:cNvPr id="412" name="PlaceHolder 2"/>
          <p:cNvSpPr>
            <a:spLocks noGrp="1"/>
          </p:cNvSpPr>
          <p:nvPr>
            <p:ph/>
          </p:nvPr>
        </p:nvSpPr>
        <p:spPr>
          <a:xfrm>
            <a:off x="838080" y="1295280"/>
            <a:ext cx="3810240" cy="51055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individual’s personal goal(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internal competition</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win-lose solution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e with organizational politics </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more important than what</a:t>
            </a:r>
            <a:endParaRPr b="0" lang="en-US" sz="2800" spc="-1" strike="noStrike">
              <a:solidFill>
                <a:srgbClr val="000000"/>
              </a:solidFill>
              <a:latin typeface="Arial"/>
            </a:endParaRPr>
          </a:p>
        </p:txBody>
      </p:sp>
      <p:sp>
        <p:nvSpPr>
          <p:cNvPr id="413" name="PlaceHolder 3"/>
          <p:cNvSpPr>
            <a:spLocks noGrp="1"/>
          </p:cNvSpPr>
          <p:nvPr>
            <p:ph/>
          </p:nvPr>
        </p:nvSpPr>
        <p:spPr>
          <a:xfrm>
            <a:off x="4800240" y="1371600"/>
            <a:ext cx="380988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eam’s goa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t and Supporti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win-win solu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supports the culture and mi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participatory and focused on resul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ystems Thinking</a:t>
            </a:r>
            <a:endParaRPr b="0" lang="en-US" sz="5000" spc="-1" strike="noStrike">
              <a:solidFill>
                <a:srgbClr val="000000"/>
              </a:solidFill>
              <a:latin typeface="Arial"/>
            </a:endParaRPr>
          </a:p>
        </p:txBody>
      </p:sp>
      <p:sp>
        <p:nvSpPr>
          <p:cNvPr id="4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s all connected and interdepend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3"/>
          <p:cNvSpPr/>
          <p:nvPr/>
        </p:nvSpPr>
        <p:spPr>
          <a:xfrm>
            <a:off x="0" y="-35244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
          <p:cNvSpPr/>
          <p:nvPr/>
        </p:nvSpPr>
        <p:spPr>
          <a:xfrm>
            <a:off x="3336840" y="-333360"/>
            <a:ext cx="2470320" cy="78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4080"/>
                </a:solidFill>
                <a:latin typeface="Times New Roman"/>
              </a:rPr>
              <a:t>Anterior Vie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9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6"/>
          <p:cNvSpPr/>
          <p:nvPr/>
        </p:nvSpPr>
        <p:spPr>
          <a:xfrm>
            <a:off x="0" y="713592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0" y="7155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Completing All Answers -- </a:t>
            </a:r>
            <a:r>
              <a:rPr b="0" lang="en-US" sz="2400" spc="-1" strike="noStrike">
                <a:solidFill>
                  <a:srgbClr val="000000"/>
                </a:solidFill>
                <a:latin typeface="Times New Roman"/>
              </a:rPr>
              <a:t>Click Here for </a:t>
            </a:r>
            <a:r>
              <a:rPr b="0" lang="en-US" sz="2400" spc="-1" strike="noStrike" u="sng">
                <a:solidFill>
                  <a:srgbClr val="666699"/>
                </a:solidFill>
                <a:uFillTx/>
                <a:latin typeface="Times New Roman"/>
                <a:hlinkClick r:id="rId1"/>
              </a:rPr>
              <a:t>Correct Answers</a:t>
            </a:r>
            <a:r>
              <a:rPr b="0" lang="en-US" sz="2400" spc="-1" strike="noStrike">
                <a:solidFill>
                  <a:srgbClr val="000000"/>
                </a:solidFill>
                <a:latin typeface="Times New Roman"/>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a:t>
            </a:r>
            <a:r>
              <a:rPr b="0" lang="en-US" sz="600" spc="-1" strike="noStrike" u="sng">
                <a:solidFill>
                  <a:srgbClr val="666699"/>
                </a:solidFill>
                <a:uFillTx/>
                <a:latin typeface="Arial"/>
                <a:hlinkClick r:id="rId2"/>
              </a:rPr>
              <a:t>Biology 29 Home Page</a:t>
            </a:r>
            <a:r>
              <a:rPr b="0" lang="en-US" sz="600" spc="-1" strike="noStrike">
                <a:solidFill>
                  <a:srgbClr val="0000ff"/>
                </a:solidFill>
                <a:latin typeface="Arial"/>
              </a:rPr>
              <a:t> </a:t>
            </a:r>
            <a:r>
              <a:rPr b="0" lang="en-US" sz="600" spc="-1" strike="noStrike">
                <a:solidFill>
                  <a:srgbClr val="000000"/>
                </a:solidFill>
                <a:latin typeface="Arial"/>
              </a:rPr>
              <a:t>|</a:t>
            </a:r>
            <a:r>
              <a:rPr b="0" lang="en-US" sz="600" spc="-1" strike="noStrike">
                <a:solidFill>
                  <a:srgbClr val="0000ff"/>
                </a:solidFill>
                <a:latin typeface="Arial"/>
              </a:rPr>
              <a:t> </a:t>
            </a:r>
            <a:r>
              <a:rPr b="0" lang="en-US" sz="600" spc="-1" strike="noStrike">
                <a:solidFill>
                  <a:srgbClr val="000000"/>
                </a:solidFill>
                <a:latin typeface="Arial"/>
              </a:rPr>
              <a:t>Return to </a:t>
            </a:r>
            <a:r>
              <a:rPr b="0" lang="en-US" sz="600" spc="-1" strike="noStrike" u="sng">
                <a:solidFill>
                  <a:srgbClr val="666699"/>
                </a:solidFill>
                <a:uFillTx/>
                <a:latin typeface="Arial"/>
                <a:hlinkClick r:id="rId3"/>
              </a:rPr>
              <a:t>Skeletal Home Page</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pic>
        <p:nvPicPr>
          <p:cNvPr id="420" name="Picture 5" descr="skeleton"/>
          <p:cNvPicPr/>
          <p:nvPr/>
        </p:nvPicPr>
        <p:blipFill>
          <a:blip r:embed="rId4"/>
          <a:stretch/>
        </p:blipFill>
        <p:spPr>
          <a:xfrm>
            <a:off x="2943360" y="0"/>
            <a:ext cx="2340000" cy="6858000"/>
          </a:xfrm>
          <a:prstGeom prst="rect">
            <a:avLst/>
          </a:prstGeom>
          <a:ln w="0">
            <a:noFill/>
          </a:ln>
        </p:spPr>
      </p:pic>
      <p:sp>
        <p:nvSpPr>
          <p:cNvPr id="421" name="Text Box 8"/>
          <p:cNvSpPr/>
          <p:nvPr/>
        </p:nvSpPr>
        <p:spPr>
          <a:xfrm>
            <a:off x="228600" y="4572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dependent</a:t>
            </a:r>
            <a:endParaRPr b="0" lang="en-US" sz="3200" spc="-1" strike="noStrike">
              <a:solidFill>
                <a:srgbClr val="000000"/>
              </a:solidFill>
              <a:latin typeface="Arial"/>
            </a:endParaRPr>
          </a:p>
        </p:txBody>
      </p:sp>
      <p:sp>
        <p:nvSpPr>
          <p:cNvPr id="422" name="Text Box 9"/>
          <p:cNvSpPr/>
          <p:nvPr/>
        </p:nvSpPr>
        <p:spPr>
          <a:xfrm>
            <a:off x="5486400" y="175248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as a system</a:t>
            </a:r>
            <a:endParaRPr b="0" lang="en-US" sz="3200" spc="-1" strike="noStrike">
              <a:solidFill>
                <a:srgbClr val="000000"/>
              </a:solidFill>
              <a:latin typeface="Arial"/>
            </a:endParaRPr>
          </a:p>
        </p:txBody>
      </p:sp>
      <p:sp>
        <p:nvSpPr>
          <p:cNvPr id="423" name="Text Box 10"/>
          <p:cNvSpPr/>
          <p:nvPr/>
        </p:nvSpPr>
        <p:spPr>
          <a:xfrm>
            <a:off x="0" y="342900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one part and the whole ceases to function efficiently</a:t>
            </a:r>
            <a:endParaRPr b="0" lang="en-US" sz="3200" spc="-1" strike="noStrike">
              <a:solidFill>
                <a:srgbClr val="000000"/>
              </a:solidFill>
              <a:latin typeface="Arial"/>
            </a:endParaRPr>
          </a:p>
        </p:txBody>
      </p:sp>
      <p:sp>
        <p:nvSpPr>
          <p:cNvPr id="424" name="Text Box 11"/>
          <p:cNvSpPr/>
          <p:nvPr/>
        </p:nvSpPr>
        <p:spPr>
          <a:xfrm>
            <a:off x="5867280" y="426708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em b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3" descr=""/>
          <p:cNvPicPr/>
          <p:nvPr/>
        </p:nvPicPr>
        <p:blipFill>
          <a:blip r:embed="rId1"/>
          <a:stretch/>
        </p:blipFill>
        <p:spPr>
          <a:xfrm>
            <a:off x="457200" y="130320"/>
            <a:ext cx="8381880" cy="7583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8720" y="456840"/>
            <a:ext cx="7515360" cy="1182600"/>
          </a:xfrm>
          <a:prstGeom prst="rect">
            <a:avLst/>
          </a:prstGeom>
          <a:blipFill rotWithShape="0">
            <a:blip r:embed="rId1"/>
            <a:stretch/>
          </a:blipFill>
          <a:ln w="381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ceberg </a:t>
            </a:r>
            <a:endParaRPr b="0" lang="en-US" sz="4400" spc="-1" strike="noStrike">
              <a:solidFill>
                <a:srgbClr val="000000"/>
              </a:solidFill>
              <a:latin typeface="Arial"/>
            </a:endParaRPr>
          </a:p>
        </p:txBody>
      </p:sp>
      <p:sp>
        <p:nvSpPr>
          <p:cNvPr id="427" name="Freeform 1027"/>
          <p:cNvSpPr/>
          <p:nvPr/>
        </p:nvSpPr>
        <p:spPr>
          <a:xfrm>
            <a:off x="1295280" y="1523880"/>
            <a:ext cx="7278840" cy="5207040"/>
          </a:xfrm>
          <a:custGeom>
            <a:avLst/>
            <a:gdLst>
              <a:gd name="textAreaLeft" fmla="*/ 0 w 7278840"/>
              <a:gd name="textAreaRight" fmla="*/ 7279200 w 7278840"/>
              <a:gd name="textAreaTop" fmla="*/ 0 h 5207040"/>
              <a:gd name="textAreaBottom" fmla="*/ 5207400 h 5207040"/>
            </a:gdLst>
            <a:ahLst/>
            <a:rect l="textAreaLeft" t="textAreaTop" r="textAreaRight" b="textAreaBottom"/>
            <a:pathLst>
              <a:path w="4585" h="3280">
                <a:moveTo>
                  <a:pt x="0" y="3080"/>
                </a:moveTo>
                <a:cubicBezTo>
                  <a:pt x="42" y="3066"/>
                  <a:pt x="80" y="3056"/>
                  <a:pt x="118" y="3033"/>
                </a:cubicBezTo>
                <a:cubicBezTo>
                  <a:pt x="201" y="2982"/>
                  <a:pt x="130" y="3010"/>
                  <a:pt x="200" y="2986"/>
                </a:cubicBezTo>
                <a:cubicBezTo>
                  <a:pt x="235" y="2936"/>
                  <a:pt x="287" y="2910"/>
                  <a:pt x="329" y="2868"/>
                </a:cubicBezTo>
                <a:cubicBezTo>
                  <a:pt x="374" y="2823"/>
                  <a:pt x="358" y="2825"/>
                  <a:pt x="388" y="2774"/>
                </a:cubicBezTo>
                <a:cubicBezTo>
                  <a:pt x="444" y="2681"/>
                  <a:pt x="510" y="2605"/>
                  <a:pt x="553" y="2504"/>
                </a:cubicBezTo>
                <a:cubicBezTo>
                  <a:pt x="575" y="2374"/>
                  <a:pt x="552" y="2453"/>
                  <a:pt x="659" y="2281"/>
                </a:cubicBezTo>
                <a:cubicBezTo>
                  <a:pt x="693" y="2225"/>
                  <a:pt x="681" y="2148"/>
                  <a:pt x="717" y="2093"/>
                </a:cubicBezTo>
                <a:cubicBezTo>
                  <a:pt x="791" y="1981"/>
                  <a:pt x="848" y="1879"/>
                  <a:pt x="894" y="1752"/>
                </a:cubicBezTo>
                <a:cubicBezTo>
                  <a:pt x="922" y="1675"/>
                  <a:pt x="940" y="1590"/>
                  <a:pt x="976" y="1517"/>
                </a:cubicBezTo>
                <a:cubicBezTo>
                  <a:pt x="1006" y="1457"/>
                  <a:pt x="1073" y="1396"/>
                  <a:pt x="1117" y="1352"/>
                </a:cubicBezTo>
                <a:cubicBezTo>
                  <a:pt x="1143" y="1276"/>
                  <a:pt x="1167" y="1243"/>
                  <a:pt x="1223" y="1187"/>
                </a:cubicBezTo>
                <a:cubicBezTo>
                  <a:pt x="1251" y="1102"/>
                  <a:pt x="1302" y="1033"/>
                  <a:pt x="1340" y="952"/>
                </a:cubicBezTo>
                <a:cubicBezTo>
                  <a:pt x="1365" y="898"/>
                  <a:pt x="1387" y="843"/>
                  <a:pt x="1411" y="788"/>
                </a:cubicBezTo>
                <a:cubicBezTo>
                  <a:pt x="1431" y="741"/>
                  <a:pt x="1474" y="709"/>
                  <a:pt x="1505" y="670"/>
                </a:cubicBezTo>
                <a:cubicBezTo>
                  <a:pt x="1542" y="624"/>
                  <a:pt x="1576" y="576"/>
                  <a:pt x="1611" y="529"/>
                </a:cubicBezTo>
                <a:cubicBezTo>
                  <a:pt x="1644" y="485"/>
                  <a:pt x="1675" y="446"/>
                  <a:pt x="1705" y="400"/>
                </a:cubicBezTo>
                <a:cubicBezTo>
                  <a:pt x="1723" y="372"/>
                  <a:pt x="1764" y="318"/>
                  <a:pt x="1764" y="318"/>
                </a:cubicBezTo>
                <a:cubicBezTo>
                  <a:pt x="1778" y="276"/>
                  <a:pt x="1814" y="166"/>
                  <a:pt x="1834" y="129"/>
                </a:cubicBezTo>
                <a:cubicBezTo>
                  <a:pt x="1859" y="84"/>
                  <a:pt x="1909" y="72"/>
                  <a:pt x="1952" y="59"/>
                </a:cubicBezTo>
                <a:cubicBezTo>
                  <a:pt x="2007" y="42"/>
                  <a:pt x="2054" y="25"/>
                  <a:pt x="2105" y="0"/>
                </a:cubicBezTo>
                <a:cubicBezTo>
                  <a:pt x="2153" y="12"/>
                  <a:pt x="2188" y="29"/>
                  <a:pt x="2234" y="47"/>
                </a:cubicBezTo>
                <a:cubicBezTo>
                  <a:pt x="2257" y="56"/>
                  <a:pt x="2304" y="71"/>
                  <a:pt x="2304" y="71"/>
                </a:cubicBezTo>
                <a:cubicBezTo>
                  <a:pt x="2347" y="133"/>
                  <a:pt x="2318" y="96"/>
                  <a:pt x="2398" y="176"/>
                </a:cubicBezTo>
                <a:cubicBezTo>
                  <a:pt x="2456" y="234"/>
                  <a:pt x="2465" y="298"/>
                  <a:pt x="2504" y="365"/>
                </a:cubicBezTo>
                <a:cubicBezTo>
                  <a:pt x="2512" y="379"/>
                  <a:pt x="2528" y="387"/>
                  <a:pt x="2539" y="400"/>
                </a:cubicBezTo>
                <a:cubicBezTo>
                  <a:pt x="2578" y="446"/>
                  <a:pt x="2551" y="426"/>
                  <a:pt x="2586" y="482"/>
                </a:cubicBezTo>
                <a:cubicBezTo>
                  <a:pt x="2604" y="510"/>
                  <a:pt x="2626" y="536"/>
                  <a:pt x="2645" y="564"/>
                </a:cubicBezTo>
                <a:cubicBezTo>
                  <a:pt x="2661" y="588"/>
                  <a:pt x="2683" y="608"/>
                  <a:pt x="2692" y="635"/>
                </a:cubicBezTo>
                <a:cubicBezTo>
                  <a:pt x="2700" y="658"/>
                  <a:pt x="2704" y="684"/>
                  <a:pt x="2716" y="705"/>
                </a:cubicBezTo>
                <a:cubicBezTo>
                  <a:pt x="2735" y="739"/>
                  <a:pt x="2786" y="800"/>
                  <a:pt x="2786" y="800"/>
                </a:cubicBezTo>
                <a:cubicBezTo>
                  <a:pt x="2802" y="895"/>
                  <a:pt x="2845" y="991"/>
                  <a:pt x="2904" y="1070"/>
                </a:cubicBezTo>
                <a:cubicBezTo>
                  <a:pt x="2937" y="1189"/>
                  <a:pt x="2981" y="1324"/>
                  <a:pt x="3057" y="1423"/>
                </a:cubicBezTo>
                <a:cubicBezTo>
                  <a:pt x="3070" y="1477"/>
                  <a:pt x="3069" y="1536"/>
                  <a:pt x="3092" y="1587"/>
                </a:cubicBezTo>
                <a:cubicBezTo>
                  <a:pt x="3099" y="1602"/>
                  <a:pt x="3116" y="1609"/>
                  <a:pt x="3127" y="1622"/>
                </a:cubicBezTo>
                <a:cubicBezTo>
                  <a:pt x="3169" y="1672"/>
                  <a:pt x="3225" y="1718"/>
                  <a:pt x="3257" y="1775"/>
                </a:cubicBezTo>
                <a:cubicBezTo>
                  <a:pt x="3327" y="1899"/>
                  <a:pt x="3364" y="2035"/>
                  <a:pt x="3421" y="2163"/>
                </a:cubicBezTo>
                <a:cubicBezTo>
                  <a:pt x="3450" y="2227"/>
                  <a:pt x="3463" y="2286"/>
                  <a:pt x="3527" y="2328"/>
                </a:cubicBezTo>
                <a:cubicBezTo>
                  <a:pt x="3586" y="2367"/>
                  <a:pt x="3628" y="2377"/>
                  <a:pt x="3691" y="2398"/>
                </a:cubicBezTo>
                <a:cubicBezTo>
                  <a:pt x="3796" y="2503"/>
                  <a:pt x="3672" y="2393"/>
                  <a:pt x="3809" y="2469"/>
                </a:cubicBezTo>
                <a:cubicBezTo>
                  <a:pt x="3855" y="2495"/>
                  <a:pt x="3887" y="2541"/>
                  <a:pt x="3927" y="2575"/>
                </a:cubicBezTo>
                <a:cubicBezTo>
                  <a:pt x="3988" y="2681"/>
                  <a:pt x="3978" y="2691"/>
                  <a:pt x="4091" y="2739"/>
                </a:cubicBezTo>
                <a:cubicBezTo>
                  <a:pt x="4135" y="2868"/>
                  <a:pt x="4081" y="2764"/>
                  <a:pt x="4209" y="2857"/>
                </a:cubicBezTo>
                <a:cubicBezTo>
                  <a:pt x="4225" y="2869"/>
                  <a:pt x="4231" y="2890"/>
                  <a:pt x="4244" y="2904"/>
                </a:cubicBezTo>
                <a:cubicBezTo>
                  <a:pt x="4357" y="3028"/>
                  <a:pt x="4467" y="3162"/>
                  <a:pt x="4585" y="3280"/>
                </a:cubicBezTo>
              </a:path>
            </a:pathLst>
          </a:custGeom>
          <a:noFill/>
          <a:ln w="38160">
            <a:solidFill>
              <a:srgbClr val="090a15"/>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 name="Freeform 1028"/>
          <p:cNvSpPr/>
          <p:nvPr/>
        </p:nvSpPr>
        <p:spPr>
          <a:xfrm>
            <a:off x="447840" y="2743200"/>
            <a:ext cx="8192880" cy="279360"/>
          </a:xfrm>
          <a:custGeom>
            <a:avLst/>
            <a:gdLst>
              <a:gd name="textAreaLeft" fmla="*/ 0 w 8192880"/>
              <a:gd name="textAreaRight" fmla="*/ 8193240 w 8192880"/>
              <a:gd name="textAreaTop" fmla="*/ 0 h 279360"/>
              <a:gd name="textAreaBottom" fmla="*/ 279720 h 279360"/>
            </a:gdLst>
            <a:ahLst/>
            <a:rect l="textAreaLeft" t="textAreaTop" r="textAreaRight" b="textAreaBottom"/>
            <a:pathLst>
              <a:path w="5161" h="176">
                <a:moveTo>
                  <a:pt x="0" y="129"/>
                </a:moveTo>
                <a:cubicBezTo>
                  <a:pt x="117" y="169"/>
                  <a:pt x="180" y="124"/>
                  <a:pt x="259" y="59"/>
                </a:cubicBezTo>
                <a:cubicBezTo>
                  <a:pt x="272" y="49"/>
                  <a:pt x="280" y="32"/>
                  <a:pt x="294" y="24"/>
                </a:cubicBezTo>
                <a:cubicBezTo>
                  <a:pt x="316" y="12"/>
                  <a:pt x="365" y="0"/>
                  <a:pt x="365" y="0"/>
                </a:cubicBezTo>
                <a:cubicBezTo>
                  <a:pt x="377" y="4"/>
                  <a:pt x="389" y="6"/>
                  <a:pt x="400" y="12"/>
                </a:cubicBezTo>
                <a:cubicBezTo>
                  <a:pt x="412" y="18"/>
                  <a:pt x="422" y="29"/>
                  <a:pt x="435" y="35"/>
                </a:cubicBezTo>
                <a:cubicBezTo>
                  <a:pt x="561" y="91"/>
                  <a:pt x="462" y="30"/>
                  <a:pt x="541" y="82"/>
                </a:cubicBezTo>
                <a:cubicBezTo>
                  <a:pt x="575" y="135"/>
                  <a:pt x="591" y="122"/>
                  <a:pt x="647" y="141"/>
                </a:cubicBezTo>
                <a:cubicBezTo>
                  <a:pt x="718" y="131"/>
                  <a:pt x="776" y="122"/>
                  <a:pt x="835" y="82"/>
                </a:cubicBezTo>
                <a:cubicBezTo>
                  <a:pt x="877" y="19"/>
                  <a:pt x="887" y="25"/>
                  <a:pt x="964" y="35"/>
                </a:cubicBezTo>
                <a:cubicBezTo>
                  <a:pt x="999" y="40"/>
                  <a:pt x="1035" y="43"/>
                  <a:pt x="1070" y="47"/>
                </a:cubicBezTo>
                <a:cubicBezTo>
                  <a:pt x="1128" y="67"/>
                  <a:pt x="1150" y="120"/>
                  <a:pt x="1211" y="141"/>
                </a:cubicBezTo>
                <a:cubicBezTo>
                  <a:pt x="1261" y="158"/>
                  <a:pt x="1234" y="150"/>
                  <a:pt x="1293" y="165"/>
                </a:cubicBezTo>
                <a:cubicBezTo>
                  <a:pt x="1324" y="157"/>
                  <a:pt x="1357" y="154"/>
                  <a:pt x="1387" y="141"/>
                </a:cubicBezTo>
                <a:cubicBezTo>
                  <a:pt x="1583" y="57"/>
                  <a:pt x="1367" y="117"/>
                  <a:pt x="1505" y="82"/>
                </a:cubicBezTo>
                <a:cubicBezTo>
                  <a:pt x="1553" y="51"/>
                  <a:pt x="1604" y="18"/>
                  <a:pt x="1658" y="0"/>
                </a:cubicBezTo>
                <a:cubicBezTo>
                  <a:pt x="1756" y="34"/>
                  <a:pt x="1863" y="21"/>
                  <a:pt x="1963" y="47"/>
                </a:cubicBezTo>
                <a:cubicBezTo>
                  <a:pt x="2012" y="59"/>
                  <a:pt x="2018" y="72"/>
                  <a:pt x="2069" y="106"/>
                </a:cubicBezTo>
                <a:cubicBezTo>
                  <a:pt x="2113" y="135"/>
                  <a:pt x="2197" y="145"/>
                  <a:pt x="2245" y="153"/>
                </a:cubicBezTo>
                <a:cubicBezTo>
                  <a:pt x="2269" y="145"/>
                  <a:pt x="2292" y="137"/>
                  <a:pt x="2316" y="129"/>
                </a:cubicBezTo>
                <a:cubicBezTo>
                  <a:pt x="2328" y="125"/>
                  <a:pt x="2351" y="118"/>
                  <a:pt x="2351" y="118"/>
                </a:cubicBezTo>
                <a:cubicBezTo>
                  <a:pt x="2420" y="73"/>
                  <a:pt x="2471" y="51"/>
                  <a:pt x="2551" y="35"/>
                </a:cubicBezTo>
                <a:cubicBezTo>
                  <a:pt x="2598" y="43"/>
                  <a:pt x="2618" y="42"/>
                  <a:pt x="2657" y="59"/>
                </a:cubicBezTo>
                <a:cubicBezTo>
                  <a:pt x="2706" y="80"/>
                  <a:pt x="2757" y="111"/>
                  <a:pt x="2810" y="118"/>
                </a:cubicBezTo>
                <a:cubicBezTo>
                  <a:pt x="2865" y="126"/>
                  <a:pt x="2974" y="141"/>
                  <a:pt x="2974" y="141"/>
                </a:cubicBezTo>
                <a:cubicBezTo>
                  <a:pt x="3085" y="125"/>
                  <a:pt x="3180" y="78"/>
                  <a:pt x="3292" y="59"/>
                </a:cubicBezTo>
                <a:cubicBezTo>
                  <a:pt x="3384" y="27"/>
                  <a:pt x="3410" y="38"/>
                  <a:pt x="3527" y="47"/>
                </a:cubicBezTo>
                <a:cubicBezTo>
                  <a:pt x="3550" y="55"/>
                  <a:pt x="3574" y="63"/>
                  <a:pt x="3597" y="71"/>
                </a:cubicBezTo>
                <a:cubicBezTo>
                  <a:pt x="3609" y="75"/>
                  <a:pt x="3632" y="82"/>
                  <a:pt x="3632" y="82"/>
                </a:cubicBezTo>
                <a:cubicBezTo>
                  <a:pt x="3703" y="129"/>
                  <a:pt x="3760" y="131"/>
                  <a:pt x="3844" y="141"/>
                </a:cubicBezTo>
                <a:cubicBezTo>
                  <a:pt x="3935" y="131"/>
                  <a:pt x="4025" y="117"/>
                  <a:pt x="4114" y="94"/>
                </a:cubicBezTo>
                <a:cubicBezTo>
                  <a:pt x="4171" y="57"/>
                  <a:pt x="4236" y="39"/>
                  <a:pt x="4302" y="24"/>
                </a:cubicBezTo>
                <a:cubicBezTo>
                  <a:pt x="4337" y="28"/>
                  <a:pt x="4373" y="28"/>
                  <a:pt x="4408" y="35"/>
                </a:cubicBezTo>
                <a:cubicBezTo>
                  <a:pt x="4531" y="59"/>
                  <a:pt x="4436" y="48"/>
                  <a:pt x="4514" y="82"/>
                </a:cubicBezTo>
                <a:cubicBezTo>
                  <a:pt x="4537" y="92"/>
                  <a:pt x="4563" y="95"/>
                  <a:pt x="4585" y="106"/>
                </a:cubicBezTo>
                <a:cubicBezTo>
                  <a:pt x="4655" y="141"/>
                  <a:pt x="4689" y="159"/>
                  <a:pt x="4761" y="176"/>
                </a:cubicBezTo>
                <a:cubicBezTo>
                  <a:pt x="4845" y="156"/>
                  <a:pt x="4953" y="146"/>
                  <a:pt x="5031" y="106"/>
                </a:cubicBezTo>
                <a:cubicBezTo>
                  <a:pt x="5068" y="87"/>
                  <a:pt x="5118" y="59"/>
                  <a:pt x="5161" y="59"/>
                </a:cubicBezTo>
              </a:path>
            </a:pathLst>
          </a:custGeom>
          <a:noFill/>
          <a:ln w="76320">
            <a:solidFill>
              <a:srgbClr val="0000c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9" name="Text Box 1029"/>
          <p:cNvSpPr/>
          <p:nvPr/>
        </p:nvSpPr>
        <p:spPr>
          <a:xfrm>
            <a:off x="3962520" y="220968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a:t>
            </a:r>
            <a:endParaRPr b="0" lang="en-US" sz="2800" spc="-1" strike="noStrike">
              <a:solidFill>
                <a:srgbClr val="000000"/>
              </a:solidFill>
              <a:latin typeface="Arial"/>
            </a:endParaRPr>
          </a:p>
        </p:txBody>
      </p:sp>
      <p:sp>
        <p:nvSpPr>
          <p:cNvPr id="430" name="Text Box 1030"/>
          <p:cNvSpPr/>
          <p:nvPr/>
        </p:nvSpPr>
        <p:spPr>
          <a:xfrm>
            <a:off x="3505320" y="321480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Arial"/>
            </a:endParaRPr>
          </a:p>
        </p:txBody>
      </p:sp>
      <p:sp>
        <p:nvSpPr>
          <p:cNvPr id="431" name="Text Box 1031"/>
          <p:cNvSpPr/>
          <p:nvPr/>
        </p:nvSpPr>
        <p:spPr>
          <a:xfrm>
            <a:off x="3124080" y="533412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odels</a:t>
            </a:r>
            <a:endParaRPr b="0" lang="en-US" sz="2800" spc="-1" strike="noStrike">
              <a:solidFill>
                <a:srgbClr val="000000"/>
              </a:solidFill>
              <a:latin typeface="Arial"/>
            </a:endParaRPr>
          </a:p>
        </p:txBody>
      </p:sp>
      <p:sp>
        <p:nvSpPr>
          <p:cNvPr id="432" name="Text Box 1032"/>
          <p:cNvSpPr/>
          <p:nvPr/>
        </p:nvSpPr>
        <p:spPr>
          <a:xfrm>
            <a:off x="2666880" y="4191120"/>
            <a:ext cx="403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s</a:t>
            </a:r>
            <a:endParaRPr b="0" lang="en-US" sz="2800" spc="-1" strike="noStrike">
              <a:solidFill>
                <a:srgbClr val="000000"/>
              </a:solidFill>
              <a:latin typeface="Arial"/>
            </a:endParaRPr>
          </a:p>
        </p:txBody>
      </p:sp>
      <p:sp>
        <p:nvSpPr>
          <p:cNvPr id="433" name="Freeform 10"/>
          <p:cNvSpPr/>
          <p:nvPr/>
        </p:nvSpPr>
        <p:spPr>
          <a:xfrm>
            <a:off x="1390680" y="3165480"/>
            <a:ext cx="2000160" cy="3197160"/>
          </a:xfrm>
          <a:custGeom>
            <a:avLst/>
            <a:gdLst>
              <a:gd name="textAreaLeft" fmla="*/ 0 w 2000160"/>
              <a:gd name="textAreaRight" fmla="*/ 2000520 w 2000160"/>
              <a:gd name="textAreaTop" fmla="*/ 0 h 3197160"/>
              <a:gd name="textAreaBottom" fmla="*/ 3197520 h 3197160"/>
            </a:gdLst>
            <a:ahLst/>
            <a:rect l="textAreaLeft" t="textAreaTop" r="textAreaRight" b="textAreaBottom"/>
            <a:pathLst>
              <a:path w="1260" h="2014">
                <a:moveTo>
                  <a:pt x="1260" y="574"/>
                </a:moveTo>
                <a:cubicBezTo>
                  <a:pt x="1256" y="562"/>
                  <a:pt x="1257" y="547"/>
                  <a:pt x="1248" y="538"/>
                </a:cubicBezTo>
                <a:cubicBezTo>
                  <a:pt x="1228" y="518"/>
                  <a:pt x="1176" y="490"/>
                  <a:pt x="1176" y="490"/>
                </a:cubicBezTo>
                <a:cubicBezTo>
                  <a:pt x="1168" y="478"/>
                  <a:pt x="1162" y="464"/>
                  <a:pt x="1152" y="454"/>
                </a:cubicBezTo>
                <a:cubicBezTo>
                  <a:pt x="1142" y="444"/>
                  <a:pt x="1125" y="441"/>
                  <a:pt x="1116" y="430"/>
                </a:cubicBezTo>
                <a:cubicBezTo>
                  <a:pt x="1097" y="408"/>
                  <a:pt x="1068" y="358"/>
                  <a:pt x="1068" y="358"/>
                </a:cubicBezTo>
                <a:cubicBezTo>
                  <a:pt x="1058" y="317"/>
                  <a:pt x="1042" y="279"/>
                  <a:pt x="1032" y="238"/>
                </a:cubicBezTo>
                <a:cubicBezTo>
                  <a:pt x="1028" y="222"/>
                  <a:pt x="1031" y="202"/>
                  <a:pt x="1020" y="190"/>
                </a:cubicBezTo>
                <a:cubicBezTo>
                  <a:pt x="979" y="144"/>
                  <a:pt x="920" y="132"/>
                  <a:pt x="864" y="118"/>
                </a:cubicBezTo>
                <a:cubicBezTo>
                  <a:pt x="833" y="72"/>
                  <a:pt x="785" y="28"/>
                  <a:pt x="732" y="10"/>
                </a:cubicBezTo>
                <a:cubicBezTo>
                  <a:pt x="672" y="15"/>
                  <a:pt x="602" y="0"/>
                  <a:pt x="552" y="34"/>
                </a:cubicBezTo>
                <a:cubicBezTo>
                  <a:pt x="515" y="59"/>
                  <a:pt x="527" y="114"/>
                  <a:pt x="492" y="142"/>
                </a:cubicBezTo>
                <a:cubicBezTo>
                  <a:pt x="435" y="187"/>
                  <a:pt x="348" y="161"/>
                  <a:pt x="276" y="166"/>
                </a:cubicBezTo>
                <a:cubicBezTo>
                  <a:pt x="264" y="170"/>
                  <a:pt x="249" y="169"/>
                  <a:pt x="240" y="178"/>
                </a:cubicBezTo>
                <a:cubicBezTo>
                  <a:pt x="226" y="192"/>
                  <a:pt x="212" y="274"/>
                  <a:pt x="204" y="298"/>
                </a:cubicBezTo>
                <a:cubicBezTo>
                  <a:pt x="200" y="398"/>
                  <a:pt x="198" y="498"/>
                  <a:pt x="192" y="598"/>
                </a:cubicBezTo>
                <a:cubicBezTo>
                  <a:pt x="190" y="622"/>
                  <a:pt x="180" y="646"/>
                  <a:pt x="180" y="670"/>
                </a:cubicBezTo>
                <a:cubicBezTo>
                  <a:pt x="180" y="698"/>
                  <a:pt x="187" y="726"/>
                  <a:pt x="192" y="754"/>
                </a:cubicBezTo>
                <a:cubicBezTo>
                  <a:pt x="199" y="794"/>
                  <a:pt x="216" y="874"/>
                  <a:pt x="216" y="874"/>
                </a:cubicBezTo>
                <a:cubicBezTo>
                  <a:pt x="212" y="926"/>
                  <a:pt x="217" y="979"/>
                  <a:pt x="204" y="1030"/>
                </a:cubicBezTo>
                <a:cubicBezTo>
                  <a:pt x="200" y="1046"/>
                  <a:pt x="178" y="1053"/>
                  <a:pt x="168" y="1066"/>
                </a:cubicBezTo>
                <a:cubicBezTo>
                  <a:pt x="150" y="1089"/>
                  <a:pt x="136" y="1114"/>
                  <a:pt x="120" y="1138"/>
                </a:cubicBezTo>
                <a:cubicBezTo>
                  <a:pt x="104" y="1162"/>
                  <a:pt x="88" y="1186"/>
                  <a:pt x="72" y="1210"/>
                </a:cubicBezTo>
                <a:cubicBezTo>
                  <a:pt x="64" y="1222"/>
                  <a:pt x="48" y="1246"/>
                  <a:pt x="48" y="1246"/>
                </a:cubicBezTo>
                <a:cubicBezTo>
                  <a:pt x="59" y="1376"/>
                  <a:pt x="75" y="1517"/>
                  <a:pt x="0" y="1630"/>
                </a:cubicBezTo>
                <a:cubicBezTo>
                  <a:pt x="7" y="1763"/>
                  <a:pt x="24" y="1883"/>
                  <a:pt x="24" y="201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1"/>
          <p:cNvSpPr/>
          <p:nvPr/>
        </p:nvSpPr>
        <p:spPr>
          <a:xfrm>
            <a:off x="5867280" y="3143160"/>
            <a:ext cx="3033720" cy="3433680"/>
          </a:xfrm>
          <a:custGeom>
            <a:avLst/>
            <a:gdLst>
              <a:gd name="textAreaLeft" fmla="*/ 0 w 3033720"/>
              <a:gd name="textAreaRight" fmla="*/ 3034080 w 3033720"/>
              <a:gd name="textAreaTop" fmla="*/ 0 h 3433680"/>
              <a:gd name="textAreaBottom" fmla="*/ 3434040 h 3433680"/>
            </a:gdLst>
            <a:ahLst/>
            <a:rect l="textAreaLeft" t="textAreaTop" r="textAreaRight" b="textAreaBottom"/>
            <a:pathLst>
              <a:path w="1911" h="2163">
                <a:moveTo>
                  <a:pt x="0" y="0"/>
                </a:moveTo>
                <a:cubicBezTo>
                  <a:pt x="4" y="32"/>
                  <a:pt x="6" y="64"/>
                  <a:pt x="12" y="96"/>
                </a:cubicBezTo>
                <a:cubicBezTo>
                  <a:pt x="28" y="187"/>
                  <a:pt x="110" y="205"/>
                  <a:pt x="180" y="240"/>
                </a:cubicBezTo>
                <a:cubicBezTo>
                  <a:pt x="220" y="300"/>
                  <a:pt x="192" y="268"/>
                  <a:pt x="276" y="324"/>
                </a:cubicBezTo>
                <a:cubicBezTo>
                  <a:pt x="288" y="332"/>
                  <a:pt x="312" y="348"/>
                  <a:pt x="312" y="348"/>
                </a:cubicBezTo>
                <a:cubicBezTo>
                  <a:pt x="328" y="372"/>
                  <a:pt x="351" y="393"/>
                  <a:pt x="360" y="420"/>
                </a:cubicBezTo>
                <a:cubicBezTo>
                  <a:pt x="364" y="432"/>
                  <a:pt x="363" y="447"/>
                  <a:pt x="372" y="456"/>
                </a:cubicBezTo>
                <a:cubicBezTo>
                  <a:pt x="378" y="462"/>
                  <a:pt x="456" y="480"/>
                  <a:pt x="456" y="480"/>
                </a:cubicBezTo>
                <a:cubicBezTo>
                  <a:pt x="510" y="475"/>
                  <a:pt x="666" y="453"/>
                  <a:pt x="720" y="480"/>
                </a:cubicBezTo>
                <a:cubicBezTo>
                  <a:pt x="738" y="489"/>
                  <a:pt x="721" y="523"/>
                  <a:pt x="732" y="540"/>
                </a:cubicBezTo>
                <a:cubicBezTo>
                  <a:pt x="739" y="551"/>
                  <a:pt x="756" y="548"/>
                  <a:pt x="768" y="552"/>
                </a:cubicBezTo>
                <a:cubicBezTo>
                  <a:pt x="780" y="544"/>
                  <a:pt x="796" y="540"/>
                  <a:pt x="804" y="528"/>
                </a:cubicBezTo>
                <a:cubicBezTo>
                  <a:pt x="817" y="507"/>
                  <a:pt x="828" y="456"/>
                  <a:pt x="828" y="456"/>
                </a:cubicBezTo>
                <a:cubicBezTo>
                  <a:pt x="832" y="428"/>
                  <a:pt x="830" y="398"/>
                  <a:pt x="840" y="372"/>
                </a:cubicBezTo>
                <a:cubicBezTo>
                  <a:pt x="877" y="277"/>
                  <a:pt x="892" y="299"/>
                  <a:pt x="984" y="288"/>
                </a:cubicBezTo>
                <a:cubicBezTo>
                  <a:pt x="1128" y="240"/>
                  <a:pt x="1031" y="263"/>
                  <a:pt x="1284" y="276"/>
                </a:cubicBezTo>
                <a:cubicBezTo>
                  <a:pt x="1363" y="394"/>
                  <a:pt x="1319" y="470"/>
                  <a:pt x="1332" y="648"/>
                </a:cubicBezTo>
                <a:cubicBezTo>
                  <a:pt x="1335" y="692"/>
                  <a:pt x="1361" y="731"/>
                  <a:pt x="1380" y="768"/>
                </a:cubicBezTo>
                <a:cubicBezTo>
                  <a:pt x="1402" y="812"/>
                  <a:pt x="1383" y="809"/>
                  <a:pt x="1404" y="864"/>
                </a:cubicBezTo>
                <a:cubicBezTo>
                  <a:pt x="1409" y="878"/>
                  <a:pt x="1422" y="887"/>
                  <a:pt x="1428" y="900"/>
                </a:cubicBezTo>
                <a:cubicBezTo>
                  <a:pt x="1434" y="911"/>
                  <a:pt x="1436" y="924"/>
                  <a:pt x="1440" y="936"/>
                </a:cubicBezTo>
                <a:cubicBezTo>
                  <a:pt x="1444" y="972"/>
                  <a:pt x="1441" y="1010"/>
                  <a:pt x="1452" y="1044"/>
                </a:cubicBezTo>
                <a:cubicBezTo>
                  <a:pt x="1466" y="1087"/>
                  <a:pt x="1505" y="1121"/>
                  <a:pt x="1536" y="1152"/>
                </a:cubicBezTo>
                <a:cubicBezTo>
                  <a:pt x="1566" y="1241"/>
                  <a:pt x="1652" y="1280"/>
                  <a:pt x="1716" y="1344"/>
                </a:cubicBezTo>
                <a:cubicBezTo>
                  <a:pt x="1726" y="1373"/>
                  <a:pt x="1745" y="1398"/>
                  <a:pt x="1752" y="1428"/>
                </a:cubicBezTo>
                <a:cubicBezTo>
                  <a:pt x="1761" y="1463"/>
                  <a:pt x="1781" y="1576"/>
                  <a:pt x="1788" y="1620"/>
                </a:cubicBezTo>
                <a:cubicBezTo>
                  <a:pt x="1801" y="1699"/>
                  <a:pt x="1803" y="1769"/>
                  <a:pt x="1848" y="1836"/>
                </a:cubicBezTo>
                <a:cubicBezTo>
                  <a:pt x="1861" y="1900"/>
                  <a:pt x="1871" y="1964"/>
                  <a:pt x="1884" y="2028"/>
                </a:cubicBezTo>
                <a:cubicBezTo>
                  <a:pt x="1911" y="2163"/>
                  <a:pt x="1908" y="2147"/>
                  <a:pt x="1908" y="208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2"/>
          <p:cNvSpPr/>
          <p:nvPr/>
        </p:nvSpPr>
        <p:spPr>
          <a:xfrm>
            <a:off x="5981760" y="3543480"/>
            <a:ext cx="2755800" cy="3205080"/>
          </a:xfrm>
          <a:custGeom>
            <a:avLst/>
            <a:gdLst>
              <a:gd name="textAreaLeft" fmla="*/ 0 w 2755800"/>
              <a:gd name="textAreaRight" fmla="*/ 2756160 w 2755800"/>
              <a:gd name="textAreaTop" fmla="*/ 0 h 3205080"/>
              <a:gd name="textAreaBottom" fmla="*/ 3205440 h 3205080"/>
            </a:gdLst>
            <a:ahLst/>
            <a:rect l="textAreaLeft" t="textAreaTop" r="textAreaRight" b="textAreaBottom"/>
            <a:pathLst>
              <a:path w="1736" h="2019">
                <a:moveTo>
                  <a:pt x="0" y="0"/>
                </a:moveTo>
                <a:cubicBezTo>
                  <a:pt x="17" y="85"/>
                  <a:pt x="10" y="103"/>
                  <a:pt x="96" y="132"/>
                </a:cubicBezTo>
                <a:cubicBezTo>
                  <a:pt x="112" y="180"/>
                  <a:pt x="116" y="228"/>
                  <a:pt x="132" y="276"/>
                </a:cubicBezTo>
                <a:cubicBezTo>
                  <a:pt x="136" y="312"/>
                  <a:pt x="135" y="349"/>
                  <a:pt x="144" y="384"/>
                </a:cubicBezTo>
                <a:cubicBezTo>
                  <a:pt x="155" y="426"/>
                  <a:pt x="251" y="455"/>
                  <a:pt x="288" y="480"/>
                </a:cubicBezTo>
                <a:cubicBezTo>
                  <a:pt x="316" y="591"/>
                  <a:pt x="336" y="672"/>
                  <a:pt x="420" y="756"/>
                </a:cubicBezTo>
                <a:cubicBezTo>
                  <a:pt x="427" y="774"/>
                  <a:pt x="450" y="827"/>
                  <a:pt x="456" y="852"/>
                </a:cubicBezTo>
                <a:cubicBezTo>
                  <a:pt x="463" y="879"/>
                  <a:pt x="466" y="921"/>
                  <a:pt x="480" y="948"/>
                </a:cubicBezTo>
                <a:cubicBezTo>
                  <a:pt x="486" y="961"/>
                  <a:pt x="498" y="971"/>
                  <a:pt x="504" y="984"/>
                </a:cubicBezTo>
                <a:cubicBezTo>
                  <a:pt x="514" y="1007"/>
                  <a:pt x="520" y="1032"/>
                  <a:pt x="528" y="1056"/>
                </a:cubicBezTo>
                <a:cubicBezTo>
                  <a:pt x="532" y="1068"/>
                  <a:pt x="530" y="1084"/>
                  <a:pt x="540" y="1092"/>
                </a:cubicBezTo>
                <a:cubicBezTo>
                  <a:pt x="604" y="1140"/>
                  <a:pt x="625" y="1140"/>
                  <a:pt x="708" y="1152"/>
                </a:cubicBezTo>
                <a:cubicBezTo>
                  <a:pt x="741" y="1163"/>
                  <a:pt x="819" y="1178"/>
                  <a:pt x="852" y="1200"/>
                </a:cubicBezTo>
                <a:cubicBezTo>
                  <a:pt x="876" y="1216"/>
                  <a:pt x="924" y="1248"/>
                  <a:pt x="924" y="1248"/>
                </a:cubicBezTo>
                <a:cubicBezTo>
                  <a:pt x="952" y="1290"/>
                  <a:pt x="972" y="1304"/>
                  <a:pt x="1020" y="1320"/>
                </a:cubicBezTo>
                <a:cubicBezTo>
                  <a:pt x="1032" y="1332"/>
                  <a:pt x="1041" y="1348"/>
                  <a:pt x="1056" y="1356"/>
                </a:cubicBezTo>
                <a:cubicBezTo>
                  <a:pt x="1078" y="1368"/>
                  <a:pt x="1107" y="1366"/>
                  <a:pt x="1128" y="1380"/>
                </a:cubicBezTo>
                <a:cubicBezTo>
                  <a:pt x="1140" y="1388"/>
                  <a:pt x="1152" y="1396"/>
                  <a:pt x="1164" y="1404"/>
                </a:cubicBezTo>
                <a:cubicBezTo>
                  <a:pt x="1182" y="1459"/>
                  <a:pt x="1216" y="1506"/>
                  <a:pt x="1236" y="1560"/>
                </a:cubicBezTo>
                <a:cubicBezTo>
                  <a:pt x="1248" y="1593"/>
                  <a:pt x="1242" y="1620"/>
                  <a:pt x="1272" y="1644"/>
                </a:cubicBezTo>
                <a:cubicBezTo>
                  <a:pt x="1316" y="1679"/>
                  <a:pt x="1384" y="1663"/>
                  <a:pt x="1440" y="1668"/>
                </a:cubicBezTo>
                <a:cubicBezTo>
                  <a:pt x="1509" y="1691"/>
                  <a:pt x="1451" y="1661"/>
                  <a:pt x="1488" y="1716"/>
                </a:cubicBezTo>
                <a:cubicBezTo>
                  <a:pt x="1497" y="1730"/>
                  <a:pt x="1514" y="1739"/>
                  <a:pt x="1524" y="1752"/>
                </a:cubicBezTo>
                <a:cubicBezTo>
                  <a:pt x="1559" y="1797"/>
                  <a:pt x="1588" y="1849"/>
                  <a:pt x="1620" y="1896"/>
                </a:cubicBezTo>
                <a:cubicBezTo>
                  <a:pt x="1639" y="1925"/>
                  <a:pt x="1676" y="1935"/>
                  <a:pt x="1704" y="1956"/>
                </a:cubicBezTo>
                <a:cubicBezTo>
                  <a:pt x="1715" y="1989"/>
                  <a:pt x="1736" y="2019"/>
                  <a:pt x="1668" y="1980"/>
                </a:cubicBezTo>
                <a:cubicBezTo>
                  <a:pt x="1630" y="1958"/>
                  <a:pt x="1616" y="1913"/>
                  <a:pt x="1572" y="1884"/>
                </a:cubicBezTo>
                <a:cubicBezTo>
                  <a:pt x="1551" y="1852"/>
                  <a:pt x="1544" y="1837"/>
                  <a:pt x="1512" y="1812"/>
                </a:cubicBezTo>
                <a:cubicBezTo>
                  <a:pt x="1489" y="1794"/>
                  <a:pt x="1460" y="1784"/>
                  <a:pt x="1440" y="1764"/>
                </a:cubicBezTo>
                <a:cubicBezTo>
                  <a:pt x="1428" y="1752"/>
                  <a:pt x="1419" y="1736"/>
                  <a:pt x="1404" y="1728"/>
                </a:cubicBezTo>
                <a:cubicBezTo>
                  <a:pt x="1328" y="1686"/>
                  <a:pt x="1332" y="1732"/>
                  <a:pt x="1332"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3"/>
          <p:cNvSpPr/>
          <p:nvPr/>
        </p:nvSpPr>
        <p:spPr>
          <a:xfrm>
            <a:off x="1401840" y="3695760"/>
            <a:ext cx="1608120" cy="2709720"/>
          </a:xfrm>
          <a:custGeom>
            <a:avLst/>
            <a:gdLst>
              <a:gd name="textAreaLeft" fmla="*/ 0 w 1608120"/>
              <a:gd name="textAreaRight" fmla="*/ 1608480 w 1608120"/>
              <a:gd name="textAreaTop" fmla="*/ 0 h 2709720"/>
              <a:gd name="textAreaBottom" fmla="*/ 2710080 h 2709720"/>
            </a:gdLst>
            <a:ahLst/>
            <a:rect l="textAreaLeft" t="textAreaTop" r="textAreaRight" b="textAreaBottom"/>
            <a:pathLst>
              <a:path w="1013" h="1707">
                <a:moveTo>
                  <a:pt x="1013" y="0"/>
                </a:moveTo>
                <a:cubicBezTo>
                  <a:pt x="956" y="38"/>
                  <a:pt x="951" y="65"/>
                  <a:pt x="929" y="132"/>
                </a:cubicBezTo>
                <a:cubicBezTo>
                  <a:pt x="920" y="159"/>
                  <a:pt x="857" y="180"/>
                  <a:pt x="857" y="180"/>
                </a:cubicBezTo>
                <a:cubicBezTo>
                  <a:pt x="853" y="224"/>
                  <a:pt x="864" y="272"/>
                  <a:pt x="845" y="312"/>
                </a:cubicBezTo>
                <a:cubicBezTo>
                  <a:pt x="833" y="338"/>
                  <a:pt x="773" y="360"/>
                  <a:pt x="773" y="360"/>
                </a:cubicBezTo>
                <a:cubicBezTo>
                  <a:pt x="752" y="422"/>
                  <a:pt x="763" y="491"/>
                  <a:pt x="737" y="552"/>
                </a:cubicBezTo>
                <a:cubicBezTo>
                  <a:pt x="731" y="565"/>
                  <a:pt x="719" y="575"/>
                  <a:pt x="713" y="588"/>
                </a:cubicBezTo>
                <a:cubicBezTo>
                  <a:pt x="707" y="599"/>
                  <a:pt x="707" y="613"/>
                  <a:pt x="701" y="624"/>
                </a:cubicBezTo>
                <a:cubicBezTo>
                  <a:pt x="687" y="649"/>
                  <a:pt x="653" y="696"/>
                  <a:pt x="653" y="696"/>
                </a:cubicBezTo>
                <a:cubicBezTo>
                  <a:pt x="634" y="771"/>
                  <a:pt x="632" y="865"/>
                  <a:pt x="605" y="936"/>
                </a:cubicBezTo>
                <a:cubicBezTo>
                  <a:pt x="586" y="986"/>
                  <a:pt x="545" y="1033"/>
                  <a:pt x="521" y="1080"/>
                </a:cubicBezTo>
                <a:cubicBezTo>
                  <a:pt x="507" y="1107"/>
                  <a:pt x="502" y="1139"/>
                  <a:pt x="485" y="1164"/>
                </a:cubicBezTo>
                <a:cubicBezTo>
                  <a:pt x="459" y="1203"/>
                  <a:pt x="417" y="1235"/>
                  <a:pt x="389" y="1272"/>
                </a:cubicBezTo>
                <a:cubicBezTo>
                  <a:pt x="350" y="1322"/>
                  <a:pt x="342" y="1372"/>
                  <a:pt x="293" y="1404"/>
                </a:cubicBezTo>
                <a:cubicBezTo>
                  <a:pt x="284" y="1430"/>
                  <a:pt x="279" y="1457"/>
                  <a:pt x="257" y="1476"/>
                </a:cubicBezTo>
                <a:cubicBezTo>
                  <a:pt x="235" y="1495"/>
                  <a:pt x="185" y="1524"/>
                  <a:pt x="185" y="1524"/>
                </a:cubicBezTo>
                <a:cubicBezTo>
                  <a:pt x="169" y="1548"/>
                  <a:pt x="161" y="1580"/>
                  <a:pt x="137" y="1596"/>
                </a:cubicBezTo>
                <a:cubicBezTo>
                  <a:pt x="113" y="1612"/>
                  <a:pt x="65" y="1644"/>
                  <a:pt x="65" y="1644"/>
                </a:cubicBezTo>
                <a:cubicBezTo>
                  <a:pt x="57" y="1656"/>
                  <a:pt x="51" y="1670"/>
                  <a:pt x="41" y="1680"/>
                </a:cubicBezTo>
                <a:cubicBezTo>
                  <a:pt x="31" y="1690"/>
                  <a:pt x="18" y="1698"/>
                  <a:pt x="5" y="1704"/>
                </a:cubicBezTo>
                <a:cubicBezTo>
                  <a:pt x="0" y="1707"/>
                  <a:pt x="13" y="1696"/>
                  <a:pt x="17"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4"/>
          <p:cNvSpPr/>
          <p:nvPr/>
        </p:nvSpPr>
        <p:spPr>
          <a:xfrm>
            <a:off x="6210360" y="4035600"/>
            <a:ext cx="2476440" cy="2798640"/>
          </a:xfrm>
          <a:custGeom>
            <a:avLst/>
            <a:gdLst>
              <a:gd name="textAreaLeft" fmla="*/ 0 w 2476440"/>
              <a:gd name="textAreaRight" fmla="*/ 2476800 w 2476440"/>
              <a:gd name="textAreaTop" fmla="*/ 0 h 2798640"/>
              <a:gd name="textAreaBottom" fmla="*/ 2798640 h 2798640"/>
            </a:gdLst>
            <a:ahLst/>
            <a:rect l="textAreaLeft" t="textAreaTop" r="textAreaRight" b="textAreaBottom"/>
            <a:pathLst>
              <a:path w="1560" h="1763">
                <a:moveTo>
                  <a:pt x="0" y="26"/>
                </a:moveTo>
                <a:cubicBezTo>
                  <a:pt x="20" y="30"/>
                  <a:pt x="40" y="33"/>
                  <a:pt x="60" y="38"/>
                </a:cubicBezTo>
                <a:cubicBezTo>
                  <a:pt x="72" y="41"/>
                  <a:pt x="91" y="38"/>
                  <a:pt x="96" y="50"/>
                </a:cubicBezTo>
                <a:cubicBezTo>
                  <a:pt x="109" y="84"/>
                  <a:pt x="91" y="126"/>
                  <a:pt x="108" y="158"/>
                </a:cubicBezTo>
                <a:cubicBezTo>
                  <a:pt x="122" y="183"/>
                  <a:pt x="180" y="206"/>
                  <a:pt x="180" y="206"/>
                </a:cubicBezTo>
                <a:cubicBezTo>
                  <a:pt x="210" y="296"/>
                  <a:pt x="232" y="390"/>
                  <a:pt x="300" y="458"/>
                </a:cubicBezTo>
                <a:cubicBezTo>
                  <a:pt x="304" y="470"/>
                  <a:pt x="306" y="483"/>
                  <a:pt x="312" y="494"/>
                </a:cubicBezTo>
                <a:cubicBezTo>
                  <a:pt x="326" y="519"/>
                  <a:pt x="360" y="566"/>
                  <a:pt x="360" y="566"/>
                </a:cubicBezTo>
                <a:cubicBezTo>
                  <a:pt x="366" y="610"/>
                  <a:pt x="352" y="666"/>
                  <a:pt x="384" y="698"/>
                </a:cubicBezTo>
                <a:cubicBezTo>
                  <a:pt x="428" y="742"/>
                  <a:pt x="480" y="750"/>
                  <a:pt x="528" y="782"/>
                </a:cubicBezTo>
                <a:cubicBezTo>
                  <a:pt x="556" y="823"/>
                  <a:pt x="583" y="850"/>
                  <a:pt x="624" y="878"/>
                </a:cubicBezTo>
                <a:cubicBezTo>
                  <a:pt x="671" y="948"/>
                  <a:pt x="619" y="887"/>
                  <a:pt x="696" y="926"/>
                </a:cubicBezTo>
                <a:cubicBezTo>
                  <a:pt x="750" y="953"/>
                  <a:pt x="820" y="1027"/>
                  <a:pt x="876" y="1046"/>
                </a:cubicBezTo>
                <a:cubicBezTo>
                  <a:pt x="946" y="1069"/>
                  <a:pt x="968" y="1078"/>
                  <a:pt x="1020" y="1130"/>
                </a:cubicBezTo>
                <a:cubicBezTo>
                  <a:pt x="1029" y="1158"/>
                  <a:pt x="1033" y="1187"/>
                  <a:pt x="1044" y="1214"/>
                </a:cubicBezTo>
                <a:cubicBezTo>
                  <a:pt x="1050" y="1227"/>
                  <a:pt x="1062" y="1237"/>
                  <a:pt x="1068" y="1250"/>
                </a:cubicBezTo>
                <a:cubicBezTo>
                  <a:pt x="1074" y="1261"/>
                  <a:pt x="1080" y="1299"/>
                  <a:pt x="1080" y="1286"/>
                </a:cubicBezTo>
                <a:cubicBezTo>
                  <a:pt x="1080" y="1227"/>
                  <a:pt x="1068" y="1244"/>
                  <a:pt x="1032" y="1214"/>
                </a:cubicBezTo>
                <a:cubicBezTo>
                  <a:pt x="914" y="1116"/>
                  <a:pt x="1066" y="1236"/>
                  <a:pt x="972" y="1142"/>
                </a:cubicBezTo>
                <a:cubicBezTo>
                  <a:pt x="950" y="1120"/>
                  <a:pt x="922" y="1104"/>
                  <a:pt x="900" y="1082"/>
                </a:cubicBezTo>
                <a:cubicBezTo>
                  <a:pt x="892" y="1094"/>
                  <a:pt x="876" y="1104"/>
                  <a:pt x="876" y="1118"/>
                </a:cubicBezTo>
                <a:cubicBezTo>
                  <a:pt x="876" y="1185"/>
                  <a:pt x="895" y="1187"/>
                  <a:pt x="936" y="1214"/>
                </a:cubicBezTo>
                <a:cubicBezTo>
                  <a:pt x="972" y="1268"/>
                  <a:pt x="1019" y="1290"/>
                  <a:pt x="1080" y="1310"/>
                </a:cubicBezTo>
                <a:cubicBezTo>
                  <a:pt x="1096" y="1302"/>
                  <a:pt x="1121" y="1303"/>
                  <a:pt x="1128" y="1286"/>
                </a:cubicBezTo>
                <a:cubicBezTo>
                  <a:pt x="1133" y="1273"/>
                  <a:pt x="1115" y="1259"/>
                  <a:pt x="1104" y="1250"/>
                </a:cubicBezTo>
                <a:cubicBezTo>
                  <a:pt x="1046" y="1199"/>
                  <a:pt x="993" y="1194"/>
                  <a:pt x="924" y="1166"/>
                </a:cubicBezTo>
                <a:cubicBezTo>
                  <a:pt x="912" y="1154"/>
                  <a:pt x="902" y="1139"/>
                  <a:pt x="888" y="1130"/>
                </a:cubicBezTo>
                <a:cubicBezTo>
                  <a:pt x="877" y="1123"/>
                  <a:pt x="861" y="1127"/>
                  <a:pt x="852" y="1118"/>
                </a:cubicBezTo>
                <a:cubicBezTo>
                  <a:pt x="843" y="1109"/>
                  <a:pt x="828" y="1084"/>
                  <a:pt x="840" y="1082"/>
                </a:cubicBezTo>
                <a:cubicBezTo>
                  <a:pt x="865" y="1077"/>
                  <a:pt x="888" y="1098"/>
                  <a:pt x="912" y="1106"/>
                </a:cubicBezTo>
                <a:cubicBezTo>
                  <a:pt x="964" y="1123"/>
                  <a:pt x="936" y="1115"/>
                  <a:pt x="996" y="1130"/>
                </a:cubicBezTo>
                <a:cubicBezTo>
                  <a:pt x="1031" y="1156"/>
                  <a:pt x="1071" y="1175"/>
                  <a:pt x="1104" y="1202"/>
                </a:cubicBezTo>
                <a:cubicBezTo>
                  <a:pt x="1215" y="1293"/>
                  <a:pt x="1132" y="1259"/>
                  <a:pt x="1212" y="1286"/>
                </a:cubicBezTo>
                <a:cubicBezTo>
                  <a:pt x="1247" y="1339"/>
                  <a:pt x="1277" y="1361"/>
                  <a:pt x="1332" y="1394"/>
                </a:cubicBezTo>
                <a:cubicBezTo>
                  <a:pt x="1340" y="1406"/>
                  <a:pt x="1350" y="1417"/>
                  <a:pt x="1356" y="1430"/>
                </a:cubicBezTo>
                <a:cubicBezTo>
                  <a:pt x="1362" y="1441"/>
                  <a:pt x="1362" y="1455"/>
                  <a:pt x="1368" y="1466"/>
                </a:cubicBezTo>
                <a:cubicBezTo>
                  <a:pt x="1400" y="1523"/>
                  <a:pt x="1442" y="1576"/>
                  <a:pt x="1488" y="1622"/>
                </a:cubicBezTo>
                <a:cubicBezTo>
                  <a:pt x="1516" y="1706"/>
                  <a:pt x="1536" y="1686"/>
                  <a:pt x="1476" y="1706"/>
                </a:cubicBezTo>
                <a:cubicBezTo>
                  <a:pt x="1450" y="1671"/>
                  <a:pt x="1437" y="1650"/>
                  <a:pt x="1404" y="1622"/>
                </a:cubicBezTo>
                <a:cubicBezTo>
                  <a:pt x="1393" y="1613"/>
                  <a:pt x="1378" y="1608"/>
                  <a:pt x="1368" y="1598"/>
                </a:cubicBezTo>
                <a:cubicBezTo>
                  <a:pt x="1342" y="1572"/>
                  <a:pt x="1322" y="1540"/>
                  <a:pt x="1296" y="1514"/>
                </a:cubicBezTo>
                <a:cubicBezTo>
                  <a:pt x="1316" y="1575"/>
                  <a:pt x="1384" y="1618"/>
                  <a:pt x="1440" y="1646"/>
                </a:cubicBezTo>
                <a:cubicBezTo>
                  <a:pt x="1448" y="1658"/>
                  <a:pt x="1454" y="1672"/>
                  <a:pt x="1464" y="1682"/>
                </a:cubicBezTo>
                <a:cubicBezTo>
                  <a:pt x="1474" y="1692"/>
                  <a:pt x="1491" y="1695"/>
                  <a:pt x="1500" y="1706"/>
                </a:cubicBezTo>
                <a:cubicBezTo>
                  <a:pt x="1511" y="1720"/>
                  <a:pt x="1511" y="1741"/>
                  <a:pt x="1524" y="1754"/>
                </a:cubicBezTo>
                <a:cubicBezTo>
                  <a:pt x="1533" y="1763"/>
                  <a:pt x="1518" y="1729"/>
                  <a:pt x="1512" y="1718"/>
                </a:cubicBezTo>
                <a:cubicBezTo>
                  <a:pt x="1506" y="1705"/>
                  <a:pt x="1499" y="1691"/>
                  <a:pt x="1488" y="1682"/>
                </a:cubicBezTo>
                <a:cubicBezTo>
                  <a:pt x="1466" y="1663"/>
                  <a:pt x="1416" y="1634"/>
                  <a:pt x="1416" y="1634"/>
                </a:cubicBezTo>
                <a:cubicBezTo>
                  <a:pt x="1388" y="1593"/>
                  <a:pt x="1361" y="1566"/>
                  <a:pt x="1320" y="1538"/>
                </a:cubicBezTo>
                <a:cubicBezTo>
                  <a:pt x="1295" y="1488"/>
                  <a:pt x="1282" y="1461"/>
                  <a:pt x="1236" y="1430"/>
                </a:cubicBezTo>
                <a:cubicBezTo>
                  <a:pt x="1210" y="1536"/>
                  <a:pt x="1239" y="1525"/>
                  <a:pt x="1320" y="1574"/>
                </a:cubicBezTo>
                <a:cubicBezTo>
                  <a:pt x="1367" y="1602"/>
                  <a:pt x="1400" y="1629"/>
                  <a:pt x="1452" y="1646"/>
                </a:cubicBezTo>
                <a:cubicBezTo>
                  <a:pt x="1534" y="1728"/>
                  <a:pt x="1496" y="1699"/>
                  <a:pt x="1560" y="1742"/>
                </a:cubicBezTo>
                <a:cubicBezTo>
                  <a:pt x="1532" y="1657"/>
                  <a:pt x="1466" y="1600"/>
                  <a:pt x="1404" y="1538"/>
                </a:cubicBezTo>
                <a:cubicBezTo>
                  <a:pt x="1359" y="1493"/>
                  <a:pt x="1308" y="1422"/>
                  <a:pt x="1260" y="1382"/>
                </a:cubicBezTo>
                <a:cubicBezTo>
                  <a:pt x="1218" y="1347"/>
                  <a:pt x="1165" y="1333"/>
                  <a:pt x="1116" y="1310"/>
                </a:cubicBezTo>
                <a:cubicBezTo>
                  <a:pt x="1084" y="1295"/>
                  <a:pt x="1051" y="1280"/>
                  <a:pt x="1020" y="1262"/>
                </a:cubicBezTo>
                <a:cubicBezTo>
                  <a:pt x="1003" y="1252"/>
                  <a:pt x="990" y="1235"/>
                  <a:pt x="972" y="1226"/>
                </a:cubicBezTo>
                <a:cubicBezTo>
                  <a:pt x="834" y="1157"/>
                  <a:pt x="1018" y="1279"/>
                  <a:pt x="876" y="1190"/>
                </a:cubicBezTo>
                <a:cubicBezTo>
                  <a:pt x="760" y="1118"/>
                  <a:pt x="634" y="1038"/>
                  <a:pt x="528" y="950"/>
                </a:cubicBezTo>
                <a:cubicBezTo>
                  <a:pt x="460" y="893"/>
                  <a:pt x="421" y="807"/>
                  <a:pt x="348" y="758"/>
                </a:cubicBezTo>
                <a:cubicBezTo>
                  <a:pt x="340" y="746"/>
                  <a:pt x="332" y="734"/>
                  <a:pt x="324" y="722"/>
                </a:cubicBezTo>
                <a:cubicBezTo>
                  <a:pt x="312" y="706"/>
                  <a:pt x="288" y="694"/>
                  <a:pt x="288" y="674"/>
                </a:cubicBezTo>
                <a:cubicBezTo>
                  <a:pt x="288" y="660"/>
                  <a:pt x="313" y="689"/>
                  <a:pt x="324" y="698"/>
                </a:cubicBezTo>
                <a:cubicBezTo>
                  <a:pt x="385" y="749"/>
                  <a:pt x="330" y="727"/>
                  <a:pt x="408" y="746"/>
                </a:cubicBezTo>
                <a:cubicBezTo>
                  <a:pt x="448" y="770"/>
                  <a:pt x="484" y="803"/>
                  <a:pt x="528" y="818"/>
                </a:cubicBezTo>
                <a:cubicBezTo>
                  <a:pt x="614" y="847"/>
                  <a:pt x="579" y="828"/>
                  <a:pt x="636" y="866"/>
                </a:cubicBezTo>
                <a:cubicBezTo>
                  <a:pt x="648" y="862"/>
                  <a:pt x="666" y="865"/>
                  <a:pt x="672" y="854"/>
                </a:cubicBezTo>
                <a:cubicBezTo>
                  <a:pt x="687" y="823"/>
                  <a:pt x="629" y="799"/>
                  <a:pt x="600" y="770"/>
                </a:cubicBezTo>
                <a:cubicBezTo>
                  <a:pt x="590" y="760"/>
                  <a:pt x="586" y="744"/>
                  <a:pt x="576" y="734"/>
                </a:cubicBezTo>
                <a:cubicBezTo>
                  <a:pt x="535" y="693"/>
                  <a:pt x="485" y="679"/>
                  <a:pt x="444" y="638"/>
                </a:cubicBezTo>
                <a:cubicBezTo>
                  <a:pt x="417" y="719"/>
                  <a:pt x="470" y="746"/>
                  <a:pt x="528" y="794"/>
                </a:cubicBezTo>
                <a:cubicBezTo>
                  <a:pt x="535" y="800"/>
                  <a:pt x="588" y="850"/>
                  <a:pt x="588" y="866"/>
                </a:cubicBezTo>
                <a:cubicBezTo>
                  <a:pt x="588" y="875"/>
                  <a:pt x="564" y="854"/>
                  <a:pt x="564" y="854"/>
                </a:cubicBezTo>
                <a:cubicBezTo>
                  <a:pt x="556" y="842"/>
                  <a:pt x="549" y="829"/>
                  <a:pt x="540" y="818"/>
                </a:cubicBezTo>
                <a:cubicBezTo>
                  <a:pt x="529" y="805"/>
                  <a:pt x="514" y="796"/>
                  <a:pt x="504" y="782"/>
                </a:cubicBezTo>
                <a:cubicBezTo>
                  <a:pt x="477" y="744"/>
                  <a:pt x="456" y="702"/>
                  <a:pt x="432" y="662"/>
                </a:cubicBezTo>
                <a:cubicBezTo>
                  <a:pt x="407" y="621"/>
                  <a:pt x="370" y="585"/>
                  <a:pt x="348" y="542"/>
                </a:cubicBezTo>
                <a:cubicBezTo>
                  <a:pt x="298" y="443"/>
                  <a:pt x="381" y="573"/>
                  <a:pt x="312" y="470"/>
                </a:cubicBezTo>
                <a:cubicBezTo>
                  <a:pt x="286" y="339"/>
                  <a:pt x="319" y="476"/>
                  <a:pt x="276" y="362"/>
                </a:cubicBezTo>
                <a:cubicBezTo>
                  <a:pt x="270" y="347"/>
                  <a:pt x="273" y="328"/>
                  <a:pt x="264" y="314"/>
                </a:cubicBezTo>
                <a:cubicBezTo>
                  <a:pt x="256" y="302"/>
                  <a:pt x="240" y="298"/>
                  <a:pt x="228" y="290"/>
                </a:cubicBezTo>
                <a:cubicBezTo>
                  <a:pt x="204" y="254"/>
                  <a:pt x="180" y="218"/>
                  <a:pt x="156" y="182"/>
                </a:cubicBezTo>
                <a:cubicBezTo>
                  <a:pt x="139" y="156"/>
                  <a:pt x="104" y="146"/>
                  <a:pt x="84" y="122"/>
                </a:cubicBezTo>
                <a:cubicBezTo>
                  <a:pt x="34" y="62"/>
                  <a:pt x="90" y="106"/>
                  <a:pt x="24" y="62"/>
                </a:cubicBezTo>
                <a:cubicBezTo>
                  <a:pt x="24" y="62"/>
                  <a:pt x="48" y="78"/>
                  <a:pt x="60" y="86"/>
                </a:cubicBezTo>
                <a:cubicBezTo>
                  <a:pt x="84" y="122"/>
                  <a:pt x="106" y="159"/>
                  <a:pt x="132" y="194"/>
                </a:cubicBezTo>
                <a:cubicBezTo>
                  <a:pt x="144" y="210"/>
                  <a:pt x="156" y="226"/>
                  <a:pt x="168" y="242"/>
                </a:cubicBezTo>
                <a:cubicBezTo>
                  <a:pt x="176" y="254"/>
                  <a:pt x="202" y="288"/>
                  <a:pt x="192" y="278"/>
                </a:cubicBezTo>
                <a:cubicBezTo>
                  <a:pt x="178" y="264"/>
                  <a:pt x="168" y="246"/>
                  <a:pt x="156" y="230"/>
                </a:cubicBezTo>
                <a:cubicBezTo>
                  <a:pt x="139" y="180"/>
                  <a:pt x="110" y="124"/>
                  <a:pt x="72" y="86"/>
                </a:cubicBezTo>
                <a:cubicBezTo>
                  <a:pt x="60" y="74"/>
                  <a:pt x="47" y="63"/>
                  <a:pt x="36" y="50"/>
                </a:cubicBezTo>
                <a:cubicBezTo>
                  <a:pt x="27" y="39"/>
                  <a:pt x="12" y="0"/>
                  <a:pt x="12" y="14"/>
                </a:cubicBezTo>
                <a:cubicBezTo>
                  <a:pt x="12" y="89"/>
                  <a:pt x="26" y="83"/>
                  <a:pt x="72" y="98"/>
                </a:cubicBezTo>
                <a:cubicBezTo>
                  <a:pt x="92" y="157"/>
                  <a:pt x="125" y="199"/>
                  <a:pt x="168" y="242"/>
                </a:cubicBezTo>
                <a:cubicBezTo>
                  <a:pt x="206" y="355"/>
                  <a:pt x="223" y="472"/>
                  <a:pt x="276" y="578"/>
                </a:cubicBezTo>
                <a:cubicBezTo>
                  <a:pt x="282" y="589"/>
                  <a:pt x="280" y="604"/>
                  <a:pt x="288" y="614"/>
                </a:cubicBezTo>
                <a:cubicBezTo>
                  <a:pt x="309" y="641"/>
                  <a:pt x="336" y="662"/>
                  <a:pt x="360" y="686"/>
                </a:cubicBezTo>
                <a:cubicBezTo>
                  <a:pt x="388" y="714"/>
                  <a:pt x="422" y="737"/>
                  <a:pt x="456" y="758"/>
                </a:cubicBezTo>
                <a:cubicBezTo>
                  <a:pt x="494" y="781"/>
                  <a:pt x="576" y="818"/>
                  <a:pt x="576" y="818"/>
                </a:cubicBezTo>
                <a:cubicBezTo>
                  <a:pt x="602" y="857"/>
                  <a:pt x="653" y="954"/>
                  <a:pt x="612" y="830"/>
                </a:cubicBezTo>
                <a:cubicBezTo>
                  <a:pt x="596" y="783"/>
                  <a:pt x="586" y="780"/>
                  <a:pt x="552" y="746"/>
                </a:cubicBezTo>
                <a:cubicBezTo>
                  <a:pt x="585" y="844"/>
                  <a:pt x="686" y="892"/>
                  <a:pt x="756" y="962"/>
                </a:cubicBezTo>
                <a:cubicBezTo>
                  <a:pt x="778" y="984"/>
                  <a:pt x="796" y="1010"/>
                  <a:pt x="816" y="1034"/>
                </a:cubicBezTo>
                <a:cubicBezTo>
                  <a:pt x="825" y="1045"/>
                  <a:pt x="854" y="1070"/>
                  <a:pt x="840" y="1070"/>
                </a:cubicBezTo>
                <a:cubicBezTo>
                  <a:pt x="823" y="1070"/>
                  <a:pt x="817" y="1045"/>
                  <a:pt x="804" y="1034"/>
                </a:cubicBezTo>
                <a:cubicBezTo>
                  <a:pt x="797" y="1028"/>
                  <a:pt x="788" y="1026"/>
                  <a:pt x="780" y="102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
          <p:cNvSpPr/>
          <p:nvPr/>
        </p:nvSpPr>
        <p:spPr>
          <a:xfrm>
            <a:off x="1481040" y="3697200"/>
            <a:ext cx="1605240" cy="2675160"/>
          </a:xfrm>
          <a:custGeom>
            <a:avLst/>
            <a:gdLst>
              <a:gd name="textAreaLeft" fmla="*/ 0 w 1605240"/>
              <a:gd name="textAreaRight" fmla="*/ 1605600 w 1605240"/>
              <a:gd name="textAreaTop" fmla="*/ 0 h 2675160"/>
              <a:gd name="textAreaBottom" fmla="*/ 2675520 h 2675160"/>
            </a:gdLst>
            <a:ahLst/>
            <a:rect l="textAreaLeft" t="textAreaTop" r="textAreaRight" b="textAreaBottom"/>
            <a:pathLst>
              <a:path w="1011" h="1685">
                <a:moveTo>
                  <a:pt x="867" y="227"/>
                </a:moveTo>
                <a:cubicBezTo>
                  <a:pt x="863" y="243"/>
                  <a:pt x="870" y="268"/>
                  <a:pt x="855" y="275"/>
                </a:cubicBezTo>
                <a:cubicBezTo>
                  <a:pt x="844" y="281"/>
                  <a:pt x="855" y="241"/>
                  <a:pt x="843" y="239"/>
                </a:cubicBezTo>
                <a:cubicBezTo>
                  <a:pt x="825" y="235"/>
                  <a:pt x="811" y="255"/>
                  <a:pt x="795" y="263"/>
                </a:cubicBezTo>
                <a:cubicBezTo>
                  <a:pt x="767" y="347"/>
                  <a:pt x="763" y="311"/>
                  <a:pt x="783" y="371"/>
                </a:cubicBezTo>
                <a:cubicBezTo>
                  <a:pt x="783" y="371"/>
                  <a:pt x="749" y="401"/>
                  <a:pt x="735" y="419"/>
                </a:cubicBezTo>
                <a:cubicBezTo>
                  <a:pt x="724" y="433"/>
                  <a:pt x="711" y="467"/>
                  <a:pt x="711" y="467"/>
                </a:cubicBezTo>
                <a:cubicBezTo>
                  <a:pt x="699" y="463"/>
                  <a:pt x="682" y="444"/>
                  <a:pt x="675" y="455"/>
                </a:cubicBezTo>
                <a:cubicBezTo>
                  <a:pt x="666" y="469"/>
                  <a:pt x="671" y="498"/>
                  <a:pt x="687" y="503"/>
                </a:cubicBezTo>
                <a:cubicBezTo>
                  <a:pt x="701" y="508"/>
                  <a:pt x="721" y="436"/>
                  <a:pt x="723" y="431"/>
                </a:cubicBezTo>
                <a:cubicBezTo>
                  <a:pt x="735" y="443"/>
                  <a:pt x="755" y="450"/>
                  <a:pt x="759" y="467"/>
                </a:cubicBezTo>
                <a:cubicBezTo>
                  <a:pt x="764" y="491"/>
                  <a:pt x="752" y="515"/>
                  <a:pt x="747" y="539"/>
                </a:cubicBezTo>
                <a:cubicBezTo>
                  <a:pt x="744" y="555"/>
                  <a:pt x="746" y="574"/>
                  <a:pt x="735" y="587"/>
                </a:cubicBezTo>
                <a:cubicBezTo>
                  <a:pt x="724" y="601"/>
                  <a:pt x="703" y="603"/>
                  <a:pt x="687" y="611"/>
                </a:cubicBezTo>
                <a:cubicBezTo>
                  <a:pt x="679" y="599"/>
                  <a:pt x="677" y="575"/>
                  <a:pt x="663" y="575"/>
                </a:cubicBezTo>
                <a:cubicBezTo>
                  <a:pt x="650" y="575"/>
                  <a:pt x="676" y="598"/>
                  <a:pt x="675" y="611"/>
                </a:cubicBezTo>
                <a:cubicBezTo>
                  <a:pt x="672" y="636"/>
                  <a:pt x="661" y="660"/>
                  <a:pt x="651" y="683"/>
                </a:cubicBezTo>
                <a:cubicBezTo>
                  <a:pt x="632" y="726"/>
                  <a:pt x="620" y="717"/>
                  <a:pt x="591" y="755"/>
                </a:cubicBezTo>
                <a:cubicBezTo>
                  <a:pt x="561" y="794"/>
                  <a:pt x="536" y="836"/>
                  <a:pt x="507" y="875"/>
                </a:cubicBezTo>
                <a:cubicBezTo>
                  <a:pt x="478" y="961"/>
                  <a:pt x="497" y="926"/>
                  <a:pt x="459" y="983"/>
                </a:cubicBezTo>
                <a:cubicBezTo>
                  <a:pt x="457" y="992"/>
                  <a:pt x="432" y="1088"/>
                  <a:pt x="435" y="1091"/>
                </a:cubicBezTo>
                <a:cubicBezTo>
                  <a:pt x="448" y="1104"/>
                  <a:pt x="468" y="1077"/>
                  <a:pt x="483" y="1067"/>
                </a:cubicBezTo>
                <a:cubicBezTo>
                  <a:pt x="524" y="1038"/>
                  <a:pt x="552" y="988"/>
                  <a:pt x="579" y="947"/>
                </a:cubicBezTo>
                <a:cubicBezTo>
                  <a:pt x="575" y="931"/>
                  <a:pt x="582" y="905"/>
                  <a:pt x="567" y="899"/>
                </a:cubicBezTo>
                <a:cubicBezTo>
                  <a:pt x="451" y="856"/>
                  <a:pt x="483" y="910"/>
                  <a:pt x="495" y="947"/>
                </a:cubicBezTo>
                <a:cubicBezTo>
                  <a:pt x="491" y="983"/>
                  <a:pt x="483" y="1019"/>
                  <a:pt x="483" y="1055"/>
                </a:cubicBezTo>
                <a:cubicBezTo>
                  <a:pt x="483" y="1071"/>
                  <a:pt x="483" y="1019"/>
                  <a:pt x="495" y="1007"/>
                </a:cubicBezTo>
                <a:cubicBezTo>
                  <a:pt x="510" y="992"/>
                  <a:pt x="535" y="991"/>
                  <a:pt x="555" y="983"/>
                </a:cubicBezTo>
                <a:cubicBezTo>
                  <a:pt x="621" y="884"/>
                  <a:pt x="547" y="1024"/>
                  <a:pt x="543" y="1031"/>
                </a:cubicBezTo>
                <a:cubicBezTo>
                  <a:pt x="531" y="1023"/>
                  <a:pt x="521" y="1009"/>
                  <a:pt x="507" y="1007"/>
                </a:cubicBezTo>
                <a:cubicBezTo>
                  <a:pt x="495" y="1005"/>
                  <a:pt x="480" y="1010"/>
                  <a:pt x="471" y="1019"/>
                </a:cubicBezTo>
                <a:cubicBezTo>
                  <a:pt x="429" y="1061"/>
                  <a:pt x="399" y="1127"/>
                  <a:pt x="351" y="1175"/>
                </a:cubicBezTo>
                <a:cubicBezTo>
                  <a:pt x="331" y="1235"/>
                  <a:pt x="276" y="1257"/>
                  <a:pt x="255" y="1319"/>
                </a:cubicBezTo>
                <a:cubicBezTo>
                  <a:pt x="247" y="1343"/>
                  <a:pt x="206" y="1391"/>
                  <a:pt x="231" y="1391"/>
                </a:cubicBezTo>
                <a:cubicBezTo>
                  <a:pt x="247" y="1391"/>
                  <a:pt x="344" y="1266"/>
                  <a:pt x="363" y="1247"/>
                </a:cubicBezTo>
                <a:cubicBezTo>
                  <a:pt x="346" y="1315"/>
                  <a:pt x="311" y="1362"/>
                  <a:pt x="267" y="1415"/>
                </a:cubicBezTo>
                <a:cubicBezTo>
                  <a:pt x="258" y="1426"/>
                  <a:pt x="254" y="1442"/>
                  <a:pt x="243" y="1451"/>
                </a:cubicBezTo>
                <a:cubicBezTo>
                  <a:pt x="229" y="1462"/>
                  <a:pt x="211" y="1466"/>
                  <a:pt x="195" y="1475"/>
                </a:cubicBezTo>
                <a:cubicBezTo>
                  <a:pt x="182" y="1482"/>
                  <a:pt x="159" y="1485"/>
                  <a:pt x="159" y="1499"/>
                </a:cubicBezTo>
                <a:cubicBezTo>
                  <a:pt x="159" y="1512"/>
                  <a:pt x="183" y="1491"/>
                  <a:pt x="195" y="1487"/>
                </a:cubicBezTo>
                <a:cubicBezTo>
                  <a:pt x="166" y="1573"/>
                  <a:pt x="192" y="1545"/>
                  <a:pt x="135" y="1583"/>
                </a:cubicBezTo>
                <a:cubicBezTo>
                  <a:pt x="178" y="1518"/>
                  <a:pt x="159" y="1556"/>
                  <a:pt x="111" y="1583"/>
                </a:cubicBezTo>
                <a:cubicBezTo>
                  <a:pt x="100" y="1589"/>
                  <a:pt x="87" y="1591"/>
                  <a:pt x="75" y="1595"/>
                </a:cubicBezTo>
                <a:cubicBezTo>
                  <a:pt x="15" y="1685"/>
                  <a:pt x="0" y="1678"/>
                  <a:pt x="87" y="1643"/>
                </a:cubicBezTo>
                <a:cubicBezTo>
                  <a:pt x="171" y="1559"/>
                  <a:pt x="278" y="1472"/>
                  <a:pt x="375" y="1403"/>
                </a:cubicBezTo>
                <a:cubicBezTo>
                  <a:pt x="445" y="1353"/>
                  <a:pt x="531" y="1319"/>
                  <a:pt x="579" y="1247"/>
                </a:cubicBezTo>
                <a:cubicBezTo>
                  <a:pt x="583" y="1231"/>
                  <a:pt x="592" y="1215"/>
                  <a:pt x="591" y="1199"/>
                </a:cubicBezTo>
                <a:cubicBezTo>
                  <a:pt x="588" y="1158"/>
                  <a:pt x="602" y="1101"/>
                  <a:pt x="567" y="1079"/>
                </a:cubicBezTo>
                <a:cubicBezTo>
                  <a:pt x="565" y="1077"/>
                  <a:pt x="439" y="1183"/>
                  <a:pt x="423" y="1199"/>
                </a:cubicBezTo>
                <a:cubicBezTo>
                  <a:pt x="396" y="1090"/>
                  <a:pt x="454" y="973"/>
                  <a:pt x="519" y="887"/>
                </a:cubicBezTo>
                <a:cubicBezTo>
                  <a:pt x="523" y="875"/>
                  <a:pt x="521" y="859"/>
                  <a:pt x="531" y="851"/>
                </a:cubicBezTo>
                <a:cubicBezTo>
                  <a:pt x="544" y="841"/>
                  <a:pt x="573" y="824"/>
                  <a:pt x="579" y="839"/>
                </a:cubicBezTo>
                <a:cubicBezTo>
                  <a:pt x="592" y="869"/>
                  <a:pt x="573" y="903"/>
                  <a:pt x="567" y="935"/>
                </a:cubicBezTo>
                <a:cubicBezTo>
                  <a:pt x="565" y="947"/>
                  <a:pt x="555" y="984"/>
                  <a:pt x="555" y="971"/>
                </a:cubicBezTo>
                <a:cubicBezTo>
                  <a:pt x="555" y="882"/>
                  <a:pt x="591" y="791"/>
                  <a:pt x="639" y="719"/>
                </a:cubicBezTo>
                <a:cubicBezTo>
                  <a:pt x="649" y="642"/>
                  <a:pt x="667" y="588"/>
                  <a:pt x="687" y="515"/>
                </a:cubicBezTo>
                <a:cubicBezTo>
                  <a:pt x="697" y="478"/>
                  <a:pt x="711" y="443"/>
                  <a:pt x="723" y="407"/>
                </a:cubicBezTo>
                <a:cubicBezTo>
                  <a:pt x="727" y="395"/>
                  <a:pt x="735" y="371"/>
                  <a:pt x="735" y="371"/>
                </a:cubicBezTo>
                <a:cubicBezTo>
                  <a:pt x="728" y="423"/>
                  <a:pt x="728" y="469"/>
                  <a:pt x="699" y="515"/>
                </a:cubicBezTo>
                <a:cubicBezTo>
                  <a:pt x="690" y="529"/>
                  <a:pt x="651" y="539"/>
                  <a:pt x="663" y="551"/>
                </a:cubicBezTo>
                <a:cubicBezTo>
                  <a:pt x="677" y="565"/>
                  <a:pt x="703" y="543"/>
                  <a:pt x="723" y="539"/>
                </a:cubicBezTo>
                <a:cubicBezTo>
                  <a:pt x="772" y="506"/>
                  <a:pt x="814" y="470"/>
                  <a:pt x="867" y="443"/>
                </a:cubicBezTo>
                <a:cubicBezTo>
                  <a:pt x="895" y="411"/>
                  <a:pt x="922" y="378"/>
                  <a:pt x="951" y="347"/>
                </a:cubicBezTo>
                <a:cubicBezTo>
                  <a:pt x="992" y="302"/>
                  <a:pt x="1011" y="299"/>
                  <a:pt x="939" y="335"/>
                </a:cubicBezTo>
                <a:cubicBezTo>
                  <a:pt x="861" y="452"/>
                  <a:pt x="983" y="270"/>
                  <a:pt x="879" y="419"/>
                </a:cubicBezTo>
                <a:cubicBezTo>
                  <a:pt x="862" y="443"/>
                  <a:pt x="831" y="491"/>
                  <a:pt x="831" y="491"/>
                </a:cubicBezTo>
                <a:cubicBezTo>
                  <a:pt x="823" y="459"/>
                  <a:pt x="815" y="427"/>
                  <a:pt x="807" y="395"/>
                </a:cubicBezTo>
                <a:cubicBezTo>
                  <a:pt x="803" y="379"/>
                  <a:pt x="795" y="347"/>
                  <a:pt x="795" y="347"/>
                </a:cubicBezTo>
                <a:cubicBezTo>
                  <a:pt x="811" y="323"/>
                  <a:pt x="829" y="300"/>
                  <a:pt x="843" y="275"/>
                </a:cubicBezTo>
                <a:cubicBezTo>
                  <a:pt x="861" y="244"/>
                  <a:pt x="891" y="179"/>
                  <a:pt x="891" y="179"/>
                </a:cubicBezTo>
                <a:cubicBezTo>
                  <a:pt x="887" y="127"/>
                  <a:pt x="900" y="71"/>
                  <a:pt x="879" y="23"/>
                </a:cubicBezTo>
                <a:cubicBezTo>
                  <a:pt x="869" y="0"/>
                  <a:pt x="863" y="71"/>
                  <a:pt x="855" y="95"/>
                </a:cubicBezTo>
                <a:cubicBezTo>
                  <a:pt x="834" y="159"/>
                  <a:pt x="816" y="223"/>
                  <a:pt x="795" y="287"/>
                </a:cubicBezTo>
                <a:cubicBezTo>
                  <a:pt x="821" y="391"/>
                  <a:pt x="817" y="293"/>
                  <a:pt x="807" y="263"/>
                </a:cubicBezTo>
                <a:cubicBezTo>
                  <a:pt x="740" y="285"/>
                  <a:pt x="725" y="357"/>
                  <a:pt x="675" y="407"/>
                </a:cubicBezTo>
                <a:cubicBezTo>
                  <a:pt x="656" y="464"/>
                  <a:pt x="626" y="514"/>
                  <a:pt x="615" y="575"/>
                </a:cubicBezTo>
                <a:cubicBezTo>
                  <a:pt x="601" y="652"/>
                  <a:pt x="599" y="725"/>
                  <a:pt x="555" y="791"/>
                </a:cubicBezTo>
                <a:cubicBezTo>
                  <a:pt x="551" y="811"/>
                  <a:pt x="550" y="832"/>
                  <a:pt x="543" y="851"/>
                </a:cubicBezTo>
                <a:cubicBezTo>
                  <a:pt x="538" y="865"/>
                  <a:pt x="533" y="887"/>
                  <a:pt x="519" y="887"/>
                </a:cubicBezTo>
                <a:cubicBezTo>
                  <a:pt x="505" y="887"/>
                  <a:pt x="503" y="863"/>
                  <a:pt x="495" y="851"/>
                </a:cubicBezTo>
                <a:cubicBezTo>
                  <a:pt x="479" y="898"/>
                  <a:pt x="452" y="935"/>
                  <a:pt x="435" y="983"/>
                </a:cubicBezTo>
                <a:cubicBezTo>
                  <a:pt x="426" y="1007"/>
                  <a:pt x="419" y="1031"/>
                  <a:pt x="411" y="1055"/>
                </a:cubicBezTo>
                <a:cubicBezTo>
                  <a:pt x="407" y="1067"/>
                  <a:pt x="399" y="1091"/>
                  <a:pt x="399" y="1091"/>
                </a:cubicBezTo>
                <a:cubicBezTo>
                  <a:pt x="399" y="1091"/>
                  <a:pt x="407" y="1067"/>
                  <a:pt x="411" y="1055"/>
                </a:cubicBezTo>
                <a:cubicBezTo>
                  <a:pt x="415" y="1044"/>
                  <a:pt x="470" y="972"/>
                  <a:pt x="471" y="971"/>
                </a:cubicBezTo>
                <a:lnTo>
                  <a:pt x="459" y="1007"/>
                </a:lnTo>
                <a:cubicBezTo>
                  <a:pt x="471" y="1011"/>
                  <a:pt x="483" y="1021"/>
                  <a:pt x="495" y="1019"/>
                </a:cubicBezTo>
                <a:cubicBezTo>
                  <a:pt x="509" y="1017"/>
                  <a:pt x="531" y="1009"/>
                  <a:pt x="531" y="995"/>
                </a:cubicBezTo>
                <a:cubicBezTo>
                  <a:pt x="531" y="982"/>
                  <a:pt x="507" y="1003"/>
                  <a:pt x="495" y="1007"/>
                </a:cubicBezTo>
                <a:cubicBezTo>
                  <a:pt x="479" y="1023"/>
                  <a:pt x="461" y="1037"/>
                  <a:pt x="447" y="1055"/>
                </a:cubicBezTo>
                <a:cubicBezTo>
                  <a:pt x="429" y="1078"/>
                  <a:pt x="399" y="1127"/>
                  <a:pt x="399" y="1127"/>
                </a:cubicBezTo>
                <a:cubicBezTo>
                  <a:pt x="414" y="1067"/>
                  <a:pt x="411" y="1095"/>
                  <a:pt x="411" y="1043"/>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6"/>
          <p:cNvSpPr/>
          <p:nvPr/>
        </p:nvSpPr>
        <p:spPr>
          <a:xfrm>
            <a:off x="247680" y="4457880"/>
            <a:ext cx="1447920" cy="1981080"/>
          </a:xfrm>
          <a:custGeom>
            <a:avLst/>
            <a:gdLst>
              <a:gd name="textAreaLeft" fmla="*/ 0 w 1447920"/>
              <a:gd name="textAreaRight" fmla="*/ 1448280 w 1447920"/>
              <a:gd name="textAreaTop" fmla="*/ 0 h 1981080"/>
              <a:gd name="textAreaBottom" fmla="*/ 1981440 h 1981080"/>
            </a:gdLst>
            <a:ahLst/>
            <a:rect l="textAreaLeft" t="textAreaTop" r="textAreaRight" b="textAreaBottom"/>
            <a:pathLst>
              <a:path w="912" h="1248">
                <a:moveTo>
                  <a:pt x="912" y="0"/>
                </a:moveTo>
                <a:cubicBezTo>
                  <a:pt x="826" y="57"/>
                  <a:pt x="791" y="125"/>
                  <a:pt x="732" y="204"/>
                </a:cubicBezTo>
                <a:cubicBezTo>
                  <a:pt x="724" y="215"/>
                  <a:pt x="681" y="270"/>
                  <a:pt x="672" y="288"/>
                </a:cubicBezTo>
                <a:cubicBezTo>
                  <a:pt x="593" y="446"/>
                  <a:pt x="683" y="302"/>
                  <a:pt x="588" y="444"/>
                </a:cubicBezTo>
                <a:cubicBezTo>
                  <a:pt x="566" y="477"/>
                  <a:pt x="506" y="463"/>
                  <a:pt x="480" y="492"/>
                </a:cubicBezTo>
                <a:cubicBezTo>
                  <a:pt x="453" y="522"/>
                  <a:pt x="436" y="560"/>
                  <a:pt x="408" y="588"/>
                </a:cubicBezTo>
                <a:cubicBezTo>
                  <a:pt x="396" y="600"/>
                  <a:pt x="384" y="612"/>
                  <a:pt x="372" y="624"/>
                </a:cubicBezTo>
                <a:cubicBezTo>
                  <a:pt x="368" y="636"/>
                  <a:pt x="369" y="651"/>
                  <a:pt x="360" y="660"/>
                </a:cubicBezTo>
                <a:cubicBezTo>
                  <a:pt x="354" y="666"/>
                  <a:pt x="231" y="758"/>
                  <a:pt x="216" y="768"/>
                </a:cubicBezTo>
                <a:cubicBezTo>
                  <a:pt x="188" y="810"/>
                  <a:pt x="180" y="840"/>
                  <a:pt x="144" y="876"/>
                </a:cubicBezTo>
                <a:cubicBezTo>
                  <a:pt x="127" y="928"/>
                  <a:pt x="94" y="971"/>
                  <a:pt x="72" y="1020"/>
                </a:cubicBezTo>
                <a:cubicBezTo>
                  <a:pt x="39" y="1093"/>
                  <a:pt x="36" y="1177"/>
                  <a:pt x="0" y="124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7"/>
          <p:cNvSpPr/>
          <p:nvPr/>
        </p:nvSpPr>
        <p:spPr>
          <a:xfrm>
            <a:off x="990720" y="5721480"/>
            <a:ext cx="642960" cy="1014120"/>
          </a:xfrm>
          <a:custGeom>
            <a:avLst/>
            <a:gdLst>
              <a:gd name="textAreaLeft" fmla="*/ 0 w 642960"/>
              <a:gd name="textAreaRight" fmla="*/ 643320 w 642960"/>
              <a:gd name="textAreaTop" fmla="*/ 0 h 1014120"/>
              <a:gd name="textAreaBottom" fmla="*/ 1014480 h 1014120"/>
            </a:gdLst>
            <a:ahLst/>
            <a:rect l="textAreaLeft" t="textAreaTop" r="textAreaRight" b="textAreaBottom"/>
            <a:pathLst>
              <a:path w="405" h="639">
                <a:moveTo>
                  <a:pt x="288" y="32"/>
                </a:moveTo>
                <a:cubicBezTo>
                  <a:pt x="282" y="34"/>
                  <a:pt x="212" y="54"/>
                  <a:pt x="216" y="68"/>
                </a:cubicBezTo>
                <a:cubicBezTo>
                  <a:pt x="220" y="85"/>
                  <a:pt x="301" y="101"/>
                  <a:pt x="312" y="104"/>
                </a:cubicBezTo>
                <a:cubicBezTo>
                  <a:pt x="300" y="108"/>
                  <a:pt x="286" y="108"/>
                  <a:pt x="276" y="116"/>
                </a:cubicBezTo>
                <a:cubicBezTo>
                  <a:pt x="265" y="125"/>
                  <a:pt x="238" y="149"/>
                  <a:pt x="252" y="152"/>
                </a:cubicBezTo>
                <a:cubicBezTo>
                  <a:pt x="277" y="158"/>
                  <a:pt x="300" y="136"/>
                  <a:pt x="324" y="128"/>
                </a:cubicBezTo>
                <a:cubicBezTo>
                  <a:pt x="175" y="103"/>
                  <a:pt x="210" y="105"/>
                  <a:pt x="0" y="128"/>
                </a:cubicBezTo>
                <a:cubicBezTo>
                  <a:pt x="4" y="160"/>
                  <a:pt x="0" y="194"/>
                  <a:pt x="12" y="224"/>
                </a:cubicBezTo>
                <a:cubicBezTo>
                  <a:pt x="17" y="237"/>
                  <a:pt x="34" y="247"/>
                  <a:pt x="48" y="248"/>
                </a:cubicBezTo>
                <a:cubicBezTo>
                  <a:pt x="150" y="255"/>
                  <a:pt x="270" y="229"/>
                  <a:pt x="372" y="212"/>
                </a:cubicBezTo>
                <a:cubicBezTo>
                  <a:pt x="364" y="200"/>
                  <a:pt x="362" y="176"/>
                  <a:pt x="348" y="176"/>
                </a:cubicBezTo>
                <a:cubicBezTo>
                  <a:pt x="334" y="176"/>
                  <a:pt x="330" y="199"/>
                  <a:pt x="324" y="212"/>
                </a:cubicBezTo>
                <a:cubicBezTo>
                  <a:pt x="310" y="241"/>
                  <a:pt x="298" y="277"/>
                  <a:pt x="288" y="308"/>
                </a:cubicBezTo>
                <a:cubicBezTo>
                  <a:pt x="280" y="292"/>
                  <a:pt x="282" y="260"/>
                  <a:pt x="264" y="260"/>
                </a:cubicBezTo>
                <a:cubicBezTo>
                  <a:pt x="246" y="260"/>
                  <a:pt x="246" y="325"/>
                  <a:pt x="240" y="308"/>
                </a:cubicBezTo>
                <a:cubicBezTo>
                  <a:pt x="226" y="266"/>
                  <a:pt x="255" y="226"/>
                  <a:pt x="264" y="188"/>
                </a:cubicBezTo>
                <a:cubicBezTo>
                  <a:pt x="269" y="164"/>
                  <a:pt x="298" y="127"/>
                  <a:pt x="276" y="116"/>
                </a:cubicBezTo>
                <a:cubicBezTo>
                  <a:pt x="255" y="106"/>
                  <a:pt x="250" y="155"/>
                  <a:pt x="240" y="176"/>
                </a:cubicBezTo>
                <a:cubicBezTo>
                  <a:pt x="226" y="205"/>
                  <a:pt x="214" y="241"/>
                  <a:pt x="204" y="272"/>
                </a:cubicBezTo>
                <a:cubicBezTo>
                  <a:pt x="190" y="202"/>
                  <a:pt x="204" y="163"/>
                  <a:pt x="216" y="92"/>
                </a:cubicBezTo>
                <a:cubicBezTo>
                  <a:pt x="220" y="132"/>
                  <a:pt x="200" y="240"/>
                  <a:pt x="228" y="212"/>
                </a:cubicBezTo>
                <a:cubicBezTo>
                  <a:pt x="262" y="178"/>
                  <a:pt x="225" y="114"/>
                  <a:pt x="240" y="68"/>
                </a:cubicBezTo>
                <a:cubicBezTo>
                  <a:pt x="248" y="45"/>
                  <a:pt x="247" y="116"/>
                  <a:pt x="252" y="140"/>
                </a:cubicBezTo>
                <a:cubicBezTo>
                  <a:pt x="263" y="188"/>
                  <a:pt x="272" y="237"/>
                  <a:pt x="288" y="284"/>
                </a:cubicBezTo>
                <a:cubicBezTo>
                  <a:pt x="294" y="301"/>
                  <a:pt x="294" y="332"/>
                  <a:pt x="312" y="332"/>
                </a:cubicBezTo>
                <a:cubicBezTo>
                  <a:pt x="328" y="332"/>
                  <a:pt x="303" y="300"/>
                  <a:pt x="300" y="284"/>
                </a:cubicBezTo>
                <a:cubicBezTo>
                  <a:pt x="295" y="256"/>
                  <a:pt x="294" y="228"/>
                  <a:pt x="288" y="200"/>
                </a:cubicBezTo>
                <a:cubicBezTo>
                  <a:pt x="282" y="175"/>
                  <a:pt x="264" y="128"/>
                  <a:pt x="264" y="128"/>
                </a:cubicBezTo>
                <a:cubicBezTo>
                  <a:pt x="246" y="217"/>
                  <a:pt x="236" y="301"/>
                  <a:pt x="228" y="392"/>
                </a:cubicBezTo>
                <a:cubicBezTo>
                  <a:pt x="224" y="380"/>
                  <a:pt x="228" y="352"/>
                  <a:pt x="216" y="356"/>
                </a:cubicBezTo>
                <a:cubicBezTo>
                  <a:pt x="199" y="362"/>
                  <a:pt x="183" y="439"/>
                  <a:pt x="180" y="452"/>
                </a:cubicBezTo>
                <a:cubicBezTo>
                  <a:pt x="211" y="639"/>
                  <a:pt x="205" y="398"/>
                  <a:pt x="216" y="344"/>
                </a:cubicBezTo>
                <a:cubicBezTo>
                  <a:pt x="220" y="380"/>
                  <a:pt x="215" y="418"/>
                  <a:pt x="228" y="452"/>
                </a:cubicBezTo>
                <a:cubicBezTo>
                  <a:pt x="234" y="467"/>
                  <a:pt x="240" y="420"/>
                  <a:pt x="240" y="404"/>
                </a:cubicBezTo>
                <a:cubicBezTo>
                  <a:pt x="240" y="388"/>
                  <a:pt x="232" y="372"/>
                  <a:pt x="228" y="356"/>
                </a:cubicBezTo>
                <a:cubicBezTo>
                  <a:pt x="228" y="356"/>
                  <a:pt x="196" y="428"/>
                  <a:pt x="228" y="428"/>
                </a:cubicBezTo>
                <a:cubicBezTo>
                  <a:pt x="242" y="428"/>
                  <a:pt x="245" y="405"/>
                  <a:pt x="252" y="392"/>
                </a:cubicBezTo>
                <a:cubicBezTo>
                  <a:pt x="261" y="376"/>
                  <a:pt x="270" y="361"/>
                  <a:pt x="276" y="344"/>
                </a:cubicBezTo>
                <a:cubicBezTo>
                  <a:pt x="282" y="329"/>
                  <a:pt x="288" y="280"/>
                  <a:pt x="288" y="296"/>
                </a:cubicBezTo>
                <a:cubicBezTo>
                  <a:pt x="288" y="328"/>
                  <a:pt x="276" y="360"/>
                  <a:pt x="276" y="392"/>
                </a:cubicBezTo>
                <a:cubicBezTo>
                  <a:pt x="276" y="405"/>
                  <a:pt x="297" y="365"/>
                  <a:pt x="288" y="356"/>
                </a:cubicBezTo>
                <a:cubicBezTo>
                  <a:pt x="279" y="347"/>
                  <a:pt x="264" y="364"/>
                  <a:pt x="252" y="368"/>
                </a:cubicBezTo>
                <a:cubicBezTo>
                  <a:pt x="248" y="380"/>
                  <a:pt x="241" y="417"/>
                  <a:pt x="240" y="404"/>
                </a:cubicBezTo>
                <a:cubicBezTo>
                  <a:pt x="217" y="159"/>
                  <a:pt x="245" y="0"/>
                  <a:pt x="216" y="200"/>
                </a:cubicBezTo>
                <a:cubicBezTo>
                  <a:pt x="212" y="148"/>
                  <a:pt x="214" y="95"/>
                  <a:pt x="204" y="44"/>
                </a:cubicBezTo>
                <a:cubicBezTo>
                  <a:pt x="202" y="32"/>
                  <a:pt x="192" y="67"/>
                  <a:pt x="192" y="80"/>
                </a:cubicBezTo>
                <a:cubicBezTo>
                  <a:pt x="192" y="120"/>
                  <a:pt x="200" y="160"/>
                  <a:pt x="204" y="200"/>
                </a:cubicBezTo>
                <a:cubicBezTo>
                  <a:pt x="214" y="151"/>
                  <a:pt x="224" y="104"/>
                  <a:pt x="240" y="56"/>
                </a:cubicBezTo>
                <a:cubicBezTo>
                  <a:pt x="257" y="107"/>
                  <a:pt x="259" y="161"/>
                  <a:pt x="276" y="212"/>
                </a:cubicBezTo>
                <a:cubicBezTo>
                  <a:pt x="284" y="196"/>
                  <a:pt x="285" y="154"/>
                  <a:pt x="300" y="164"/>
                </a:cubicBezTo>
                <a:cubicBezTo>
                  <a:pt x="320" y="177"/>
                  <a:pt x="307" y="212"/>
                  <a:pt x="312" y="236"/>
                </a:cubicBezTo>
                <a:cubicBezTo>
                  <a:pt x="315" y="248"/>
                  <a:pt x="320" y="260"/>
                  <a:pt x="324" y="272"/>
                </a:cubicBezTo>
                <a:cubicBezTo>
                  <a:pt x="335" y="216"/>
                  <a:pt x="346" y="179"/>
                  <a:pt x="372" y="128"/>
                </a:cubicBezTo>
                <a:cubicBezTo>
                  <a:pt x="376" y="184"/>
                  <a:pt x="373" y="241"/>
                  <a:pt x="384" y="296"/>
                </a:cubicBezTo>
                <a:cubicBezTo>
                  <a:pt x="387" y="312"/>
                  <a:pt x="405" y="262"/>
                  <a:pt x="396" y="248"/>
                </a:cubicBezTo>
                <a:cubicBezTo>
                  <a:pt x="389" y="237"/>
                  <a:pt x="372" y="256"/>
                  <a:pt x="360" y="260"/>
                </a:cubicBezTo>
                <a:cubicBezTo>
                  <a:pt x="351" y="241"/>
                  <a:pt x="334" y="188"/>
                  <a:pt x="300" y="188"/>
                </a:cubicBezTo>
                <a:cubicBezTo>
                  <a:pt x="286" y="188"/>
                  <a:pt x="276" y="204"/>
                  <a:pt x="264" y="212"/>
                </a:cubicBezTo>
                <a:cubicBezTo>
                  <a:pt x="236" y="169"/>
                  <a:pt x="254" y="176"/>
                  <a:pt x="216" y="17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9008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27" name="PlaceHolder 2"/>
          <p:cNvSpPr>
            <a:spLocks noGrp="1"/>
          </p:cNvSpPr>
          <p:nvPr>
            <p:ph/>
          </p:nvPr>
        </p:nvSpPr>
        <p:spPr>
          <a:xfrm>
            <a:off x="151920" y="1219320"/>
            <a:ext cx="8915400" cy="5410080"/>
          </a:xfrm>
          <a:prstGeom prst="rect">
            <a:avLst/>
          </a:prstGeom>
          <a:noFill/>
          <a:ln w="0">
            <a:noFill/>
          </a:ln>
        </p:spPr>
        <p:txBody>
          <a:bodyPr anchor="t">
            <a:normAutofit/>
          </a:bodyPr>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s nothing more demoralizing than a leader who can't clearly articulate why we're doing what we're doing. -James Kouzes and Barry Posn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ＭＳ Ｐゴシック"/>
              </a:rPr>
              <a:t>When dealing with people, remember you are not dealing with creatures of logic, but creatures of emotion. - Dale Carnegi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ＭＳ Ｐゴシック"/>
              </a:rPr>
              <a:t>A leader's role is to raise people's aspirations for what they can become and to release their energies so they will try to get there. - David Gergen</a:t>
            </a:r>
            <a:endParaRPr b="0" lang="en-US" sz="3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Iceberg </a:t>
            </a:r>
            <a:r>
              <a:rPr b="0" lang="en-US" sz="4400" spc="-1" strike="noStrike">
                <a:solidFill>
                  <a:srgbClr val="000000"/>
                </a:solidFill>
                <a:latin typeface="Arial"/>
              </a:rPr>
              <a:t>as a tool to understand the system</a:t>
            </a:r>
            <a:endParaRPr b="0" lang="en-US" sz="4400" spc="-1" strike="noStrike">
              <a:solidFill>
                <a:srgbClr val="000000"/>
              </a:solidFill>
              <a:latin typeface="Arial"/>
            </a:endParaRPr>
          </a:p>
        </p:txBody>
      </p:sp>
      <p:pic>
        <p:nvPicPr>
          <p:cNvPr id="442" name="Picture 1027" descr="iceberg"/>
          <p:cNvPicPr/>
          <p:nvPr/>
        </p:nvPicPr>
        <p:blipFill>
          <a:blip r:embed="rId1"/>
          <a:stretch/>
        </p:blipFill>
        <p:spPr>
          <a:xfrm>
            <a:off x="380880" y="1371600"/>
            <a:ext cx="3969000" cy="5486400"/>
          </a:xfrm>
          <a:prstGeom prst="rect">
            <a:avLst/>
          </a:prstGeom>
          <a:ln w="0">
            <a:noFill/>
          </a:ln>
        </p:spPr>
      </p:pic>
      <p:sp>
        <p:nvSpPr>
          <p:cNvPr id="443"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 The Even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event?</a:t>
            </a:r>
            <a:endParaRPr b="0" lang="en-US" sz="24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60% of the fourth grade students met the expected levels of 3 and 4 on the New York State English Language Arts Te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Ways to React</a:t>
            </a:r>
            <a:endParaRPr b="0" lang="en-US" sz="24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up The Ladder of Inference</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 a Stor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28720" y="536040"/>
            <a:ext cx="7515360" cy="55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tterns or Trends</a:t>
            </a:r>
            <a:endParaRPr b="0" lang="en-US" sz="4400" spc="-1" strike="noStrike">
              <a:solidFill>
                <a:srgbClr val="000000"/>
              </a:solidFill>
              <a:latin typeface="Arial"/>
            </a:endParaRPr>
          </a:p>
        </p:txBody>
      </p:sp>
      <p:sp>
        <p:nvSpPr>
          <p:cNvPr id="445" name="PlaceHolder 2"/>
          <p:cNvSpPr>
            <a:spLocks noGrp="1"/>
          </p:cNvSpPr>
          <p:nvPr>
            <p:ph/>
          </p:nvPr>
        </p:nvSpPr>
        <p:spPr>
          <a:xfrm>
            <a:off x="4876560" y="1295280"/>
            <a:ext cx="3809880" cy="453240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Two</a:t>
            </a:r>
            <a:endParaRPr b="0" lang="en-US" sz="32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s happened before?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t the result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patterns do you see emerging?</a:t>
            </a:r>
            <a:endParaRPr b="0" lang="en-US" sz="18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th grade E.L.A. results were steadily increasing then they began to drop. </a:t>
            </a:r>
            <a:endParaRPr b="0" lang="en-US" sz="20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an we do to examine the patterns?</a:t>
            </a:r>
            <a:endParaRPr b="0" lang="en-US" sz="24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ausal Loops</a:t>
            </a:r>
            <a:endParaRPr b="0" lang="en-US" sz="20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Behavior Over Time</a:t>
            </a:r>
            <a:endParaRPr b="0" lang="en-US" sz="20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n an Artifact Hu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6" name="Picture 1028" descr="iceberg"/>
          <p:cNvPicPr/>
          <p:nvPr/>
        </p:nvPicPr>
        <p:blipFill>
          <a:blip r:embed="rId1"/>
          <a:stretch/>
        </p:blipFill>
        <p:spPr>
          <a:xfrm>
            <a:off x="501480" y="1066680"/>
            <a:ext cx="4070520" cy="5486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533160"/>
            <a:ext cx="480060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ic Structures</a:t>
            </a:r>
            <a:endParaRPr b="0" lang="en-US" sz="4000" spc="-1" strike="noStrike">
              <a:solidFill>
                <a:srgbClr val="000000"/>
              </a:solidFill>
              <a:latin typeface="Arial"/>
            </a:endParaRPr>
          </a:p>
        </p:txBody>
      </p:sp>
      <p:sp>
        <p:nvSpPr>
          <p:cNvPr id="448" name="PlaceHolder 2"/>
          <p:cNvSpPr>
            <a:spLocks noGrp="1"/>
          </p:cNvSpPr>
          <p:nvPr>
            <p:ph/>
          </p:nvPr>
        </p:nvSpPr>
        <p:spPr>
          <a:xfrm>
            <a:off x="4836960" y="685440"/>
            <a:ext cx="4383360" cy="5715000"/>
          </a:xfrm>
          <a:prstGeom prst="rect">
            <a:avLst/>
          </a:prstGeom>
          <a:noFill/>
          <a:ln w="0">
            <a:noFill/>
          </a:ln>
        </p:spPr>
        <p:txBody>
          <a:bodyPr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fundamental aspects of the school need </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hange in order to modify this pattern into </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hared vision of success for our student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research from the 90/90/90 Schools</a:t>
            </a:r>
            <a:endParaRPr b="0" lang="en-US" sz="18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 need to focus on </a:t>
            </a:r>
            <a:r>
              <a:rPr b="0" i="1" lang="en-US" sz="1400" spc="-1" strike="noStrike">
                <a:solidFill>
                  <a:srgbClr val="000000"/>
                </a:solidFill>
                <a:latin typeface="Arial"/>
              </a:rPr>
              <a:t>student learning </a:t>
            </a:r>
            <a:r>
              <a:rPr b="0" lang="en-US" sz="1400" spc="-1" strike="noStrike">
                <a:solidFill>
                  <a:srgbClr val="000000"/>
                </a:solidFill>
                <a:latin typeface="Arial"/>
              </a:rPr>
              <a:t> rather then on what they are teaching</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focus on academic achievement</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collectively decide on clear curricular choices</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must have frequent and multiple chances for students to show improvement</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hould have a strong emphasis on writing in all academic areas</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use external scoring to examine student work</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ools can we use to facilitate systemic change?</a:t>
            </a:r>
            <a:endParaRPr b="0" lang="en-US" sz="1800" spc="-1" strike="noStrike">
              <a:solidFill>
                <a:srgbClr val="000000"/>
              </a:solidFill>
              <a:latin typeface="Arial"/>
            </a:endParaRPr>
          </a:p>
          <a:p>
            <a:pPr marL="332640" indent="-3326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rchetypes with our system</a:t>
            </a:r>
            <a:endParaRPr b="0" lang="en-US" sz="1800" spc="-1" strike="noStrike">
              <a:solidFill>
                <a:srgbClr val="000000"/>
              </a:solidFill>
              <a:latin typeface="Arial"/>
            </a:endParaRPr>
          </a:p>
          <a:p>
            <a:pPr marL="332640" indent="-3326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structured diagrams</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9" name="Picture 1028" descr="iceberg"/>
          <p:cNvPicPr/>
          <p:nvPr/>
        </p:nvPicPr>
        <p:blipFill>
          <a:blip r:embed="rId1"/>
          <a:stretch/>
        </p:blipFill>
        <p:spPr>
          <a:xfrm>
            <a:off x="420840" y="1523880"/>
            <a:ext cx="3862080" cy="5334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609120"/>
            <a:ext cx="4495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Models</a:t>
            </a:r>
            <a:endParaRPr b="0" lang="en-US" sz="4400" spc="-1" strike="noStrike">
              <a:solidFill>
                <a:srgbClr val="000000"/>
              </a:solidFill>
              <a:latin typeface="Arial"/>
            </a:endParaRPr>
          </a:p>
        </p:txBody>
      </p:sp>
      <p:sp>
        <p:nvSpPr>
          <p:cNvPr id="451" name="PlaceHolder 2"/>
          <p:cNvSpPr>
            <a:spLocks noGrp="1"/>
          </p:cNvSpPr>
          <p:nvPr>
            <p:ph/>
          </p:nvPr>
        </p:nvSpPr>
        <p:spPr>
          <a:xfrm>
            <a:off x="4952520" y="304920"/>
            <a:ext cx="4002120" cy="58276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it about our thinking th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 caused this structure t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 </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children lack the resources to be successful in school</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children lack the experiential background and language skills to be successful on the State Tes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How can we bring these mental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dels safely to the surface fo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quiry and dialogue?</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 in Learning Conversations</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e level meetings</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meeting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s to use to surface mental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s that lead with inquiry</a:t>
            </a:r>
            <a:endParaRPr b="0" lang="en-US" sz="1600" spc="-1" strike="noStrike">
              <a:solidFill>
                <a:srgbClr val="000000"/>
              </a:solidFill>
              <a:latin typeface="Arial"/>
            </a:endParaRPr>
          </a:p>
        </p:txBody>
      </p:sp>
      <p:pic>
        <p:nvPicPr>
          <p:cNvPr id="452" name="Picture 1028" descr="iceberg"/>
          <p:cNvPicPr/>
          <p:nvPr/>
        </p:nvPicPr>
        <p:blipFill>
          <a:blip r:embed="rId1"/>
          <a:stretch/>
        </p:blipFill>
        <p:spPr>
          <a:xfrm>
            <a:off x="422280" y="1295280"/>
            <a:ext cx="4124160" cy="5562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Object 10" descr=""/>
          <p:cNvPicPr/>
          <p:nvPr/>
        </p:nvPicPr>
        <p:blipFill>
          <a:blip r:embed="rId1"/>
          <a:stretch/>
        </p:blipFill>
        <p:spPr>
          <a:xfrm>
            <a:off x="385920" y="990720"/>
            <a:ext cx="8372160" cy="5486400"/>
          </a:xfrm>
          <a:prstGeom prst="rect">
            <a:avLst/>
          </a:prstGeom>
          <a:ln w="0">
            <a:noFill/>
          </a:ln>
        </p:spPr>
      </p:pic>
      <p:sp>
        <p:nvSpPr>
          <p:cNvPr id="454" name="Text Box 11"/>
          <p:cNvSpPr/>
          <p:nvPr/>
        </p:nvSpPr>
        <p:spPr>
          <a:xfrm>
            <a:off x="380880" y="30492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ion Deployment Matrix – 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55640" y="536400"/>
            <a:ext cx="7515360" cy="126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ithout theory, there is no learning.” – W. Edwards Deming</a:t>
            </a:r>
            <a:endParaRPr b="0" lang="en-US" sz="3600" spc="-1" strike="noStrike">
              <a:solidFill>
                <a:srgbClr val="000000"/>
              </a:solidFill>
              <a:latin typeface="Arial"/>
            </a:endParaRPr>
          </a:p>
        </p:txBody>
      </p:sp>
      <p:graphicFrame>
        <p:nvGraphicFramePr>
          <p:cNvPr id="456" name="Object 3"/>
          <p:cNvGraphicFramePr/>
          <p:nvPr/>
        </p:nvGraphicFramePr>
        <p:xfrm>
          <a:off x="914400" y="1676520"/>
          <a:ext cx="7391520" cy="4813200"/>
        </p:xfrm>
        <a:graphic>
          <a:graphicData uri="http://schemas.openxmlformats.org/presentationml/2006/ole">
            <p:oleObj r:id="rId1" spid="">
              <p:embed/>
              <p:pic>
                <p:nvPicPr>
                  <p:cNvPr id="457" name="Object 3" descr=""/>
                  <p:cNvPicPr/>
                  <p:nvPr/>
                </p:nvPicPr>
                <p:blipFill>
                  <a:blip r:embed="rId2"/>
                  <a:stretch/>
                </p:blipFill>
                <p:spPr>
                  <a:xfrm>
                    <a:off x="914400" y="1676520"/>
                    <a:ext cx="739152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Oval 4"/>
          <p:cNvSpPr/>
          <p:nvPr/>
        </p:nvSpPr>
        <p:spPr>
          <a:xfrm>
            <a:off x="1600200" y="685800"/>
            <a:ext cx="6172200" cy="1143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48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Guiding Ideas</a:t>
            </a:r>
            <a:endParaRPr b="0" lang="en-US" sz="4800" spc="-1" strike="noStrike">
              <a:solidFill>
                <a:srgbClr val="000000"/>
              </a:solidFill>
              <a:latin typeface="Arial"/>
            </a:endParaRPr>
          </a:p>
        </p:txBody>
      </p:sp>
      <p:sp>
        <p:nvSpPr>
          <p:cNvPr id="460"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Assumption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Principl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ystems Archetypes</a:t>
            </a:r>
            <a:endParaRPr b="0" lang="en-US" sz="5000" spc="-1" strike="noStrike">
              <a:solidFill>
                <a:srgbClr val="000000"/>
              </a:solidFill>
              <a:latin typeface="Arial"/>
            </a:endParaRPr>
          </a:p>
        </p:txBody>
      </p:sp>
      <p:sp>
        <p:nvSpPr>
          <p:cNvPr id="462"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ystems are knowable and predictabl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es That Fail</a:t>
            </a:r>
            <a:endParaRPr b="0" lang="en-US" sz="4400" spc="-1" strike="noStrike">
              <a:solidFill>
                <a:srgbClr val="000000"/>
              </a:solidFill>
              <a:latin typeface="Arial"/>
            </a:endParaRPr>
          </a:p>
        </p:txBody>
      </p:sp>
      <p:sp>
        <p:nvSpPr>
          <p:cNvPr id="464" name="Oval 3"/>
          <p:cNvSpPr/>
          <p:nvPr/>
        </p:nvSpPr>
        <p:spPr>
          <a:xfrm>
            <a:off x="3048120" y="1523880"/>
            <a:ext cx="3047760" cy="160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4"/>
          <p:cNvSpPr/>
          <p:nvPr/>
        </p:nvSpPr>
        <p:spPr>
          <a:xfrm>
            <a:off x="3505320" y="3352680"/>
            <a:ext cx="2133360" cy="12193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5"/>
          <p:cNvSpPr/>
          <p:nvPr/>
        </p:nvSpPr>
        <p:spPr>
          <a:xfrm>
            <a:off x="3048120" y="4876920"/>
            <a:ext cx="3047760" cy="160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6"/>
          <p:cNvSpPr/>
          <p:nvPr/>
        </p:nvSpPr>
        <p:spPr>
          <a:xfrm>
            <a:off x="3657600" y="367200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sue</a:t>
            </a:r>
            <a:endParaRPr b="0" lang="en-US" sz="2800" spc="-1" strike="noStrike">
              <a:solidFill>
                <a:srgbClr val="000000"/>
              </a:solidFill>
              <a:latin typeface="Arial"/>
            </a:endParaRPr>
          </a:p>
        </p:txBody>
      </p:sp>
      <p:sp>
        <p:nvSpPr>
          <p:cNvPr id="468" name="Text Box 7"/>
          <p:cNvSpPr/>
          <p:nvPr/>
        </p:nvSpPr>
        <p:spPr>
          <a:xfrm>
            <a:off x="3200400" y="182880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mptomatic Fix</a:t>
            </a:r>
            <a:endParaRPr b="0" lang="en-US" sz="2800" spc="-1" strike="noStrike">
              <a:solidFill>
                <a:srgbClr val="000000"/>
              </a:solidFill>
              <a:latin typeface="Arial"/>
            </a:endParaRPr>
          </a:p>
        </p:txBody>
      </p:sp>
      <p:sp>
        <p:nvSpPr>
          <p:cNvPr id="469" name="Text Box 8"/>
          <p:cNvSpPr/>
          <p:nvPr/>
        </p:nvSpPr>
        <p:spPr>
          <a:xfrm>
            <a:off x="3048120" y="5105520"/>
            <a:ext cx="3124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ntended Consequences</a:t>
            </a:r>
            <a:endParaRPr b="0" lang="en-US" sz="2800" spc="-1" strike="noStrike">
              <a:solidFill>
                <a:srgbClr val="000000"/>
              </a:solidFill>
              <a:latin typeface="Arial"/>
            </a:endParaRPr>
          </a:p>
        </p:txBody>
      </p:sp>
      <p:sp>
        <p:nvSpPr>
          <p:cNvPr id="470" name="AutoShape 9"/>
          <p:cNvSpPr/>
          <p:nvPr/>
        </p:nvSpPr>
        <p:spPr>
          <a:xfrm>
            <a:off x="4419720" y="2895480"/>
            <a:ext cx="380880" cy="685800"/>
          </a:xfrm>
          <a:prstGeom prst="upArrow">
            <a:avLst>
              <a:gd name="adj1" fmla="val 50000"/>
              <a:gd name="adj2" fmla="val 450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0"/>
          <p:cNvSpPr/>
          <p:nvPr/>
        </p:nvSpPr>
        <p:spPr>
          <a:xfrm>
            <a:off x="6248520" y="1828800"/>
            <a:ext cx="1828800" cy="4800600"/>
          </a:xfrm>
          <a:custGeom>
            <a:avLst/>
            <a:gdLst>
              <a:gd name="textAreaLeft" fmla="*/ 244800 w 1828800"/>
              <a:gd name="textAreaRight" fmla="*/ 1584000 w 1828800"/>
              <a:gd name="textAreaTop" fmla="*/ 839880 h 4800600"/>
              <a:gd name="textAreaBottom" fmla="*/ 3480480 h 480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1"/>
          <p:cNvSpPr/>
          <p:nvPr/>
        </p:nvSpPr>
        <p:spPr>
          <a:xfrm rot="10952400">
            <a:off x="1060200" y="3504600"/>
            <a:ext cx="1828800" cy="2438280"/>
          </a:xfrm>
          <a:custGeom>
            <a:avLst/>
            <a:gdLst>
              <a:gd name="textAreaLeft" fmla="*/ 244800 w 1828800"/>
              <a:gd name="textAreaRight" fmla="*/ 1584000 w 182880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Oval 2"/>
          <p:cNvSpPr/>
          <p:nvPr/>
        </p:nvSpPr>
        <p:spPr>
          <a:xfrm>
            <a:off x="1066680" y="2819520"/>
            <a:ext cx="2210040" cy="1981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371600" y="335268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re Issue</a:t>
            </a:r>
            <a:endParaRPr b="0" lang="en-US" sz="2400" spc="-1" strike="noStrike">
              <a:solidFill>
                <a:srgbClr val="000000"/>
              </a:solidFill>
              <a:latin typeface="Arial"/>
            </a:endParaRPr>
          </a:p>
        </p:txBody>
      </p:sp>
      <p:sp>
        <p:nvSpPr>
          <p:cNvPr id="475" name="AutoShape 4"/>
          <p:cNvSpPr/>
          <p:nvPr/>
        </p:nvSpPr>
        <p:spPr>
          <a:xfrm rot="3405600">
            <a:off x="3657240" y="1752480"/>
            <a:ext cx="304920" cy="1676520"/>
          </a:xfrm>
          <a:prstGeom prst="upArrow">
            <a:avLst>
              <a:gd name="adj1" fmla="val 50000"/>
              <a:gd name="adj2" fmla="val 137456"/>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p:cNvSpPr/>
          <p:nvPr/>
        </p:nvSpPr>
        <p:spPr>
          <a:xfrm rot="5991600">
            <a:off x="6476760" y="1218960"/>
            <a:ext cx="304560" cy="1676160"/>
          </a:xfrm>
          <a:prstGeom prst="upArrow">
            <a:avLst>
              <a:gd name="adj1" fmla="val 50000"/>
              <a:gd name="adj2" fmla="val 137589"/>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6"/>
          <p:cNvSpPr/>
          <p:nvPr/>
        </p:nvSpPr>
        <p:spPr>
          <a:xfrm rot="4245600">
            <a:off x="6248520" y="380520"/>
            <a:ext cx="304920" cy="1676160"/>
          </a:xfrm>
          <a:prstGeom prst="upArrow">
            <a:avLst>
              <a:gd name="adj1" fmla="val 50000"/>
              <a:gd name="adj2" fmla="val 137426"/>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
          <p:cNvSpPr/>
          <p:nvPr/>
        </p:nvSpPr>
        <p:spPr>
          <a:xfrm rot="12043800">
            <a:off x="7543440" y="2742480"/>
            <a:ext cx="304920" cy="1676520"/>
          </a:xfrm>
          <a:prstGeom prst="upArrow">
            <a:avLst>
              <a:gd name="adj1" fmla="val 50000"/>
              <a:gd name="adj2" fmla="val 137456"/>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8"/>
          <p:cNvSpPr/>
          <p:nvPr/>
        </p:nvSpPr>
        <p:spPr>
          <a:xfrm rot="14499600">
            <a:off x="5715000" y="4876200"/>
            <a:ext cx="304560" cy="1676520"/>
          </a:xfrm>
          <a:prstGeom prst="upArrow">
            <a:avLst>
              <a:gd name="adj1" fmla="val 50000"/>
              <a:gd name="adj2" fmla="val 137618"/>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9"/>
          <p:cNvSpPr/>
          <p:nvPr/>
        </p:nvSpPr>
        <p:spPr>
          <a:xfrm>
            <a:off x="4572000" y="1371600"/>
            <a:ext cx="990720" cy="990720"/>
          </a:xfrm>
          <a:prstGeom prst="ellipse">
            <a:avLst/>
          </a:prstGeom>
          <a:solidFill>
            <a:srgbClr val="e727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nt</a:t>
            </a:r>
            <a:endParaRPr b="0" lang="en-US" sz="2400" spc="-1" strike="noStrike">
              <a:solidFill>
                <a:srgbClr val="000000"/>
              </a:solidFill>
              <a:latin typeface="Arial"/>
            </a:endParaRPr>
          </a:p>
        </p:txBody>
      </p:sp>
      <p:sp>
        <p:nvSpPr>
          <p:cNvPr id="481" name="Rectangle 10"/>
          <p:cNvSpPr/>
          <p:nvPr/>
        </p:nvSpPr>
        <p:spPr>
          <a:xfrm>
            <a:off x="7543800" y="1752480"/>
            <a:ext cx="13716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11"/>
          <p:cNvSpPr/>
          <p:nvPr/>
        </p:nvSpPr>
        <p:spPr>
          <a:xfrm>
            <a:off x="7467480" y="20574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lution”</a:t>
            </a:r>
            <a:endParaRPr b="0" lang="en-US" sz="2000" spc="-1" strike="noStrike">
              <a:solidFill>
                <a:srgbClr val="000000"/>
              </a:solidFill>
              <a:latin typeface="Arial"/>
            </a:endParaRPr>
          </a:p>
        </p:txBody>
      </p:sp>
      <p:sp>
        <p:nvSpPr>
          <p:cNvPr id="483" name="Rectangle 12"/>
          <p:cNvSpPr/>
          <p:nvPr/>
        </p:nvSpPr>
        <p:spPr>
          <a:xfrm>
            <a:off x="7162920" y="533520"/>
            <a:ext cx="144756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3"/>
          <p:cNvSpPr/>
          <p:nvPr/>
        </p:nvSpPr>
        <p:spPr>
          <a:xfrm>
            <a:off x="3581280" y="5715000"/>
            <a:ext cx="144792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4"/>
          <p:cNvSpPr/>
          <p:nvPr/>
        </p:nvSpPr>
        <p:spPr>
          <a:xfrm>
            <a:off x="6858000" y="7621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lution</a:t>
            </a:r>
            <a:r>
              <a:rPr b="1" lang="en-US" sz="2400" spc="-1" strike="noStrike">
                <a:solidFill>
                  <a:srgbClr val="ffffff"/>
                </a:solidFill>
                <a:latin typeface="Tahoma"/>
              </a:rPr>
              <a:t>”</a:t>
            </a:r>
            <a:endParaRPr b="0" lang="en-US" sz="2400" spc="-1" strike="noStrike">
              <a:solidFill>
                <a:srgbClr val="000000"/>
              </a:solidFill>
              <a:latin typeface="Arial"/>
            </a:endParaRPr>
          </a:p>
        </p:txBody>
      </p:sp>
      <p:sp>
        <p:nvSpPr>
          <p:cNvPr id="486" name="Oval 15"/>
          <p:cNvSpPr/>
          <p:nvPr/>
        </p:nvSpPr>
        <p:spPr>
          <a:xfrm>
            <a:off x="6553080" y="4343400"/>
            <a:ext cx="990720" cy="990720"/>
          </a:xfrm>
          <a:prstGeom prst="ellipse">
            <a:avLst/>
          </a:prstGeom>
          <a:solidFill>
            <a:srgbClr val="e727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nt</a:t>
            </a:r>
            <a:endParaRPr b="0" lang="en-US" sz="2400" spc="-1" strike="noStrike">
              <a:solidFill>
                <a:srgbClr val="000000"/>
              </a:solidFill>
              <a:latin typeface="Arial"/>
            </a:endParaRPr>
          </a:p>
        </p:txBody>
      </p:sp>
      <p:sp>
        <p:nvSpPr>
          <p:cNvPr id="487" name="Text Box 16"/>
          <p:cNvSpPr/>
          <p:nvPr/>
        </p:nvSpPr>
        <p:spPr>
          <a:xfrm>
            <a:off x="3200400" y="59436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lution”</a:t>
            </a:r>
            <a:endParaRPr b="0" lang="en-US" sz="2000" spc="-1" strike="noStrike">
              <a:solidFill>
                <a:srgbClr val="000000"/>
              </a:solidFill>
              <a:latin typeface="Arial"/>
            </a:endParaRPr>
          </a:p>
        </p:txBody>
      </p:sp>
      <p:sp>
        <p:nvSpPr>
          <p:cNvPr id="488" name="Text Box 17"/>
          <p:cNvSpPr/>
          <p:nvPr/>
        </p:nvSpPr>
        <p:spPr>
          <a:xfrm>
            <a:off x="228600" y="30492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Chain Reaction of Symptomatic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90080"/>
            <a:ext cx="7543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29" name="PlaceHolder 2"/>
          <p:cNvSpPr>
            <a:spLocks noGrp="1"/>
          </p:cNvSpPr>
          <p:nvPr>
            <p:ph/>
          </p:nvPr>
        </p:nvSpPr>
        <p:spPr>
          <a:xfrm>
            <a:off x="304560" y="1599840"/>
            <a:ext cx="8839080" cy="4876920"/>
          </a:xfrm>
          <a:prstGeom prst="rect">
            <a:avLst/>
          </a:prstGeom>
          <a:noFill/>
          <a:ln w="0">
            <a:noFill/>
          </a:ln>
        </p:spPr>
        <p:txBody>
          <a:bodyPr anchor="t">
            <a:normAutofit fontScale="96000"/>
          </a:bodyPr>
          <a:p>
            <a:pPr marL="329040" indent="-3290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eader takes people where they want to go. A great leader takes people where they don't necessarily want to go but ought to be. -Rosalynn Carter</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You cannot be a leader, and ask other people to follow you, unless you know how to follow. - Sam Rayburn</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You can't force commitment, what you can do... You nudge a little here, inspire a little there, and provide a role model. Your primary influence is the environment you create.  - Peter Senge</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tandardization, the great ally of mediocrity, wins out over imagination. – T. Sergiovanni </a:t>
            </a:r>
            <a:r>
              <a:rPr b="0" lang="en-US" sz="26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Oval 2"/>
          <p:cNvSpPr/>
          <p:nvPr/>
        </p:nvSpPr>
        <p:spPr>
          <a:xfrm>
            <a:off x="5867280" y="5181480"/>
            <a:ext cx="266724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have educational reforms failed?</a:t>
            </a:r>
            <a:endParaRPr b="0" lang="en-US" sz="4400" spc="-1" strike="noStrike">
              <a:solidFill>
                <a:srgbClr val="000000"/>
              </a:solidFill>
              <a:latin typeface="Arial"/>
            </a:endParaRPr>
          </a:p>
        </p:txBody>
      </p:sp>
      <p:sp>
        <p:nvSpPr>
          <p:cNvPr id="491" name="Oval 4"/>
          <p:cNvSpPr/>
          <p:nvPr/>
        </p:nvSpPr>
        <p:spPr>
          <a:xfrm>
            <a:off x="2590920" y="510552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rrent Reality</a:t>
            </a:r>
            <a:endParaRPr b="0" lang="en-US" sz="2400" spc="-1" strike="noStrike">
              <a:solidFill>
                <a:srgbClr val="000000"/>
              </a:solidFill>
              <a:latin typeface="Arial"/>
            </a:endParaRPr>
          </a:p>
        </p:txBody>
      </p:sp>
      <p:sp>
        <p:nvSpPr>
          <p:cNvPr id="492" name="AutoShape 5"/>
          <p:cNvSpPr/>
          <p:nvPr/>
        </p:nvSpPr>
        <p:spPr>
          <a:xfrm>
            <a:off x="4724280" y="47242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6"/>
          <p:cNvSpPr/>
          <p:nvPr/>
        </p:nvSpPr>
        <p:spPr>
          <a:xfrm>
            <a:off x="5562720" y="533412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494" name="AutoShape 7"/>
          <p:cNvSpPr/>
          <p:nvPr/>
        </p:nvSpPr>
        <p:spPr>
          <a:xfrm rot="10784400">
            <a:off x="4495680" y="586692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8"/>
          <p:cNvSpPr/>
          <p:nvPr/>
        </p:nvSpPr>
        <p:spPr>
          <a:xfrm>
            <a:off x="228600" y="3809880"/>
            <a:ext cx="304812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otional Tension</a:t>
            </a:r>
            <a:endParaRPr b="0" lang="en-US" sz="2400" spc="-1" strike="noStrike">
              <a:solidFill>
                <a:srgbClr val="000000"/>
              </a:solidFill>
              <a:latin typeface="Arial"/>
            </a:endParaRPr>
          </a:p>
        </p:txBody>
      </p:sp>
      <p:sp>
        <p:nvSpPr>
          <p:cNvPr id="496" name="Oval 9"/>
          <p:cNvSpPr/>
          <p:nvPr/>
        </p:nvSpPr>
        <p:spPr>
          <a:xfrm>
            <a:off x="1371600" y="4343400"/>
            <a:ext cx="762012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10"/>
          <p:cNvSpPr/>
          <p:nvPr/>
        </p:nvSpPr>
        <p:spPr>
          <a:xfrm>
            <a:off x="4572000" y="23623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typically play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Oval 2"/>
          <p:cNvSpPr/>
          <p:nvPr/>
        </p:nvSpPr>
        <p:spPr>
          <a:xfrm>
            <a:off x="5867280" y="5181480"/>
            <a:ext cx="266724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have educational reforms failed?</a:t>
            </a:r>
            <a:endParaRPr b="0" lang="en-US" sz="4400" spc="-1" strike="noStrike">
              <a:solidFill>
                <a:srgbClr val="000000"/>
              </a:solidFill>
              <a:latin typeface="Arial"/>
            </a:endParaRPr>
          </a:p>
        </p:txBody>
      </p:sp>
      <p:sp>
        <p:nvSpPr>
          <p:cNvPr id="500" name="Oval 4"/>
          <p:cNvSpPr/>
          <p:nvPr/>
        </p:nvSpPr>
        <p:spPr>
          <a:xfrm>
            <a:off x="2590920" y="510552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rrent Reality</a:t>
            </a:r>
            <a:endParaRPr b="0" lang="en-US" sz="2400" spc="-1" strike="noStrike">
              <a:solidFill>
                <a:srgbClr val="000000"/>
              </a:solidFill>
              <a:latin typeface="Arial"/>
            </a:endParaRPr>
          </a:p>
        </p:txBody>
      </p:sp>
      <p:sp>
        <p:nvSpPr>
          <p:cNvPr id="501" name="AutoShape 5"/>
          <p:cNvSpPr/>
          <p:nvPr/>
        </p:nvSpPr>
        <p:spPr>
          <a:xfrm>
            <a:off x="4724280" y="47242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6"/>
          <p:cNvSpPr/>
          <p:nvPr/>
        </p:nvSpPr>
        <p:spPr>
          <a:xfrm>
            <a:off x="5562720" y="533412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03" name="AutoShape 7"/>
          <p:cNvSpPr/>
          <p:nvPr/>
        </p:nvSpPr>
        <p:spPr>
          <a:xfrm rot="10784400">
            <a:off x="4495680" y="586692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3429000" y="3048120"/>
            <a:ext cx="762120" cy="1981080"/>
          </a:xfrm>
          <a:prstGeom prst="upDownArrow">
            <a:avLst>
              <a:gd name="adj1" fmla="val 50000"/>
              <a:gd name="adj2" fmla="val 517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9"/>
          <p:cNvSpPr/>
          <p:nvPr/>
        </p:nvSpPr>
        <p:spPr>
          <a:xfrm>
            <a:off x="2590920" y="205740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ared Vision</a:t>
            </a:r>
            <a:endParaRPr b="0" lang="en-US" sz="2400" spc="-1" strike="noStrike">
              <a:solidFill>
                <a:srgbClr val="000000"/>
              </a:solidFill>
              <a:latin typeface="Arial"/>
            </a:endParaRPr>
          </a:p>
        </p:txBody>
      </p:sp>
      <p:sp>
        <p:nvSpPr>
          <p:cNvPr id="506" name="Oval 10"/>
          <p:cNvSpPr/>
          <p:nvPr/>
        </p:nvSpPr>
        <p:spPr>
          <a:xfrm>
            <a:off x="5867280" y="2133720"/>
            <a:ext cx="266724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07" name="AutoShape 11"/>
          <p:cNvSpPr/>
          <p:nvPr/>
        </p:nvSpPr>
        <p:spPr>
          <a:xfrm>
            <a:off x="4648320" y="1676520"/>
            <a:ext cx="2361960" cy="457200"/>
          </a:xfrm>
          <a:custGeom>
            <a:avLst/>
            <a:gdLst>
              <a:gd name="textAreaLeft" fmla="*/ 413280 w 2361960"/>
              <a:gd name="textAreaRight" fmla="*/ 1712520 w 23619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12"/>
          <p:cNvSpPr/>
          <p:nvPr/>
        </p:nvSpPr>
        <p:spPr>
          <a:xfrm rot="10813200">
            <a:off x="4495680" y="28954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3"/>
          <p:cNvSpPr/>
          <p:nvPr/>
        </p:nvSpPr>
        <p:spPr>
          <a:xfrm>
            <a:off x="457200" y="4648320"/>
            <a:ext cx="281952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otional Tension</a:t>
            </a:r>
            <a:endParaRPr b="0" lang="en-US" sz="2400" spc="-1" strike="noStrike">
              <a:solidFill>
                <a:srgbClr val="000000"/>
              </a:solidFill>
              <a:latin typeface="Arial"/>
            </a:endParaRPr>
          </a:p>
        </p:txBody>
      </p:sp>
      <p:sp>
        <p:nvSpPr>
          <p:cNvPr id="510" name="Oval 14"/>
          <p:cNvSpPr/>
          <p:nvPr/>
        </p:nvSpPr>
        <p:spPr>
          <a:xfrm>
            <a:off x="1371600" y="4343400"/>
            <a:ext cx="762012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5"/>
          <p:cNvSpPr/>
          <p:nvPr/>
        </p:nvSpPr>
        <p:spPr>
          <a:xfrm>
            <a:off x="228600" y="5943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typically play here</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Oval 2"/>
          <p:cNvSpPr/>
          <p:nvPr/>
        </p:nvSpPr>
        <p:spPr>
          <a:xfrm>
            <a:off x="5867280" y="5181480"/>
            <a:ext cx="266724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educational reforms succeed?</a:t>
            </a:r>
            <a:endParaRPr b="0" lang="en-US" sz="4400" spc="-1" strike="noStrike">
              <a:solidFill>
                <a:srgbClr val="000000"/>
              </a:solidFill>
              <a:latin typeface="Arial"/>
            </a:endParaRPr>
          </a:p>
        </p:txBody>
      </p:sp>
      <p:sp>
        <p:nvSpPr>
          <p:cNvPr id="514" name="Oval 4"/>
          <p:cNvSpPr/>
          <p:nvPr/>
        </p:nvSpPr>
        <p:spPr>
          <a:xfrm>
            <a:off x="2590920" y="510552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rrent Reality</a:t>
            </a:r>
            <a:endParaRPr b="0" lang="en-US" sz="2400" spc="-1" strike="noStrike">
              <a:solidFill>
                <a:srgbClr val="000000"/>
              </a:solidFill>
              <a:latin typeface="Arial"/>
            </a:endParaRPr>
          </a:p>
        </p:txBody>
      </p:sp>
      <p:sp>
        <p:nvSpPr>
          <p:cNvPr id="515" name="AutoShape 5"/>
          <p:cNvSpPr/>
          <p:nvPr/>
        </p:nvSpPr>
        <p:spPr>
          <a:xfrm>
            <a:off x="4724280" y="47242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6"/>
          <p:cNvSpPr/>
          <p:nvPr/>
        </p:nvSpPr>
        <p:spPr>
          <a:xfrm>
            <a:off x="5562720" y="533412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17" name="AutoShape 7"/>
          <p:cNvSpPr/>
          <p:nvPr/>
        </p:nvSpPr>
        <p:spPr>
          <a:xfrm rot="10784400">
            <a:off x="4495680" y="586692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8"/>
          <p:cNvSpPr/>
          <p:nvPr/>
        </p:nvSpPr>
        <p:spPr>
          <a:xfrm>
            <a:off x="3429000" y="3048120"/>
            <a:ext cx="762120" cy="1981080"/>
          </a:xfrm>
          <a:prstGeom prst="upDownArrow">
            <a:avLst>
              <a:gd name="adj1" fmla="val 50000"/>
              <a:gd name="adj2" fmla="val 517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9"/>
          <p:cNvSpPr/>
          <p:nvPr/>
        </p:nvSpPr>
        <p:spPr>
          <a:xfrm>
            <a:off x="2590920" y="205740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ared Vision</a:t>
            </a:r>
            <a:endParaRPr b="0" lang="en-US" sz="2400" spc="-1" strike="noStrike">
              <a:solidFill>
                <a:srgbClr val="000000"/>
              </a:solidFill>
              <a:latin typeface="Arial"/>
            </a:endParaRPr>
          </a:p>
        </p:txBody>
      </p:sp>
      <p:sp>
        <p:nvSpPr>
          <p:cNvPr id="520" name="Oval 10"/>
          <p:cNvSpPr/>
          <p:nvPr/>
        </p:nvSpPr>
        <p:spPr>
          <a:xfrm>
            <a:off x="5943600" y="2133720"/>
            <a:ext cx="266688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21" name="AutoShape 11"/>
          <p:cNvSpPr/>
          <p:nvPr/>
        </p:nvSpPr>
        <p:spPr>
          <a:xfrm>
            <a:off x="4648320" y="1676520"/>
            <a:ext cx="2361960" cy="457200"/>
          </a:xfrm>
          <a:custGeom>
            <a:avLst/>
            <a:gdLst>
              <a:gd name="textAreaLeft" fmla="*/ 413280 w 2361960"/>
              <a:gd name="textAreaRight" fmla="*/ 1712520 w 23619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12"/>
          <p:cNvSpPr/>
          <p:nvPr/>
        </p:nvSpPr>
        <p:spPr>
          <a:xfrm rot="10813200">
            <a:off x="4495680" y="28954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3"/>
          <p:cNvSpPr/>
          <p:nvPr/>
        </p:nvSpPr>
        <p:spPr>
          <a:xfrm>
            <a:off x="457200" y="2971800"/>
            <a:ext cx="281952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ve Tension</a:t>
            </a:r>
            <a:endParaRPr b="0" lang="en-US" sz="2400" spc="-1" strike="noStrike">
              <a:solidFill>
                <a:srgbClr val="000000"/>
              </a:solidFill>
              <a:latin typeface="Arial"/>
            </a:endParaRPr>
          </a:p>
        </p:txBody>
      </p:sp>
      <p:sp>
        <p:nvSpPr>
          <p:cNvPr id="524" name="Oval 14"/>
          <p:cNvSpPr/>
          <p:nvPr/>
        </p:nvSpPr>
        <p:spPr>
          <a:xfrm>
            <a:off x="1371600" y="1219320"/>
            <a:ext cx="7543800" cy="243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5"/>
          <p:cNvSpPr/>
          <p:nvPr/>
        </p:nvSpPr>
        <p:spPr>
          <a:xfrm>
            <a:off x="5638680" y="3581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should play here</a:t>
            </a:r>
            <a:endParaRPr b="0" lang="en-US" sz="2400" spc="-1" strike="noStrike">
              <a:solidFill>
                <a:srgbClr val="000000"/>
              </a:solidFill>
              <a:latin typeface="Arial"/>
            </a:endParaRPr>
          </a:p>
        </p:txBody>
      </p:sp>
      <p:sp>
        <p:nvSpPr>
          <p:cNvPr id="526" name="Text Box 16"/>
          <p:cNvSpPr/>
          <p:nvPr/>
        </p:nvSpPr>
        <p:spPr>
          <a:xfrm>
            <a:off x="5410080" y="52578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t>
            </a:r>
            <a:endParaRPr b="0" lang="en-US" sz="2400" spc="-1" strike="noStrike">
              <a:solidFill>
                <a:srgbClr val="000000"/>
              </a:solidFill>
              <a:latin typeface="Arial"/>
            </a:endParaRPr>
          </a:p>
        </p:txBody>
      </p:sp>
      <p:sp>
        <p:nvSpPr>
          <p:cNvPr id="527" name="Text Box 17"/>
          <p:cNvSpPr/>
          <p:nvPr/>
        </p:nvSpPr>
        <p:spPr>
          <a:xfrm>
            <a:off x="548640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flection and Generation</a:t>
            </a:r>
            <a:endParaRPr b="0" lang="en-US" sz="5000" spc="-1" strike="noStrike">
              <a:solidFill>
                <a:srgbClr val="000000"/>
              </a:solidFill>
              <a:latin typeface="Arial"/>
            </a:endParaRPr>
          </a:p>
        </p:txBody>
      </p:sp>
      <p:sp>
        <p:nvSpPr>
          <p:cNvPr id="52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New Ide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28240"/>
            <a:ext cx="77724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l learning processes are a continuous process of thinking and reflection.” – John Dewey</a:t>
            </a:r>
            <a:endParaRPr b="0" lang="en-US" sz="3600" spc="-1" strike="noStrike">
              <a:solidFill>
                <a:srgbClr val="000000"/>
              </a:solidFill>
              <a:latin typeface="Arial"/>
            </a:endParaRPr>
          </a:p>
        </p:txBody>
      </p:sp>
      <p:graphicFrame>
        <p:nvGraphicFramePr>
          <p:cNvPr id="531" name="Object 0"/>
          <p:cNvGraphicFramePr/>
          <p:nvPr/>
        </p:nvGraphicFramePr>
        <p:xfrm>
          <a:off x="952560" y="1905120"/>
          <a:ext cx="7283520" cy="4743360"/>
        </p:xfrm>
        <a:graphic>
          <a:graphicData uri="http://schemas.openxmlformats.org/presentationml/2006/ole">
            <p:oleObj r:id="rId1" spid="">
              <p:embed/>
              <p:pic>
                <p:nvPicPr>
                  <p:cNvPr id="532" name="Object 0" descr=""/>
                  <p:cNvPicPr/>
                  <p:nvPr/>
                </p:nvPicPr>
                <p:blipFill>
                  <a:blip r:embed="rId2"/>
                  <a:stretch/>
                </p:blipFill>
                <p:spPr>
                  <a:xfrm>
                    <a:off x="952560" y="1905120"/>
                    <a:ext cx="728352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Loop Learning</a:t>
            </a:r>
            <a:endParaRPr b="0" lang="en-US" sz="4400" spc="-1" strike="noStrike">
              <a:solidFill>
                <a:srgbClr val="000000"/>
              </a:solidFill>
              <a:latin typeface="Arial"/>
            </a:endParaRPr>
          </a:p>
        </p:txBody>
      </p:sp>
      <p:sp>
        <p:nvSpPr>
          <p:cNvPr id="534" name="Text Box 3"/>
          <p:cNvSpPr/>
          <p:nvPr/>
        </p:nvSpPr>
        <p:spPr>
          <a:xfrm>
            <a:off x="2514600" y="649116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gyris and Schon (1978)</a:t>
            </a:r>
            <a:endParaRPr b="0" lang="en-US" sz="1800" spc="-1" strike="noStrike">
              <a:solidFill>
                <a:srgbClr val="000000"/>
              </a:solidFill>
              <a:latin typeface="Arial"/>
            </a:endParaRPr>
          </a:p>
        </p:txBody>
      </p:sp>
      <p:sp>
        <p:nvSpPr>
          <p:cNvPr id="535" name="Text Box 4"/>
          <p:cNvSpPr/>
          <p:nvPr/>
        </p:nvSpPr>
        <p:spPr>
          <a:xfrm>
            <a:off x="1523880" y="1889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serving</a:t>
            </a:r>
            <a:endParaRPr b="0" lang="en-US" sz="2000" spc="-1" strike="noStrike">
              <a:solidFill>
                <a:srgbClr val="000000"/>
              </a:solidFill>
              <a:latin typeface="Arial"/>
            </a:endParaRPr>
          </a:p>
        </p:txBody>
      </p:sp>
      <p:sp>
        <p:nvSpPr>
          <p:cNvPr id="536" name="Text Box 5"/>
          <p:cNvSpPr/>
          <p:nvPr/>
        </p:nvSpPr>
        <p:spPr>
          <a:xfrm>
            <a:off x="1371600" y="464832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ding</a:t>
            </a:r>
            <a:endParaRPr b="0" lang="en-US" sz="2000" spc="-1" strike="noStrike">
              <a:solidFill>
                <a:srgbClr val="000000"/>
              </a:solidFill>
              <a:latin typeface="Arial"/>
            </a:endParaRPr>
          </a:p>
        </p:txBody>
      </p:sp>
      <p:sp>
        <p:nvSpPr>
          <p:cNvPr id="537" name="Text Box 6"/>
          <p:cNvSpPr/>
          <p:nvPr/>
        </p:nvSpPr>
        <p:spPr>
          <a:xfrm>
            <a:off x="-228600" y="327672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oing</a:t>
            </a:r>
            <a:endParaRPr b="0" lang="en-US" sz="2000" spc="-1" strike="noStrike">
              <a:solidFill>
                <a:srgbClr val="000000"/>
              </a:solidFill>
              <a:latin typeface="Arial"/>
            </a:endParaRPr>
          </a:p>
        </p:txBody>
      </p:sp>
      <p:sp>
        <p:nvSpPr>
          <p:cNvPr id="538" name="Text Box 7"/>
          <p:cNvSpPr/>
          <p:nvPr/>
        </p:nvSpPr>
        <p:spPr>
          <a:xfrm>
            <a:off x="3429000" y="320040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Reflecting</a:t>
            </a:r>
            <a:endParaRPr b="0" lang="en-US" sz="2800" spc="-1" strike="noStrike">
              <a:solidFill>
                <a:srgbClr val="000000"/>
              </a:solidFill>
              <a:latin typeface="Arial"/>
            </a:endParaRPr>
          </a:p>
        </p:txBody>
      </p:sp>
      <p:sp>
        <p:nvSpPr>
          <p:cNvPr id="539" name="Text Box 8"/>
          <p:cNvSpPr/>
          <p:nvPr/>
        </p:nvSpPr>
        <p:spPr>
          <a:xfrm>
            <a:off x="5791320" y="1812960"/>
            <a:ext cx="1676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raming</a:t>
            </a:r>
            <a:endParaRPr b="0" lang="en-US" sz="2000" spc="-1" strike="noStrike">
              <a:solidFill>
                <a:srgbClr val="000000"/>
              </a:solidFill>
              <a:latin typeface="Arial"/>
            </a:endParaRPr>
          </a:p>
        </p:txBody>
      </p:sp>
      <p:sp>
        <p:nvSpPr>
          <p:cNvPr id="540" name="Text Box 9"/>
          <p:cNvSpPr/>
          <p:nvPr/>
        </p:nvSpPr>
        <p:spPr>
          <a:xfrm>
            <a:off x="7086600" y="327672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nnecting</a:t>
            </a:r>
            <a:endParaRPr b="0" lang="en-US" sz="2000" spc="-1" strike="noStrike">
              <a:solidFill>
                <a:srgbClr val="000000"/>
              </a:solidFill>
              <a:latin typeface="Arial"/>
            </a:endParaRPr>
          </a:p>
        </p:txBody>
      </p:sp>
      <p:sp>
        <p:nvSpPr>
          <p:cNvPr id="541" name="Text Box 10"/>
          <p:cNvSpPr/>
          <p:nvPr/>
        </p:nvSpPr>
        <p:spPr>
          <a:xfrm>
            <a:off x="5715000" y="46324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considering</a:t>
            </a:r>
            <a:endParaRPr b="0" lang="en-US" sz="1800" spc="-1" strike="noStrike">
              <a:solidFill>
                <a:srgbClr val="000000"/>
              </a:solidFill>
              <a:latin typeface="Arial"/>
            </a:endParaRPr>
          </a:p>
        </p:txBody>
      </p:sp>
      <p:sp>
        <p:nvSpPr>
          <p:cNvPr id="542" name="AutoShape 11"/>
          <p:cNvSpPr/>
          <p:nvPr/>
        </p:nvSpPr>
        <p:spPr>
          <a:xfrm rot="76200">
            <a:off x="304560" y="167652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AutoShape 12"/>
          <p:cNvSpPr/>
          <p:nvPr/>
        </p:nvSpPr>
        <p:spPr>
          <a:xfrm rot="10851000">
            <a:off x="2895120" y="3820320"/>
            <a:ext cx="1295640" cy="1360440"/>
          </a:xfrm>
          <a:custGeom>
            <a:avLst/>
            <a:gdLst>
              <a:gd name="textAreaLeft" fmla="*/ 745560 w 1295640"/>
              <a:gd name="textAreaRight" fmla="*/ 1093320 w 129564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13"/>
          <p:cNvSpPr/>
          <p:nvPr/>
        </p:nvSpPr>
        <p:spPr>
          <a:xfrm rot="5476200">
            <a:off x="3156120" y="179604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AutoShape 14"/>
          <p:cNvSpPr/>
          <p:nvPr/>
        </p:nvSpPr>
        <p:spPr>
          <a:xfrm rot="16255200">
            <a:off x="108720" y="370116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AutoShape 15"/>
          <p:cNvSpPr/>
          <p:nvPr/>
        </p:nvSpPr>
        <p:spPr>
          <a:xfrm flipH="1" rot="10810200">
            <a:off x="4572000" y="382068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AutoShape 16"/>
          <p:cNvSpPr/>
          <p:nvPr/>
        </p:nvSpPr>
        <p:spPr>
          <a:xfrm flipH="1" rot="5401800">
            <a:off x="7651800" y="370116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AutoShape 17"/>
          <p:cNvSpPr/>
          <p:nvPr/>
        </p:nvSpPr>
        <p:spPr>
          <a:xfrm flipH="1" rot="16193400">
            <a:off x="4527000" y="179604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AutoShape 18"/>
          <p:cNvSpPr/>
          <p:nvPr/>
        </p:nvSpPr>
        <p:spPr>
          <a:xfrm flipH="1" rot="15600">
            <a:off x="7467120" y="1687680"/>
            <a:ext cx="1295640" cy="1360440"/>
          </a:xfrm>
          <a:custGeom>
            <a:avLst/>
            <a:gdLst>
              <a:gd name="textAreaLeft" fmla="*/ 745200 w 1295640"/>
              <a:gd name="textAreaRight" fmla="*/ 1092960 w 129564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Text Box 19"/>
          <p:cNvSpPr/>
          <p:nvPr/>
        </p:nvSpPr>
        <p:spPr>
          <a:xfrm>
            <a:off x="609480" y="5181480"/>
            <a:ext cx="335304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ngle Loop Reflection</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on</a:t>
            </a:r>
            <a:endParaRPr b="0" lang="en-US" sz="1800" spc="-1" strike="noStrike">
              <a:solidFill>
                <a:srgbClr val="000000"/>
              </a:solidFill>
              <a:latin typeface="Arial"/>
            </a:endParaRPr>
          </a:p>
        </p:txBody>
      </p:sp>
      <p:sp>
        <p:nvSpPr>
          <p:cNvPr id="551" name="Text Box 20"/>
          <p:cNvSpPr/>
          <p:nvPr/>
        </p:nvSpPr>
        <p:spPr>
          <a:xfrm>
            <a:off x="4876920" y="5181480"/>
            <a:ext cx="335268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uble Loop Reflection</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l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ialogue</a:t>
            </a:r>
            <a:endParaRPr b="0" lang="en-US" sz="5000" spc="-1" strike="noStrike">
              <a:solidFill>
                <a:srgbClr val="000000"/>
              </a:solidFill>
              <a:latin typeface="Arial"/>
            </a:endParaRPr>
          </a:p>
        </p:txBody>
      </p:sp>
      <p:sp>
        <p:nvSpPr>
          <p:cNvPr id="553"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very, very short course on how and where to begin</a:t>
            </a:r>
            <a:endParaRPr b="0" lang="en-US" sz="3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533520" y="22860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ules for a Learning Conversation</a:t>
            </a:r>
            <a:endParaRPr b="0" lang="en-US" sz="3200" spc="-1" strike="noStrike">
              <a:solidFill>
                <a:srgbClr val="000000"/>
              </a:solidFill>
              <a:latin typeface="Arial"/>
            </a:endParaRPr>
          </a:p>
        </p:txBody>
      </p:sp>
      <p:sp>
        <p:nvSpPr>
          <p:cNvPr id="555" name="Rectangle 3"/>
          <p:cNvSpPr/>
          <p:nvPr/>
        </p:nvSpPr>
        <p:spPr>
          <a:xfrm>
            <a:off x="457200" y="1066680"/>
            <a:ext cx="8534520" cy="556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peak from the Heart</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Listen carefully to yourself and oth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Be aware of your own Mental Mod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 space for different opinion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uspend certainty (a mind, like a parachute, only works while open). Stay in inquiry; limit advocacy</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LOW DOWN the inquiry.  Sometimes you need to go slow to go fast</a:t>
            </a:r>
            <a:endParaRPr b="0" lang="en-US" sz="2800" spc="-1" strike="noStrike">
              <a:solidFill>
                <a:srgbClr val="000000"/>
              </a:solidFill>
              <a:latin typeface="Arial"/>
            </a:endParaRPr>
          </a:p>
        </p:txBody>
      </p:sp>
      <p:sp>
        <p:nvSpPr>
          <p:cNvPr id="556" name="AutoShape 4"/>
          <p:cNvSpPr/>
          <p:nvPr/>
        </p:nvSpPr>
        <p:spPr>
          <a:xfrm>
            <a:off x="533520" y="3124080"/>
            <a:ext cx="457200" cy="838440"/>
          </a:xfrm>
          <a:custGeom>
            <a:avLst/>
            <a:gdLst>
              <a:gd name="textAreaLeft" fmla="*/ 292320 w 457200"/>
              <a:gd name="textAreaRight" fmla="*/ 457560 w 4572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8509"/>
                </a:lnTo>
                <a:cubicBezTo>
                  <a:pt x="10800" y="9409"/>
                  <a:pt x="5400" y="10309"/>
                  <a:pt x="0" y="10309"/>
                </a:cubicBezTo>
                <a:cubicBezTo>
                  <a:pt x="5400" y="10309"/>
                  <a:pt x="10800" y="11209"/>
                  <a:pt x="10800" y="12109"/>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ful Discussion and Dialogue</a:t>
            </a:r>
            <a:endParaRPr b="0" lang="en-US" sz="4400" spc="-1" strike="noStrike">
              <a:solidFill>
                <a:srgbClr val="000000"/>
              </a:solidFill>
              <a:latin typeface="Arial"/>
            </a:endParaRPr>
          </a:p>
        </p:txBody>
      </p:sp>
      <p:sp>
        <p:nvSpPr>
          <p:cNvPr id="558" name="PlaceHolder 2"/>
          <p:cNvSpPr>
            <a:spLocks noGrp="1"/>
          </p:cNvSpPr>
          <p:nvPr>
            <p:ph/>
          </p:nvPr>
        </p:nvSpPr>
        <p:spPr>
          <a:xfrm>
            <a:off x="838080" y="1676160"/>
            <a:ext cx="7772400" cy="46479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acs (1999) described our typical conversations as a process of “loading” and “reloading.”  Very little listening occurs. A friend once told him, “People don’t listen.  They reloa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ful discussion and Dialogue require discipline, practice and, at least at the outset, a coach or facilitator to foster a deep, communicative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s between Skillful Discussion and Dialogue</a:t>
            </a:r>
            <a:endParaRPr b="0" lang="en-US" sz="3600" spc="-1" strike="noStrike">
              <a:solidFill>
                <a:srgbClr val="000000"/>
              </a:solidFill>
              <a:latin typeface="Arial"/>
            </a:endParaRPr>
          </a:p>
        </p:txBody>
      </p:sp>
      <p:sp>
        <p:nvSpPr>
          <p:cNvPr id="560" name="PlaceHolder 2"/>
          <p:cNvSpPr>
            <a:spLocks noGrp="1"/>
          </p:cNvSpPr>
          <p:nvPr>
            <p:ph/>
          </p:nvPr>
        </p:nvSpPr>
        <p:spPr>
          <a:xfrm>
            <a:off x="838080" y="1752120"/>
            <a:ext cx="3810240" cy="4953240"/>
          </a:xfrm>
          <a:prstGeom prst="rect">
            <a:avLst/>
          </a:prstGeom>
          <a:noFill/>
          <a:ln w="0">
            <a:noFill/>
          </a:ln>
        </p:spPr>
        <p:txBody>
          <a:bodyPr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is about making a decision</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closure and completion</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cide” means “to resolve difficulties by cutting through them.”</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ots literally mean to “murder the alternative</a:t>
            </a:r>
            <a:endParaRPr b="0" lang="en-US" sz="2800" spc="-1" strike="noStrike">
              <a:solidFill>
                <a:srgbClr val="000000"/>
              </a:solidFill>
              <a:latin typeface="Arial"/>
            </a:endParaRPr>
          </a:p>
        </p:txBody>
      </p:sp>
      <p:sp>
        <p:nvSpPr>
          <p:cNvPr id="561" name="PlaceHolder 3"/>
          <p:cNvSpPr>
            <a:spLocks noGrp="1"/>
          </p:cNvSpPr>
          <p:nvPr>
            <p:ph/>
          </p:nvPr>
        </p:nvSpPr>
        <p:spPr>
          <a:xfrm>
            <a:off x="4800240" y="1752480"/>
            <a:ext cx="3809880" cy="4648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logue opens possibilities and to see new op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kes insigh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of reordering our knowledge, particularly or AB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ots literally mean “flow of meaning</a:t>
            </a:r>
            <a:endParaRPr b="0" lang="en-US" sz="2800" spc="-1" strike="noStrike">
              <a:solidFill>
                <a:srgbClr val="000000"/>
              </a:solidFill>
              <a:latin typeface="Arial"/>
            </a:endParaRPr>
          </a:p>
        </p:txBody>
      </p:sp>
      <p:sp>
        <p:nvSpPr>
          <p:cNvPr id="562" name="Text Box 5"/>
          <p:cNvSpPr/>
          <p:nvPr/>
        </p:nvSpPr>
        <p:spPr>
          <a:xfrm>
            <a:off x="685800" y="64771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sacs (1999), p.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457200"/>
            <a:ext cx="7515360" cy="71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31" name="PlaceHolder 2"/>
          <p:cNvSpPr>
            <a:spLocks noGrp="1"/>
          </p:cNvSpPr>
          <p:nvPr>
            <p:ph/>
          </p:nvPr>
        </p:nvSpPr>
        <p:spPr>
          <a:xfrm>
            <a:off x="304560" y="1599840"/>
            <a:ext cx="8839080" cy="4876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ook at any leader who’s made a big change.  The key is servanthood.  You can’t lead without making sacrifices.” – Randy Hopper, US Military Academ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people are too intimidated or too reluctant to help their leaders lead, their leaders will fail.” – Michael Use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you think I can run this place effectively all by myself, you’re nuts!” - RJH</a:t>
            </a:r>
            <a:endParaRPr b="0" lang="en-US" sz="3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ogue</a:t>
            </a:r>
            <a:endParaRPr b="0" lang="en-US" sz="4400" spc="-1" strike="noStrike">
              <a:solidFill>
                <a:srgbClr val="000000"/>
              </a:solidFill>
              <a:latin typeface="Arial"/>
            </a:endParaRPr>
          </a:p>
        </p:txBody>
      </p:sp>
      <p:sp>
        <p:nvSpPr>
          <p:cNvPr id="564" name="PlaceHolder 2"/>
          <p:cNvSpPr>
            <a:spLocks noGrp="1"/>
          </p:cNvSpPr>
          <p:nvPr>
            <p:ph/>
          </p:nvPr>
        </p:nvSpPr>
        <p:spPr>
          <a:xfrm>
            <a:off x="838080" y="1447920"/>
            <a:ext cx="7772400" cy="4114800"/>
          </a:xfrm>
          <a:prstGeom prst="rect">
            <a:avLst/>
          </a:prstGeom>
          <a:noFill/>
          <a:ln w="0">
            <a:noFill/>
          </a:ln>
        </p:spPr>
        <p:txBody>
          <a:bodyPr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process of </a:t>
            </a:r>
            <a:r>
              <a:rPr b="1" i="1" lang="en-US" sz="2800" spc="-1" strike="noStrike">
                <a:solidFill>
                  <a:srgbClr val="0000cc"/>
                </a:solidFill>
                <a:latin typeface="Arial"/>
              </a:rPr>
              <a:t>building</a:t>
            </a:r>
            <a:r>
              <a:rPr b="0" lang="en-US" sz="2800" spc="-1" strike="noStrike">
                <a:solidFill>
                  <a:srgbClr val="000000"/>
                </a:solidFill>
                <a:latin typeface="Arial"/>
              </a:rPr>
              <a:t> collective wisdom and deeper understanding of an issue, a situation, or a vision.</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and values all participants and their contribution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a few basic guidelines to maximize learning</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participants to notice what they are fe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ogue</a:t>
            </a:r>
            <a:endParaRPr b="0" lang="en-US" sz="4400" spc="-1" strike="noStrike">
              <a:solidFill>
                <a:srgbClr val="000000"/>
              </a:solidFill>
              <a:latin typeface="Arial"/>
            </a:endParaRPr>
          </a:p>
        </p:txBody>
      </p:sp>
      <p:sp>
        <p:nvSpPr>
          <p:cNvPr id="566" name="PlaceHolder 2"/>
          <p:cNvSpPr>
            <a:spLocks noGrp="1"/>
          </p:cNvSpPr>
          <p:nvPr>
            <p:ph/>
          </p:nvPr>
        </p:nvSpPr>
        <p:spPr>
          <a:xfrm>
            <a:off x="838080" y="1523880"/>
            <a:ext cx="7772400" cy="47246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process that focuses on inquiry, not advocac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ages the use of the phrases, “yes, but…”, “yes, I agree, but…” and “or”.  Encourages “…a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s wondering phrases like, “I wonder why you see things like that?” or “I wonder if you could help me understand what you are saying?” or “I wonder why you are feeling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Oval 2"/>
          <p:cNvSpPr/>
          <p:nvPr/>
        </p:nvSpPr>
        <p:spPr>
          <a:xfrm>
            <a:off x="3352680" y="1828800"/>
            <a:ext cx="5334120" cy="12193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3"/>
          <p:cNvSpPr/>
          <p:nvPr/>
        </p:nvSpPr>
        <p:spPr>
          <a:xfrm>
            <a:off x="3581280" y="3809880"/>
            <a:ext cx="4114800" cy="9907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4"/>
          <p:cNvSpPr/>
          <p:nvPr/>
        </p:nvSpPr>
        <p:spPr>
          <a:xfrm>
            <a:off x="4038480" y="5562720"/>
            <a:ext cx="4114800" cy="990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5"/>
          <p:cNvSpPr/>
          <p:nvPr/>
        </p:nvSpPr>
        <p:spPr>
          <a:xfrm>
            <a:off x="0" y="5715000"/>
            <a:ext cx="2590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6"/>
          <p:cNvSpPr/>
          <p:nvPr/>
        </p:nvSpPr>
        <p:spPr>
          <a:xfrm>
            <a:off x="76320" y="36720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versation</a:t>
            </a:r>
            <a:endParaRPr b="0" lang="en-US" sz="1800" spc="-1" strike="noStrike">
              <a:solidFill>
                <a:srgbClr val="000000"/>
              </a:solidFill>
              <a:latin typeface="Arial"/>
            </a:endParaRPr>
          </a:p>
        </p:txBody>
      </p:sp>
      <p:sp>
        <p:nvSpPr>
          <p:cNvPr id="572" name="Line 7"/>
          <p:cNvSpPr/>
          <p:nvPr/>
        </p:nvSpPr>
        <p:spPr>
          <a:xfrm>
            <a:off x="1828800" y="38862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Text Box 8"/>
          <p:cNvSpPr/>
          <p:nvPr/>
        </p:nvSpPr>
        <p:spPr>
          <a:xfrm>
            <a:off x="2209680" y="3672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liberation</a:t>
            </a:r>
            <a:endParaRPr b="0" lang="en-US" sz="1800" spc="-1" strike="noStrike">
              <a:solidFill>
                <a:srgbClr val="000000"/>
              </a:solidFill>
              <a:latin typeface="Arial"/>
            </a:endParaRPr>
          </a:p>
        </p:txBody>
      </p:sp>
      <p:sp>
        <p:nvSpPr>
          <p:cNvPr id="574" name="Line 9"/>
          <p:cNvSpPr/>
          <p:nvPr/>
        </p:nvSpPr>
        <p:spPr>
          <a:xfrm flipV="1">
            <a:off x="3283200" y="2549880"/>
            <a:ext cx="672480" cy="114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0"/>
          <p:cNvSpPr/>
          <p:nvPr/>
        </p:nvSpPr>
        <p:spPr>
          <a:xfrm>
            <a:off x="3249720" y="4032720"/>
            <a:ext cx="663480" cy="115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11"/>
          <p:cNvSpPr/>
          <p:nvPr/>
        </p:nvSpPr>
        <p:spPr>
          <a:xfrm>
            <a:off x="3505320" y="2209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Suspend</a:t>
            </a:r>
            <a:endParaRPr b="0" lang="en-US" sz="1800" spc="-1" strike="noStrike">
              <a:solidFill>
                <a:srgbClr val="000000"/>
              </a:solidFill>
              <a:latin typeface="Arial"/>
            </a:endParaRPr>
          </a:p>
        </p:txBody>
      </p:sp>
      <p:sp>
        <p:nvSpPr>
          <p:cNvPr id="577" name="Text Box 12"/>
          <p:cNvSpPr/>
          <p:nvPr/>
        </p:nvSpPr>
        <p:spPr>
          <a:xfrm>
            <a:off x="3505320" y="52578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end</a:t>
            </a:r>
            <a:endParaRPr b="0" lang="en-US" sz="1800" spc="-1" strike="noStrike">
              <a:solidFill>
                <a:srgbClr val="000000"/>
              </a:solidFill>
              <a:latin typeface="Arial"/>
            </a:endParaRPr>
          </a:p>
        </p:txBody>
      </p:sp>
      <p:sp>
        <p:nvSpPr>
          <p:cNvPr id="578" name="Line 13"/>
          <p:cNvSpPr/>
          <p:nvPr/>
        </p:nvSpPr>
        <p:spPr>
          <a:xfrm flipV="1">
            <a:off x="4267080" y="4571640"/>
            <a:ext cx="3049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4"/>
          <p:cNvSpPr/>
          <p:nvPr/>
        </p:nvSpPr>
        <p:spPr>
          <a:xfrm>
            <a:off x="4267080" y="5562720"/>
            <a:ext cx="3049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5"/>
          <p:cNvSpPr/>
          <p:nvPr/>
        </p:nvSpPr>
        <p:spPr>
          <a:xfrm>
            <a:off x="4038480" y="396252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Skillful Conversation</a:t>
            </a:r>
            <a:endParaRPr b="0" lang="en-US" sz="1800" spc="-1" strike="noStrike">
              <a:solidFill>
                <a:srgbClr val="000000"/>
              </a:solidFill>
              <a:latin typeface="Arial"/>
            </a:endParaRPr>
          </a:p>
        </p:txBody>
      </p:sp>
      <p:sp>
        <p:nvSpPr>
          <p:cNvPr id="581" name="Line 16"/>
          <p:cNvSpPr/>
          <p:nvPr/>
        </p:nvSpPr>
        <p:spPr>
          <a:xfrm>
            <a:off x="4572000" y="2362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17"/>
          <p:cNvSpPr/>
          <p:nvPr/>
        </p:nvSpPr>
        <p:spPr>
          <a:xfrm>
            <a:off x="5257800" y="21337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Reflective Dialogue</a:t>
            </a:r>
            <a:endParaRPr b="0" lang="en-US" sz="1800" spc="-1" strike="noStrike">
              <a:solidFill>
                <a:srgbClr val="000000"/>
              </a:solidFill>
              <a:latin typeface="Arial"/>
            </a:endParaRPr>
          </a:p>
        </p:txBody>
      </p:sp>
      <p:sp>
        <p:nvSpPr>
          <p:cNvPr id="583" name="Line 18"/>
          <p:cNvSpPr/>
          <p:nvPr/>
        </p:nvSpPr>
        <p:spPr>
          <a:xfrm>
            <a:off x="6553080" y="23623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9"/>
          <p:cNvSpPr/>
          <p:nvPr/>
        </p:nvSpPr>
        <p:spPr>
          <a:xfrm>
            <a:off x="7162920" y="21337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Generative Dialogue</a:t>
            </a:r>
            <a:endParaRPr b="0" lang="en-US" sz="1800" spc="-1" strike="noStrike">
              <a:solidFill>
                <a:srgbClr val="000000"/>
              </a:solidFill>
              <a:latin typeface="Arial"/>
            </a:endParaRPr>
          </a:p>
        </p:txBody>
      </p:sp>
      <p:sp>
        <p:nvSpPr>
          <p:cNvPr id="585" name="Line 20"/>
          <p:cNvSpPr/>
          <p:nvPr/>
        </p:nvSpPr>
        <p:spPr>
          <a:xfrm>
            <a:off x="5638680" y="42670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Text Box 21"/>
          <p:cNvSpPr/>
          <p:nvPr/>
        </p:nvSpPr>
        <p:spPr>
          <a:xfrm>
            <a:off x="6400800" y="40528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Dialectic</a:t>
            </a:r>
            <a:endParaRPr b="0" lang="en-US" sz="1800" spc="-1" strike="noStrike">
              <a:solidFill>
                <a:srgbClr val="000000"/>
              </a:solidFill>
              <a:latin typeface="Arial"/>
            </a:endParaRPr>
          </a:p>
        </p:txBody>
      </p:sp>
      <p:sp>
        <p:nvSpPr>
          <p:cNvPr id="587" name="Text Box 22"/>
          <p:cNvSpPr/>
          <p:nvPr/>
        </p:nvSpPr>
        <p:spPr>
          <a:xfrm>
            <a:off x="4572000" y="5791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Controlled Discussion</a:t>
            </a:r>
            <a:endParaRPr b="0" lang="en-US" sz="1800" spc="-1" strike="noStrike">
              <a:solidFill>
                <a:srgbClr val="000000"/>
              </a:solidFill>
              <a:latin typeface="Arial"/>
            </a:endParaRPr>
          </a:p>
        </p:txBody>
      </p:sp>
      <p:sp>
        <p:nvSpPr>
          <p:cNvPr id="588" name="Line 23"/>
          <p:cNvSpPr/>
          <p:nvPr/>
        </p:nvSpPr>
        <p:spPr>
          <a:xfrm>
            <a:off x="6019920" y="60958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 Box 24"/>
          <p:cNvSpPr/>
          <p:nvPr/>
        </p:nvSpPr>
        <p:spPr>
          <a:xfrm>
            <a:off x="6705720" y="5867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Debate</a:t>
            </a:r>
            <a:endParaRPr b="0" lang="en-US" sz="1800" spc="-1" strike="noStrike">
              <a:solidFill>
                <a:srgbClr val="000000"/>
              </a:solidFill>
              <a:latin typeface="Arial"/>
            </a:endParaRPr>
          </a:p>
        </p:txBody>
      </p:sp>
      <p:sp>
        <p:nvSpPr>
          <p:cNvPr id="590" name="Text Box 25"/>
          <p:cNvSpPr/>
          <p:nvPr/>
        </p:nvSpPr>
        <p:spPr>
          <a:xfrm>
            <a:off x="609480" y="380880"/>
            <a:ext cx="746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ute to Dialogue</a:t>
            </a:r>
            <a:endParaRPr b="0" lang="en-US" sz="3600" spc="-1" strike="noStrike">
              <a:solidFill>
                <a:srgbClr val="000000"/>
              </a:solidFill>
              <a:latin typeface="Arial"/>
            </a:endParaRPr>
          </a:p>
        </p:txBody>
      </p:sp>
      <p:sp>
        <p:nvSpPr>
          <p:cNvPr id="591" name="Oval 26"/>
          <p:cNvSpPr/>
          <p:nvPr/>
        </p:nvSpPr>
        <p:spPr>
          <a:xfrm>
            <a:off x="4495680" y="5257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27"/>
          <p:cNvSpPr/>
          <p:nvPr/>
        </p:nvSpPr>
        <p:spPr>
          <a:xfrm>
            <a:off x="3505320" y="35053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28"/>
          <p:cNvSpPr/>
          <p:nvPr/>
        </p:nvSpPr>
        <p:spPr>
          <a:xfrm>
            <a:off x="152280" y="5867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29"/>
          <p:cNvSpPr/>
          <p:nvPr/>
        </p:nvSpPr>
        <p:spPr>
          <a:xfrm>
            <a:off x="457200" y="58053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int of Decision</a:t>
            </a:r>
            <a:endParaRPr b="0" lang="en-US" sz="1800" spc="-1" strike="noStrike">
              <a:solidFill>
                <a:srgbClr val="000000"/>
              </a:solidFill>
              <a:latin typeface="Arial"/>
            </a:endParaRPr>
          </a:p>
        </p:txBody>
      </p:sp>
      <p:sp>
        <p:nvSpPr>
          <p:cNvPr id="595" name="Text Box 30"/>
          <p:cNvSpPr/>
          <p:nvPr/>
        </p:nvSpPr>
        <p:spPr>
          <a:xfrm>
            <a:off x="0" y="6324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sacs (1999), p.41.</a:t>
            </a:r>
            <a:endParaRPr b="0" lang="en-US" sz="1800" spc="-1" strike="noStrike">
              <a:solidFill>
                <a:srgbClr val="000000"/>
              </a:solidFill>
              <a:latin typeface="Arial"/>
            </a:endParaRPr>
          </a:p>
        </p:txBody>
      </p:sp>
      <p:sp>
        <p:nvSpPr>
          <p:cNvPr id="596" name="Text Box 31"/>
          <p:cNvSpPr/>
          <p:nvPr/>
        </p:nvSpPr>
        <p:spPr>
          <a:xfrm>
            <a:off x="7543800" y="365760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tive Defensiveness</a:t>
            </a:r>
            <a:endParaRPr b="0" lang="en-US" sz="1600" spc="-1" strike="noStrike">
              <a:solidFill>
                <a:srgbClr val="000000"/>
              </a:solidFill>
              <a:latin typeface="Arial"/>
            </a:endParaRPr>
          </a:p>
        </p:txBody>
      </p:sp>
      <p:sp>
        <p:nvSpPr>
          <p:cNvPr id="597" name="Text Box 32"/>
          <p:cNvSpPr/>
          <p:nvPr/>
        </p:nvSpPr>
        <p:spPr>
          <a:xfrm>
            <a:off x="7543800" y="518148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productive Defensive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ive Conversations         </a:t>
            </a:r>
            <a:r>
              <a:rPr b="0" lang="en-US" sz="3600" spc="-1" strike="noStrike">
                <a:solidFill>
                  <a:srgbClr val="000000"/>
                </a:solidFill>
                <a:latin typeface="Arial"/>
              </a:rPr>
              <a:t>Unproductive vs. Productive</a:t>
            </a:r>
            <a:endParaRPr b="0" lang="en-US" sz="3600" spc="-1" strike="noStrike">
              <a:solidFill>
                <a:srgbClr val="000000"/>
              </a:solidFill>
              <a:latin typeface="Arial"/>
            </a:endParaRPr>
          </a:p>
        </p:txBody>
      </p:sp>
      <p:sp>
        <p:nvSpPr>
          <p:cNvPr id="599" name="PlaceHolder 2"/>
          <p:cNvSpPr>
            <a:spLocks noGrp="1"/>
          </p:cNvSpPr>
          <p:nvPr>
            <p:ph/>
          </p:nvPr>
        </p:nvSpPr>
        <p:spPr>
          <a:xfrm>
            <a:off x="974520" y="2045880"/>
            <a:ext cx="3670200" cy="3616200"/>
          </a:xfrm>
          <a:prstGeom prst="rect">
            <a:avLst/>
          </a:prstGeom>
          <a:noFill/>
          <a:ln w="0">
            <a:noFill/>
          </a:ln>
        </p:spPr>
        <p:txBody>
          <a:bodyPr anchor="t">
            <a:normAutofit fontScale="90000"/>
          </a:bodyPr>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end</a:t>
            </a: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rolled Discussion</a:t>
            </a:r>
            <a:endParaRPr b="0" lang="en-US" sz="28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dvocacy</a:t>
            </a:r>
            <a:endParaRPr b="0" lang="en-US" sz="24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eting</a:t>
            </a:r>
            <a:endParaRPr b="0" lang="en-US" sz="24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Verbal</a:t>
            </a:r>
            <a:endParaRPr b="0" lang="en-US" sz="24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bate</a:t>
            </a:r>
            <a:endParaRPr b="0" lang="en-US" sz="28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ve by beating down</a:t>
            </a:r>
            <a:endParaRPr b="0" lang="en-US" sz="2400" spc="-1" strike="noStrike">
              <a:solidFill>
                <a:srgbClr val="000000"/>
              </a:solidFill>
              <a:latin typeface="Arial"/>
            </a:endParaRPr>
          </a:p>
        </p:txBody>
      </p:sp>
      <p:sp>
        <p:nvSpPr>
          <p:cNvPr id="600" name="PlaceHolder 3"/>
          <p:cNvSpPr>
            <a:spLocks noGrp="1"/>
          </p:cNvSpPr>
          <p:nvPr>
            <p:ph/>
          </p:nvPr>
        </p:nvSpPr>
        <p:spPr>
          <a:xfrm>
            <a:off x="4800240" y="1752120"/>
            <a:ext cx="3809880" cy="49532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efe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killful Conversa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nalyti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ta drives inquir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asoning made explicit</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ialectic</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ension and synthesis of oppo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54936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ogue</a:t>
            </a:r>
            <a:endParaRPr b="0" lang="en-US" sz="4400" spc="-1" strike="noStrike">
              <a:solidFill>
                <a:srgbClr val="000000"/>
              </a:solidFill>
              <a:latin typeface="Arial"/>
            </a:endParaRPr>
          </a:p>
        </p:txBody>
      </p:sp>
      <p:sp>
        <p:nvSpPr>
          <p:cNvPr id="602" name="PlaceHolder 2"/>
          <p:cNvSpPr>
            <a:spLocks noGrp="1"/>
          </p:cNvSpPr>
          <p:nvPr>
            <p:ph/>
          </p:nvPr>
        </p:nvSpPr>
        <p:spPr>
          <a:xfrm>
            <a:off x="838080" y="1447560"/>
            <a:ext cx="7772400" cy="52578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s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without resistance; lose identity</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Dialogu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s underlying causes, rules and assump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s to deeper ques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s and/or reframes problem</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ve Dialogu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s unprecedented possibilities and new insigh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a collective “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54936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Stage for Dialogue</a:t>
            </a:r>
            <a:endParaRPr b="0" lang="en-US" sz="4400" spc="-1" strike="noStrike">
              <a:solidFill>
                <a:srgbClr val="000000"/>
              </a:solidFill>
              <a:latin typeface="Arial"/>
            </a:endParaRPr>
          </a:p>
        </p:txBody>
      </p:sp>
      <p:sp>
        <p:nvSpPr>
          <p:cNvPr id="604" name="PlaceHolder 2"/>
          <p:cNvSpPr>
            <a:spLocks noGrp="1"/>
          </p:cNvSpPr>
          <p:nvPr>
            <p:ph/>
          </p:nvPr>
        </p:nvSpPr>
        <p:spPr>
          <a:xfrm>
            <a:off x="838080" y="1752120"/>
            <a:ext cx="7772400" cy="4800600"/>
          </a:xfrm>
          <a:prstGeom prst="rect">
            <a:avLst/>
          </a:prstGeom>
          <a:noFill/>
          <a:ln w="0">
            <a:noFill/>
          </a:ln>
        </p:spPr>
        <p:txBody>
          <a:bodyPr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 Your Intentions</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gnize your own mental models</a:t>
            </a:r>
            <a:endParaRPr b="0" lang="en-US" sz="28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you willing to be challenged?</a:t>
            </a:r>
            <a:endParaRPr b="0" lang="en-US" sz="28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 is Everything</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the tone carefully…it will determine the flow of the conversation</a:t>
            </a:r>
            <a:endParaRPr b="0" lang="en-US" sz="28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 Each Person Differently</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brings their own lens and language </a:t>
            </a:r>
            <a:endParaRPr b="0" lang="en-US" sz="28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ect and try to acknowledge their individuality</a:t>
            </a:r>
            <a:endParaRPr b="0" lang="en-US" sz="2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6397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Stage for Dialogue</a:t>
            </a:r>
            <a:endParaRPr b="0" lang="en-US" sz="4400" spc="-1" strike="noStrike">
              <a:solidFill>
                <a:srgbClr val="000000"/>
              </a:solidFill>
              <a:latin typeface="Arial"/>
            </a:endParaRPr>
          </a:p>
        </p:txBody>
      </p:sp>
      <p:sp>
        <p:nvSpPr>
          <p:cNvPr id="606" name="PlaceHolder 2"/>
          <p:cNvSpPr>
            <a:spLocks noGrp="1"/>
          </p:cNvSpPr>
          <p:nvPr>
            <p:ph/>
          </p:nvPr>
        </p:nvSpPr>
        <p:spPr>
          <a:xfrm>
            <a:off x="838080" y="1676160"/>
            <a:ext cx="777240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he Conta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 stage using the guideli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participants to:</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ke the Idea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Dreaming Out Loud</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epen the listening</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It Safe For Opposition</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e People to Suspend</a:t>
            </a:r>
            <a:endParaRPr b="0" lang="en-US" sz="2400" spc="-1" strike="noStrike">
              <a:solidFill>
                <a:srgbClr val="000000"/>
              </a:solidFill>
              <a:latin typeface="Arial"/>
            </a:endParaRPr>
          </a:p>
        </p:txBody>
      </p:sp>
      <p:sp>
        <p:nvSpPr>
          <p:cNvPr id="607" name="Text Box 4"/>
          <p:cNvSpPr/>
          <p:nvPr/>
        </p:nvSpPr>
        <p:spPr>
          <a:xfrm>
            <a:off x="304920" y="6324480"/>
            <a:ext cx="624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aacs (1999), p.292-293</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vs. Yes Questions</a:t>
            </a:r>
            <a:endParaRPr b="0" lang="en-US" sz="4400" spc="-1" strike="noStrike">
              <a:solidFill>
                <a:srgbClr val="000000"/>
              </a:solidFill>
              <a:latin typeface="Arial"/>
            </a:endParaRPr>
          </a:p>
        </p:txBody>
      </p:sp>
      <p:sp>
        <p:nvSpPr>
          <p:cNvPr id="6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how” questions are typically asked first.  This prevents deeper inquiry because “how” questions connote a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understanding (Yes Q’s) must be understood prior to a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Yes” questions spread the responsibility to the group</a:t>
            </a:r>
            <a:endParaRPr b="0" lang="en-US" sz="3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
            </a:r>
            <a:r>
              <a:rPr b="0" lang="en-US" sz="4400" spc="-1" strike="noStrike">
                <a:solidFill>
                  <a:srgbClr val="000000"/>
                </a:solidFill>
                <a:latin typeface="Tahoma"/>
              </a:rPr>
              <a:t>How vs. Yes” Questions</a:t>
            </a:r>
            <a:endParaRPr b="0" lang="en-US" sz="4400" spc="-1" strike="noStrike">
              <a:solidFill>
                <a:srgbClr val="000000"/>
              </a:solidFill>
              <a:latin typeface="Arial"/>
            </a:endParaRPr>
          </a:p>
        </p:txBody>
      </p:sp>
      <p:sp>
        <p:nvSpPr>
          <p:cNvPr id="611" name="Rectangle 3"/>
          <p:cNvSpPr/>
          <p:nvPr/>
        </p:nvSpPr>
        <p:spPr>
          <a:xfrm>
            <a:off x="609480" y="1143000"/>
            <a:ext cx="381024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ow</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Orient Outward</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Ready Impulse</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ssumes ac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romotes responsibility onto other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ction taking</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Defensive – prevents deeper inquiry</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Focused</a:t>
            </a:r>
            <a:endParaRPr b="0" lang="en-US" sz="2400" spc="-1" strike="noStrike">
              <a:solidFill>
                <a:srgbClr val="000000"/>
              </a:solidFill>
              <a:latin typeface="Arial"/>
            </a:endParaRPr>
          </a:p>
        </p:txBody>
      </p:sp>
      <p:sp>
        <p:nvSpPr>
          <p:cNvPr id="612" name="Rectangle 4"/>
          <p:cNvSpPr/>
          <p:nvPr/>
        </p:nvSpPr>
        <p:spPr>
          <a:xfrm>
            <a:off x="4572000" y="1143000"/>
            <a:ext cx="380988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e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Orient Inward</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ersonal Reflec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Questions ac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Reveals ABA’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ersonally revealing</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Engages self</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Sets Prioritie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Expands possibilities</a:t>
            </a:r>
            <a:endParaRPr b="0" lang="en-US" sz="2400" spc="-1" strike="noStrike">
              <a:solidFill>
                <a:srgbClr val="000000"/>
              </a:solidFill>
              <a:latin typeface="Arial"/>
            </a:endParaRPr>
          </a:p>
        </p:txBody>
      </p:sp>
      <p:sp>
        <p:nvSpPr>
          <p:cNvPr id="613" name="Text Box 5"/>
          <p:cNvSpPr/>
          <p:nvPr/>
        </p:nvSpPr>
        <p:spPr>
          <a:xfrm>
            <a:off x="3809880" y="6400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d from Peter Bloch</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flections</a:t>
            </a:r>
            <a:endParaRPr b="0" lang="en-US" sz="5000" spc="-1" strike="noStrike">
              <a:solidFill>
                <a:srgbClr val="000000"/>
              </a:solidFill>
              <a:latin typeface="Arial"/>
            </a:endParaRPr>
          </a:p>
        </p:txBody>
      </p:sp>
      <p:sp>
        <p:nvSpPr>
          <p:cNvPr id="6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Personal Journe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1:11:30Z</dcterms:created>
  <dc:creator>Computer Services</dc:creator>
  <dc:description/>
  <dc:language>en-US</dc:language>
  <cp:lastModifiedBy>FSUTEAM</cp:lastModifiedBy>
  <cp:lastPrinted>2001-01-15T22:52:37Z</cp:lastPrinted>
  <dcterms:modified xsi:type="dcterms:W3CDTF">2011-10-04T14:49:35Z</dcterms:modified>
  <cp:revision>122</cp:revision>
  <dc:subject/>
  <dc:title>A Learning Organization</dc:title>
</cp:coreProperties>
</file>